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0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5.jpeg" ContentType="image/jpeg"/>
  <Override PartName="/ppt/media/image1.jpeg" ContentType="image/jpeg"/>
  <Override PartName="/ppt/media/image2.wmf" ContentType="image/x-wmf"/>
  <Override PartName="/ppt/media/image3.wmf" ContentType="image/x-wmf"/>
  <Override PartName="/ppt/media/image6.jpeg" ContentType="image/jpeg"/>
  <Override PartName="/ppt/media/image8.png" ContentType="image/png"/>
  <Override PartName="/ppt/media/image11.jpeg" ContentType="image/jpeg"/>
  <Override PartName="/ppt/media/image4.png" ContentType="image/png"/>
  <Override PartName="/ppt/media/image12.wmf" ContentType="image/x-wm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00A5-F699-48E1-814C-84F8575E3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2399-C19A-46F6-8307-189A5BE71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14E8-30C2-422A-842E-683206201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E048-588E-4547-9188-001ABFF76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0751-211F-4DED-8A02-CF9F86DF2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A89E-E1CF-411A-8293-BFEE38518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085F-AE74-4A4D-A8EE-2082C969D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253D-2822-4FEC-953B-6B2BB7B66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Ripe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posal suggests the Assignment Window (AW) available to new LIRs should automatically be raised from zero (0) to /21 (2,048 IPv4 addresses) six months after they receive their first allo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C8F6-E0FF-4845-801B-464640C87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3A7E-507A-41D0-9E3E-2E236DB6C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D097-E63C-4D9E-910B-76A47C212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C44F-BD83-478A-9F0B-39093C688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6896-2927-4B45-87CA-17797D483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D200-A112-460E-99CA-5BA439AE1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0ACA-7C57-4FFF-8137-ADDD39EC35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C35F-FD53-4790-A232-8D4E91552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DBBB-3E3C-4BAB-BF4F-0D5BD37E5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4A1E-5BCD-46F1-905B-BB8566034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3FEE-D306-45DE-81DB-5B505F8D4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228600"/>
            <a:ext cx="6477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228600"/>
            <a:ext cx="6477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5280" y="228600"/>
            <a:ext cx="6477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20484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Click to edit the outline text format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econd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Third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Four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Fif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ix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even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152280" y="228600"/>
            <a:ext cx="838080" cy="398880"/>
            <a:chOff x="152280" y="228600"/>
            <a:chExt cx="838080" cy="398880"/>
          </a:xfrm>
        </p:grpSpPr>
        <p:sp>
          <p:nvSpPr>
            <p:cNvPr id="3" name="Text Box 8"/>
            <p:cNvSpPr/>
            <p:nvPr/>
          </p:nvSpPr>
          <p:spPr>
            <a:xfrm>
              <a:off x="152280" y="2286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Arial Black"/>
                </a:rPr>
                <a:t>A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AutoShape 9"/>
            <p:cNvSpPr/>
            <p:nvPr/>
          </p:nvSpPr>
          <p:spPr>
            <a:xfrm>
              <a:off x="152280" y="228600"/>
              <a:ext cx="838080" cy="3934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icture 10" descr="NRO_3D_1"/>
          <p:cNvPicPr/>
          <p:nvPr/>
        </p:nvPicPr>
        <p:blipFill>
          <a:blip r:embed="rId2"/>
          <a:stretch/>
        </p:blipFill>
        <p:spPr>
          <a:xfrm>
            <a:off x="8031240" y="228600"/>
            <a:ext cx="96048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TextBox 15"/>
          <p:cNvSpPr/>
          <p:nvPr/>
        </p:nvSpPr>
        <p:spPr>
          <a:xfrm>
            <a:off x="57600" y="64119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8 Jun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6"/>
          <p:cNvSpPr/>
          <p:nvPr/>
        </p:nvSpPr>
        <p:spPr>
          <a:xfrm>
            <a:off x="7830000" y="64119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an J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152280" y="228600"/>
            <a:ext cx="838080" cy="398880"/>
            <a:chOff x="152280" y="228600"/>
            <a:chExt cx="838080" cy="398880"/>
          </a:xfrm>
        </p:grpSpPr>
        <p:sp>
          <p:nvSpPr>
            <p:cNvPr id="45" name="Text Box 8"/>
            <p:cNvSpPr/>
            <p:nvPr/>
          </p:nvSpPr>
          <p:spPr>
            <a:xfrm>
              <a:off x="152280" y="2286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Arial Black"/>
                </a:rPr>
                <a:t>A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9"/>
            <p:cNvSpPr/>
            <p:nvPr/>
          </p:nvSpPr>
          <p:spPr>
            <a:xfrm>
              <a:off x="152280" y="228600"/>
              <a:ext cx="838080" cy="3934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Picture 10" descr="NRO_3D_1"/>
          <p:cNvPicPr/>
          <p:nvPr/>
        </p:nvPicPr>
        <p:blipFill>
          <a:blip r:embed="rId2"/>
          <a:stretch/>
        </p:blipFill>
        <p:spPr>
          <a:xfrm>
            <a:off x="8031240" y="228600"/>
            <a:ext cx="960480" cy="4572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5"/>
          <p:cNvSpPr/>
          <p:nvPr/>
        </p:nvSpPr>
        <p:spPr>
          <a:xfrm>
            <a:off x="57600" y="64119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8 Jun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6"/>
          <p:cNvSpPr/>
          <p:nvPr/>
        </p:nvSpPr>
        <p:spPr>
          <a:xfrm>
            <a:off x="7830000" y="64119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an J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Click to edit the outline text format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econd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Third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Four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Fif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ix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even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-360" y="6540480"/>
            <a:ext cx="2133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 20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2788920" y="6549840"/>
            <a:ext cx="3776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Number Resourc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7"/>
          <p:cNvGrpSpPr/>
          <p:nvPr/>
        </p:nvGrpSpPr>
        <p:grpSpPr>
          <a:xfrm>
            <a:off x="152280" y="228600"/>
            <a:ext cx="838080" cy="398880"/>
            <a:chOff x="152280" y="228600"/>
            <a:chExt cx="838080" cy="398880"/>
          </a:xfrm>
        </p:grpSpPr>
        <p:sp>
          <p:nvSpPr>
            <p:cNvPr id="91" name="Text Box 8"/>
            <p:cNvSpPr/>
            <p:nvPr/>
          </p:nvSpPr>
          <p:spPr>
            <a:xfrm>
              <a:off x="152280" y="2286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Arial Black"/>
                </a:rPr>
                <a:t>A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9"/>
            <p:cNvSpPr/>
            <p:nvPr/>
          </p:nvSpPr>
          <p:spPr>
            <a:xfrm>
              <a:off x="152280" y="228600"/>
              <a:ext cx="838080" cy="3934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10" descr="NRO_3D_1"/>
          <p:cNvPicPr/>
          <p:nvPr/>
        </p:nvPicPr>
        <p:blipFill>
          <a:blip r:embed="rId2"/>
          <a:stretch/>
        </p:blipFill>
        <p:spPr>
          <a:xfrm>
            <a:off x="8031240" y="228600"/>
            <a:ext cx="960480" cy="4572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5"/>
          <p:cNvSpPr/>
          <p:nvPr/>
        </p:nvSpPr>
        <p:spPr>
          <a:xfrm>
            <a:off x="57600" y="64119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8 Jun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7830000" y="64119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an J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Click to edit the outline text format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econd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Third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Four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Fif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ix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eventh Outline Level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3"/>
          </p:nvPr>
        </p:nvSpPr>
        <p:spPr>
          <a:xfrm>
            <a:off x="-360" y="6540480"/>
            <a:ext cx="2133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 20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4"/>
          </p:nvPr>
        </p:nvSpPr>
        <p:spPr>
          <a:xfrm>
            <a:off x="2788920" y="6549840"/>
            <a:ext cx="3776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Number Resourc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ro.net/statistics/" TargetMode="External"/><Relationship Id="rId2" Type="http://schemas.openxmlformats.org/officeDocument/2006/relationships/hyperlink" Target="http://www.aso.icann.org/stats" TargetMode="External"/><Relationship Id="rId3" Type="http://schemas.openxmlformats.org/officeDocument/2006/relationships/hyperlink" Target="http://www.iana.org/assignments/ipv4-address-space" TargetMode="External"/><Relationship Id="rId4" Type="http://schemas.openxmlformats.org/officeDocument/2006/relationships/hyperlink" Target="http://www.iana.org/assignments/as-numbers" TargetMode="External"/><Relationship Id="rId5" Type="http://schemas.openxmlformats.org/officeDocument/2006/relationships/hyperlink" Target="http://www.iana.org/assignments/ipv6-unicast-address-assignments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6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677880" y="4071960"/>
            <a:ext cx="7827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0"/>
          <p:cNvGrpSpPr/>
          <p:nvPr/>
        </p:nvGrpSpPr>
        <p:grpSpPr>
          <a:xfrm>
            <a:off x="790560" y="739800"/>
            <a:ext cx="7545240" cy="738000"/>
            <a:chOff x="790560" y="739800"/>
            <a:chExt cx="7545240" cy="738000"/>
          </a:xfrm>
        </p:grpSpPr>
        <p:grpSp>
          <p:nvGrpSpPr>
            <p:cNvPr id="145" name="Group 11"/>
            <p:cNvGrpSpPr/>
            <p:nvPr/>
          </p:nvGrpSpPr>
          <p:grpSpPr>
            <a:xfrm>
              <a:off x="2738160" y="739800"/>
              <a:ext cx="5597640" cy="738000"/>
              <a:chOff x="2738160" y="739800"/>
              <a:chExt cx="5597640" cy="738000"/>
            </a:xfrm>
          </p:grpSpPr>
          <p:pic>
            <p:nvPicPr>
              <p:cNvPr id="146" name="Picture 5" descr="apnic-logo-eps"/>
              <p:cNvPicPr/>
              <p:nvPr/>
            </p:nvPicPr>
            <p:blipFill>
              <a:blip r:embed="rId1"/>
              <a:stretch/>
            </p:blipFill>
            <p:spPr>
              <a:xfrm>
                <a:off x="2738160" y="739800"/>
                <a:ext cx="925560" cy="73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Picture 6" descr="arin"/>
              <p:cNvPicPr/>
              <p:nvPr/>
            </p:nvPicPr>
            <p:blipFill>
              <a:blip r:embed="rId2"/>
              <a:stretch/>
            </p:blipFill>
            <p:spPr>
              <a:xfrm>
                <a:off x="3740040" y="892080"/>
                <a:ext cx="2135160" cy="43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7" descr="lacnicofficial-logo"/>
              <p:cNvPicPr/>
              <p:nvPr/>
            </p:nvPicPr>
            <p:blipFill>
              <a:blip r:embed="rId3"/>
              <a:stretch/>
            </p:blipFill>
            <p:spPr>
              <a:xfrm>
                <a:off x="6156360" y="739800"/>
                <a:ext cx="936360" cy="73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8" descr="ripencc"/>
              <p:cNvPicPr/>
              <p:nvPr/>
            </p:nvPicPr>
            <p:blipFill>
              <a:blip r:embed="rId4"/>
              <a:stretch/>
            </p:blipFill>
            <p:spPr>
              <a:xfrm>
                <a:off x="7321320" y="739800"/>
                <a:ext cx="1014480" cy="704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0" name="Picture 10" descr="afrinic-vs"/>
            <p:cNvPicPr/>
            <p:nvPr/>
          </p:nvPicPr>
          <p:blipFill>
            <a:blip r:embed="rId5"/>
            <a:stretch/>
          </p:blipFill>
          <p:spPr>
            <a:xfrm>
              <a:off x="790560" y="842760"/>
              <a:ext cx="1860480" cy="5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Picture 10" descr="NRO_3D_1"/>
          <p:cNvPicPr/>
          <p:nvPr/>
        </p:nvPicPr>
        <p:blipFill>
          <a:blip r:embed="rId6"/>
          <a:stretch/>
        </p:blipFill>
        <p:spPr>
          <a:xfrm>
            <a:off x="4127400" y="1757520"/>
            <a:ext cx="1344600" cy="6397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1"/>
          <p:cNvSpPr/>
          <p:nvPr/>
        </p:nvSpPr>
        <p:spPr>
          <a:xfrm>
            <a:off x="230400" y="2790720"/>
            <a:ext cx="863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 Rounded MT Bold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ddress </a:t>
            </a:r>
            <a:r>
              <a:rPr b="1" lang="en-US" sz="4000" spc="-1" strike="noStrike">
                <a:solidFill>
                  <a:srgbClr val="0070c0"/>
                </a:solidFill>
                <a:latin typeface="Arial Rounded MT Bold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upporting </a:t>
            </a:r>
            <a:r>
              <a:rPr b="1" lang="en-US" sz="4000" spc="-1" strike="noStrike">
                <a:solidFill>
                  <a:srgbClr val="0070c0"/>
                </a:solidFill>
                <a:latin typeface="Arial Rounded MT Bold"/>
              </a:rPr>
              <a:t>O</a:t>
            </a: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rg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Status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2"/>
          <p:cNvSpPr/>
          <p:nvPr/>
        </p:nvSpPr>
        <p:spPr>
          <a:xfrm>
            <a:off x="2286000" y="5678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ICANN San Jua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Link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Internet Number Resouce Statistics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228600" y="1676520"/>
            <a:ext cx="840744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RIR Stats:</a:t>
            </a:r>
            <a:br>
              <a:rPr sz="36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nro.net/statistic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Raw Data/Historical RIR Allocations:</a:t>
            </a:r>
            <a:br>
              <a:rPr sz="36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aso.icann.org/s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Rounded MT Bold"/>
                <a:hlinkClick r:id="rId3"/>
              </a:rPr>
              <a:t>http://www.iana.org/assignments/ipv4-address-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Rounded MT Bold"/>
                <a:hlinkClick r:id="rId4"/>
              </a:rPr>
              <a:t>http://www.iana.org/assignments/as-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Rounded MT Bold"/>
                <a:hlinkClick r:id="rId5"/>
              </a:rPr>
              <a:t>http://www.iana.org/assignments/ipv6-unicast-address-ass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77880" y="2560680"/>
            <a:ext cx="782784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 Rounded MT Bold"/>
              </a:rPr>
              <a:t>IPv4 Depl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 Rounded MT Bold"/>
              </a:rPr>
              <a:t>&amp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 Rounded MT Bold"/>
              </a:rPr>
              <a:t>Migration to IPv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790560" y="739800"/>
            <a:ext cx="7545240" cy="738000"/>
            <a:chOff x="790560" y="739800"/>
            <a:chExt cx="7545240" cy="738000"/>
          </a:xfrm>
        </p:grpSpPr>
        <p:grpSp>
          <p:nvGrpSpPr>
            <p:cNvPr id="182" name="Group 11"/>
            <p:cNvGrpSpPr/>
            <p:nvPr/>
          </p:nvGrpSpPr>
          <p:grpSpPr>
            <a:xfrm>
              <a:off x="2738160" y="739800"/>
              <a:ext cx="5597640" cy="738000"/>
              <a:chOff x="2738160" y="739800"/>
              <a:chExt cx="5597640" cy="738000"/>
            </a:xfrm>
          </p:grpSpPr>
          <p:pic>
            <p:nvPicPr>
              <p:cNvPr id="183" name="Picture 5" descr="apnic-logo-eps"/>
              <p:cNvPicPr/>
              <p:nvPr/>
            </p:nvPicPr>
            <p:blipFill>
              <a:blip r:embed="rId1"/>
              <a:stretch/>
            </p:blipFill>
            <p:spPr>
              <a:xfrm>
                <a:off x="2738160" y="739800"/>
                <a:ext cx="925560" cy="73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Picture 6" descr="arin"/>
              <p:cNvPicPr/>
              <p:nvPr/>
            </p:nvPicPr>
            <p:blipFill>
              <a:blip r:embed="rId2"/>
              <a:stretch/>
            </p:blipFill>
            <p:spPr>
              <a:xfrm>
                <a:off x="3740040" y="892080"/>
                <a:ext cx="2135160" cy="43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Picture 7" descr="lacnicofficial-logo"/>
              <p:cNvPicPr/>
              <p:nvPr/>
            </p:nvPicPr>
            <p:blipFill>
              <a:blip r:embed="rId3"/>
              <a:stretch/>
            </p:blipFill>
            <p:spPr>
              <a:xfrm>
                <a:off x="6156360" y="739800"/>
                <a:ext cx="936360" cy="73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Picture 8" descr="ripencc"/>
              <p:cNvPicPr/>
              <p:nvPr/>
            </p:nvPicPr>
            <p:blipFill>
              <a:blip r:embed="rId4"/>
              <a:stretch/>
            </p:blipFill>
            <p:spPr>
              <a:xfrm>
                <a:off x="7321320" y="739800"/>
                <a:ext cx="1014480" cy="704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7" name="Picture 10" descr="afrinic-vs"/>
            <p:cNvPicPr/>
            <p:nvPr/>
          </p:nvPicPr>
          <p:blipFill>
            <a:blip r:embed="rId5"/>
            <a:stretch/>
          </p:blipFill>
          <p:spPr>
            <a:xfrm>
              <a:off x="790560" y="842760"/>
              <a:ext cx="1860480" cy="5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8" name="Picture 10" descr="NRO_3D_1"/>
          <p:cNvPicPr/>
          <p:nvPr/>
        </p:nvPicPr>
        <p:blipFill>
          <a:blip r:embed="rId6"/>
          <a:stretch/>
        </p:blipFill>
        <p:spPr>
          <a:xfrm>
            <a:off x="4127400" y="1757520"/>
            <a:ext cx="13446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Requirement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Users need access to services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Access provided by a healthy Internet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Healthy Internet needs contiguous address space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Build out of major new networks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Addition of new customers by Internet Service Providers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ituation – Part I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23238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Current  Source of Contiguous Address Space is IP4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This supply is diminishing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IPv4 - Address Space Utilization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94" name="Picture 5" descr="Addressapcechart"/>
          <p:cNvPicPr/>
          <p:nvPr/>
        </p:nvPicPr>
        <p:blipFill>
          <a:blip r:embed="rId1"/>
          <a:stretch/>
        </p:blipFill>
        <p:spPr>
          <a:xfrm>
            <a:off x="1087560" y="1617840"/>
            <a:ext cx="6967440" cy="47066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4"/>
          <p:cNvSpPr/>
          <p:nvPr/>
        </p:nvSpPr>
        <p:spPr>
          <a:xfrm>
            <a:off x="3257280" y="288288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ANA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762120" y="1362240"/>
            <a:ext cx="7619760" cy="4572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1101960" y="6064200"/>
            <a:ext cx="575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ource : Geoff Huston – APNIC – www.potaroo.net/tools/ipv4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6679080" y="56894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Straight Arrow Connector 5"/>
          <p:cNvCxnSpPr/>
          <p:nvPr/>
        </p:nvCxnSpPr>
        <p:spPr>
          <a:xfrm flipV="1">
            <a:off x="7353360" y="5384160"/>
            <a:ext cx="483120" cy="5338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00" name="TextBox 8"/>
          <p:cNvSpPr/>
          <p:nvPr/>
        </p:nvSpPr>
        <p:spPr>
          <a:xfrm>
            <a:off x="6955920" y="38480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/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9"/>
          <p:cNvCxnSpPr/>
          <p:nvPr/>
        </p:nvCxnSpPr>
        <p:spPr>
          <a:xfrm>
            <a:off x="7987320" y="4267080"/>
            <a:ext cx="330840" cy="91512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02" name="TextBox 11"/>
          <p:cNvSpPr/>
          <p:nvPr/>
        </p:nvSpPr>
        <p:spPr>
          <a:xfrm>
            <a:off x="1800720" y="16002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NA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1766160" y="429264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RIR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olution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2856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Get New  Source of Contiguous Address Space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This supply is IPv6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Situation – Part II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426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The IPv4 Demand Continues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IPv6 Migration is “No to Slow”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Today, there are organizations attempting to reach mail and web servers via IPv6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In the near future, there will be organizations that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have no choice </a:t>
            </a: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but to reach mail and web servers via IPv6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Consequences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No Access to Internet Services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IPv6 Only Networks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IPv6 Only Users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Routing Table Fragmentation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NAT Use Increase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From Recovery Activity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From Other Market Activity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Other Market Development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What to Do?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5436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Raise Awareness Beyond the Internet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Reach Out to the General Community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Facilitate the Deployment of IPv6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Implement IPv6 </a:t>
            </a: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Accessible Services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Mail and web servers need to be reachable via IPv6 in addition to IPv4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79680" y="196920"/>
            <a:ext cx="4194000" cy="10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 Rounded MT Bold"/>
              </a:rPr>
              <a:t>ASO Status Report Elements</a:t>
            </a:r>
            <a:endParaRPr b="1" lang="en-US" sz="29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2666520"/>
            <a:ext cx="8502480" cy="19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Internet Number Resource Status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IPv4 Depletion and IPv6 Migration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ddress Council Report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RIR Actions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015920"/>
            <a:ext cx="822960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Raise Awareness Beyond the Internet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Reach Out to the General Community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Issue Advisories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Educational Material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Facilitate the Deployment of IPv6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Policy Actions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Administrative Actions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Implement IPv6 </a:t>
            </a: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Accessible Services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Mail and web servers are reachable via IPv6 in addition to IPv4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ICANN Board Actions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6480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Raise Awareness Beyond the Internet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Reach Out to the General Community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Issue  an Advisory 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Facilitate the Deployment of IPv6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Use ICANN Resources to support IPv6 Deployment Activities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Implement IPv6 </a:t>
            </a: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Accessible Services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Make all ICANN related Mail and web servers available via IPv6 in addition to IPv4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677880" y="2209680"/>
            <a:ext cx="782784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 Rounded MT Bold"/>
              </a:rPr>
              <a:t>A</a:t>
            </a: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ddress </a:t>
            </a:r>
            <a:r>
              <a:rPr b="0" lang="en-US" sz="4400" spc="-1" strike="noStrike">
                <a:solidFill>
                  <a:srgbClr val="0000cc"/>
                </a:solidFill>
                <a:latin typeface="Arial Rounded MT Bold"/>
              </a:rPr>
              <a:t>S</a:t>
            </a: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upporting </a:t>
            </a:r>
            <a:r>
              <a:rPr b="0" lang="en-US" sz="4400" spc="-1" strike="noStrike">
                <a:solidFill>
                  <a:srgbClr val="0000cc"/>
                </a:solidFill>
                <a:latin typeface="Arial Rounded MT Bold"/>
              </a:rPr>
              <a:t>O</a:t>
            </a: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Address Council Re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0"/>
          <p:cNvGrpSpPr/>
          <p:nvPr/>
        </p:nvGrpSpPr>
        <p:grpSpPr>
          <a:xfrm>
            <a:off x="790560" y="739800"/>
            <a:ext cx="7545240" cy="738000"/>
            <a:chOff x="790560" y="739800"/>
            <a:chExt cx="7545240" cy="738000"/>
          </a:xfrm>
        </p:grpSpPr>
        <p:grpSp>
          <p:nvGrpSpPr>
            <p:cNvPr id="218" name="Group 11"/>
            <p:cNvGrpSpPr/>
            <p:nvPr/>
          </p:nvGrpSpPr>
          <p:grpSpPr>
            <a:xfrm>
              <a:off x="2738160" y="739800"/>
              <a:ext cx="5597640" cy="738000"/>
              <a:chOff x="2738160" y="739800"/>
              <a:chExt cx="5597640" cy="738000"/>
            </a:xfrm>
          </p:grpSpPr>
          <p:pic>
            <p:nvPicPr>
              <p:cNvPr id="219" name="Picture 5" descr="apnic-logo-eps"/>
              <p:cNvPicPr/>
              <p:nvPr/>
            </p:nvPicPr>
            <p:blipFill>
              <a:blip r:embed="rId1"/>
              <a:stretch/>
            </p:blipFill>
            <p:spPr>
              <a:xfrm>
                <a:off x="2738160" y="739800"/>
                <a:ext cx="925560" cy="73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Picture 6" descr="arin"/>
              <p:cNvPicPr/>
              <p:nvPr/>
            </p:nvPicPr>
            <p:blipFill>
              <a:blip r:embed="rId2"/>
              <a:stretch/>
            </p:blipFill>
            <p:spPr>
              <a:xfrm>
                <a:off x="3740040" y="892080"/>
                <a:ext cx="2135160" cy="43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Picture 7" descr="lacnicofficial-logo"/>
              <p:cNvPicPr/>
              <p:nvPr/>
            </p:nvPicPr>
            <p:blipFill>
              <a:blip r:embed="rId3"/>
              <a:stretch/>
            </p:blipFill>
            <p:spPr>
              <a:xfrm>
                <a:off x="6156360" y="739800"/>
                <a:ext cx="936360" cy="73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Picture 8" descr="ripencc"/>
              <p:cNvPicPr/>
              <p:nvPr/>
            </p:nvPicPr>
            <p:blipFill>
              <a:blip r:embed="rId4"/>
              <a:stretch/>
            </p:blipFill>
            <p:spPr>
              <a:xfrm>
                <a:off x="7321320" y="739800"/>
                <a:ext cx="1014480" cy="704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3" name="Picture 10" descr="afrinic-vs"/>
            <p:cNvPicPr/>
            <p:nvPr/>
          </p:nvPicPr>
          <p:blipFill>
            <a:blip r:embed="rId5"/>
            <a:stretch/>
          </p:blipFill>
          <p:spPr>
            <a:xfrm>
              <a:off x="790560" y="842760"/>
              <a:ext cx="1860480" cy="5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4" name="Picture 10" descr="NRO_3D_1"/>
          <p:cNvPicPr/>
          <p:nvPr/>
        </p:nvPicPr>
        <p:blipFill>
          <a:blip r:embed="rId6"/>
          <a:stretch/>
        </p:blipFill>
        <p:spPr>
          <a:xfrm>
            <a:off x="4127400" y="1757520"/>
            <a:ext cx="13446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082960" y="151920"/>
            <a:ext cx="53179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IPv4 Policy Discussions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84280" y="811080"/>
          <a:ext cx="8318520" cy="5418360"/>
        </p:xfrm>
        <a:graphic>
          <a:graphicData uri="http://schemas.openxmlformats.org/drawingml/2006/table">
            <a:tbl>
              <a:tblPr/>
              <a:tblGrid>
                <a:gridCol w="2120760"/>
                <a:gridCol w="4216320"/>
                <a:gridCol w="1981440"/>
              </a:tblGrid>
              <a:tr h="56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R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12 month allocation  peri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IPv4 countdow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dop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No Consens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4 byte AS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IPv4 countdow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dop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iscu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Transfer Policy Clar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IPV4 Minimum Allocatio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IPv4 countdow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dop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bando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bando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Micro-Allocations for critical infra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IPv4 Countdow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iscu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bando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IP Assignments for TLD Operators 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nyca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IPv4 countdow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dop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No Consens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Picture 32" descr="apnic-logo-eps"/>
          <p:cNvPicPr/>
          <p:nvPr/>
        </p:nvPicPr>
        <p:blipFill>
          <a:blip r:embed="rId1"/>
          <a:stretch/>
        </p:blipFill>
        <p:spPr>
          <a:xfrm>
            <a:off x="1158840" y="2349360"/>
            <a:ext cx="925560" cy="738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3" descr="arin"/>
          <p:cNvPicPr/>
          <p:nvPr/>
        </p:nvPicPr>
        <p:blipFill>
          <a:blip r:embed="rId2"/>
          <a:stretch/>
        </p:blipFill>
        <p:spPr>
          <a:xfrm>
            <a:off x="703440" y="3508200"/>
            <a:ext cx="1955520" cy="439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4" descr="lacnicofficial-logo"/>
          <p:cNvPicPr/>
          <p:nvPr/>
        </p:nvPicPr>
        <p:blipFill>
          <a:blip r:embed="rId3"/>
          <a:stretch/>
        </p:blipFill>
        <p:spPr>
          <a:xfrm>
            <a:off x="1089000" y="4165560"/>
            <a:ext cx="936720" cy="733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5" descr="ripencc"/>
          <p:cNvPicPr/>
          <p:nvPr/>
        </p:nvPicPr>
        <p:blipFill>
          <a:blip r:embed="rId4"/>
          <a:stretch/>
        </p:blipFill>
        <p:spPr>
          <a:xfrm>
            <a:off x="1062000" y="5359320"/>
            <a:ext cx="1014480" cy="704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7" descr="afrinic-vs"/>
          <p:cNvPicPr/>
          <p:nvPr/>
        </p:nvPicPr>
        <p:blipFill>
          <a:blip r:embed="rId5"/>
          <a:stretch/>
        </p:blipFill>
        <p:spPr>
          <a:xfrm>
            <a:off x="758880" y="1720800"/>
            <a:ext cx="18604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72720" y="47520"/>
            <a:ext cx="53182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IPv6 Policy Discussions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762120" y="609480"/>
          <a:ext cx="7696080" cy="5600880"/>
        </p:xfrm>
        <a:graphic>
          <a:graphicData uri="http://schemas.openxmlformats.org/drawingml/2006/table">
            <a:tbl>
              <a:tblPr/>
              <a:tblGrid>
                <a:gridCol w="1917720"/>
                <a:gridCol w="4221000"/>
                <a:gridCol w="15573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R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Critical infrastructure assign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ULA Cen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PI for Provi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dop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iscu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dop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Changes to v6 initial al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ULA Cen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iscu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iscu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Changes to v6 Initial Allocation Crit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Interim status removed from V6 pol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iscu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dop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Eliminate “interim” references of V6 pol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Modify multiple /48 requirement for v6 all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Last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Last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Change V6 Initial Allocation Crit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PI for end si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Last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iscu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4" name="Picture 32" descr="apnic-logo-eps"/>
          <p:cNvPicPr/>
          <p:nvPr/>
        </p:nvPicPr>
        <p:blipFill>
          <a:blip r:embed="rId1"/>
          <a:stretch/>
        </p:blipFill>
        <p:spPr>
          <a:xfrm>
            <a:off x="1228680" y="2521080"/>
            <a:ext cx="925560" cy="738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3" descr="arin"/>
          <p:cNvPicPr/>
          <p:nvPr/>
        </p:nvPicPr>
        <p:blipFill>
          <a:blip r:embed="rId2"/>
          <a:stretch/>
        </p:blipFill>
        <p:spPr>
          <a:xfrm>
            <a:off x="826920" y="3792600"/>
            <a:ext cx="1798920" cy="439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4" descr="lacnicofficial-logo"/>
          <p:cNvPicPr/>
          <p:nvPr/>
        </p:nvPicPr>
        <p:blipFill>
          <a:blip r:embed="rId3"/>
          <a:stretch/>
        </p:blipFill>
        <p:spPr>
          <a:xfrm>
            <a:off x="1204920" y="4343400"/>
            <a:ext cx="936720" cy="733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5" descr="ripencc"/>
          <p:cNvPicPr/>
          <p:nvPr/>
        </p:nvPicPr>
        <p:blipFill>
          <a:blip r:embed="rId4"/>
          <a:stretch/>
        </p:blipFill>
        <p:spPr>
          <a:xfrm>
            <a:off x="1138320" y="5334120"/>
            <a:ext cx="1014480" cy="704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7" descr="afrinic-vs"/>
          <p:cNvPicPr/>
          <p:nvPr/>
        </p:nvPicPr>
        <p:blipFill>
          <a:blip r:embed="rId5"/>
          <a:stretch/>
        </p:blipFill>
        <p:spPr>
          <a:xfrm>
            <a:off x="787320" y="1346040"/>
            <a:ext cx="18604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49600" y="95040"/>
            <a:ext cx="531792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Other Policy Discussions</a:t>
            </a:r>
            <a:endParaRPr b="1" lang="en-US" sz="2800" spc="-1" strike="noStrike">
              <a:solidFill>
                <a:srgbClr val="ff0000"/>
              </a:solidFill>
              <a:latin typeface="Arial Rounded MT Bold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07960" y="990720"/>
          <a:ext cx="8102520" cy="4871880"/>
        </p:xfrm>
        <a:graphic>
          <a:graphicData uri="http://schemas.openxmlformats.org/drawingml/2006/table">
            <a:tbl>
              <a:tblPr/>
              <a:tblGrid>
                <a:gridCol w="2197080"/>
                <a:gridCol w="4267440"/>
                <a:gridCol w="1638000"/>
              </a:tblGrid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R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4 Byte AS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dop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IPV4 Exhaus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eGLOP Multicast Assign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iscu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iscu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Reinstate X.509 Authentication/PG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Immediate Need Clarifi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bando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iscu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Global Policy related to end IPV4 Disrib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Global Policy related to 4 Byte ASN disribution from IANA to RIR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Last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Last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Rounded MT 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1" name="Picture 32" descr="apnic-logo-eps"/>
          <p:cNvPicPr/>
          <p:nvPr/>
        </p:nvPicPr>
        <p:blipFill>
          <a:blip r:embed="rId1"/>
          <a:stretch/>
        </p:blipFill>
        <p:spPr>
          <a:xfrm>
            <a:off x="1023840" y="2440080"/>
            <a:ext cx="925560" cy="738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3" descr="arin"/>
          <p:cNvPicPr/>
          <p:nvPr/>
        </p:nvPicPr>
        <p:blipFill>
          <a:blip r:embed="rId2"/>
          <a:stretch/>
        </p:blipFill>
        <p:spPr>
          <a:xfrm>
            <a:off x="658800" y="3505320"/>
            <a:ext cx="1893960" cy="439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4" descr="lacnicofficial-logo"/>
          <p:cNvPicPr/>
          <p:nvPr/>
        </p:nvPicPr>
        <p:blipFill>
          <a:blip r:embed="rId3"/>
          <a:stretch/>
        </p:blipFill>
        <p:spPr>
          <a:xfrm>
            <a:off x="1001880" y="4254480"/>
            <a:ext cx="936360" cy="733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5" descr="ripencc"/>
          <p:cNvPicPr/>
          <p:nvPr/>
        </p:nvPicPr>
        <p:blipFill>
          <a:blip r:embed="rId4"/>
          <a:stretch/>
        </p:blipFill>
        <p:spPr>
          <a:xfrm>
            <a:off x="998640" y="5138640"/>
            <a:ext cx="1014480" cy="704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7" descr="afrinic-vs"/>
          <p:cNvPicPr/>
          <p:nvPr/>
        </p:nvPicPr>
        <p:blipFill>
          <a:blip r:embed="rId5"/>
          <a:stretch/>
        </p:blipFill>
        <p:spPr>
          <a:xfrm>
            <a:off x="669960" y="1704960"/>
            <a:ext cx="18604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07800" y="262080"/>
            <a:ext cx="490212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 Rounded MT Bold"/>
              </a:rPr>
              <a:t>Public Policy Meetings</a:t>
            </a:r>
            <a:endParaRPr b="1" lang="en-US" sz="2900" spc="-1" strike="noStrike">
              <a:solidFill>
                <a:srgbClr val="ff0000"/>
              </a:solidFill>
              <a:latin typeface="Arial Rounded MT Bold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863640" y="1184400"/>
          <a:ext cx="7132680" cy="4871880"/>
        </p:xfrm>
        <a:graphic>
          <a:graphicData uri="http://schemas.openxmlformats.org/drawingml/2006/table">
            <a:tbl>
              <a:tblPr/>
              <a:tblGrid>
                <a:gridCol w="2066760"/>
                <a:gridCol w="3054600"/>
                <a:gridCol w="2011320"/>
              </a:tblGrid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R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24-28 SEP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urbin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29 AUG - 7 SEP 2007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New Del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17 – 19 OCT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lbuquer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TBD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22 – 26 OCT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Amsterd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8" name="Picture 33" descr="apnic-logo-eps"/>
          <p:cNvPicPr/>
          <p:nvPr/>
        </p:nvPicPr>
        <p:blipFill>
          <a:blip r:embed="rId1"/>
          <a:stretch/>
        </p:blipFill>
        <p:spPr>
          <a:xfrm>
            <a:off x="1546200" y="2637000"/>
            <a:ext cx="804960" cy="73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4" descr="arin"/>
          <p:cNvPicPr/>
          <p:nvPr/>
        </p:nvPicPr>
        <p:blipFill>
          <a:blip r:embed="rId2"/>
          <a:stretch/>
        </p:blipFill>
        <p:spPr>
          <a:xfrm>
            <a:off x="982800" y="3672000"/>
            <a:ext cx="1855800" cy="439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5" descr="lacnicofficial-logo"/>
          <p:cNvPicPr/>
          <p:nvPr/>
        </p:nvPicPr>
        <p:blipFill>
          <a:blip r:embed="rId3"/>
          <a:stretch/>
        </p:blipFill>
        <p:spPr>
          <a:xfrm>
            <a:off x="1484280" y="4395960"/>
            <a:ext cx="814320" cy="733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6" descr="ripencc"/>
          <p:cNvPicPr/>
          <p:nvPr/>
        </p:nvPicPr>
        <p:blipFill>
          <a:blip r:embed="rId4"/>
          <a:stretch/>
        </p:blipFill>
        <p:spPr>
          <a:xfrm>
            <a:off x="1449360" y="5281560"/>
            <a:ext cx="1014480" cy="704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7" descr="afrinic-vs"/>
          <p:cNvPicPr/>
          <p:nvPr/>
        </p:nvPicPr>
        <p:blipFill>
          <a:blip r:embed="rId5"/>
          <a:stretch/>
        </p:blipFill>
        <p:spPr>
          <a:xfrm>
            <a:off x="988920" y="1889280"/>
            <a:ext cx="186048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14240" y="262080"/>
            <a:ext cx="41418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 Rounded MT Bold"/>
              </a:rPr>
              <a:t>Policy Archives</a:t>
            </a:r>
            <a:endParaRPr b="1" lang="en-US" sz="2900" spc="-1" strike="noStrike">
              <a:solidFill>
                <a:srgbClr val="ff0000"/>
              </a:solidFill>
              <a:latin typeface="Arial Rounded MT Bold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52280" y="1219320"/>
          <a:ext cx="8915400" cy="4871880"/>
        </p:xfrm>
        <a:graphic>
          <a:graphicData uri="http://schemas.openxmlformats.org/drawingml/2006/table">
            <a:tbl>
              <a:tblPr/>
              <a:tblGrid>
                <a:gridCol w="2286000"/>
                <a:gridCol w="6629400"/>
              </a:tblGrid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R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1202"/>
                          </a:solidFill>
                          <a:latin typeface="Arial Black"/>
                        </a:rPr>
                        <a:t>L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cc0000"/>
                          </a:solidFill>
                          <a:latin typeface="Arial Rounded MT Bold"/>
                        </a:rPr>
                        <a:t>http://www.afrinic.net/policy.ht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cc0000"/>
                          </a:solidFill>
                          <a:latin typeface="Arial Rounded MT Bold"/>
                        </a:rPr>
                        <a:t>http://www.apnic.net/docs/policy/proposals/archive.htm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cc0000"/>
                          </a:solidFill>
                          <a:latin typeface="Arial Rounded MT Bold"/>
                        </a:rPr>
                        <a:t>http://www.arin.net/policy/proposals/proposal_archive.htm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cc0000"/>
                          </a:solidFill>
                          <a:latin typeface="Arial Rounded MT Bold"/>
                        </a:rPr>
                        <a:t>http://lacnic.net/en/politicas/desarrollo.htm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cc0000"/>
                          </a:solidFill>
                          <a:latin typeface="Arial Rounded MT Bold"/>
                        </a:rPr>
                        <a:t>http://www.ripe.net/ripe/policies/proposals/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5" name="Picture 26" descr="apnic-logo-eps"/>
          <p:cNvPicPr/>
          <p:nvPr/>
        </p:nvPicPr>
        <p:blipFill>
          <a:blip r:embed="rId1"/>
          <a:stretch/>
        </p:blipFill>
        <p:spPr>
          <a:xfrm>
            <a:off x="792000" y="2695680"/>
            <a:ext cx="925560" cy="738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7" descr="arin"/>
          <p:cNvPicPr/>
          <p:nvPr/>
        </p:nvPicPr>
        <p:blipFill>
          <a:blip r:embed="rId2"/>
          <a:stretch/>
        </p:blipFill>
        <p:spPr>
          <a:xfrm>
            <a:off x="299880" y="3720960"/>
            <a:ext cx="1967040" cy="439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8" descr="lacnicofficial-logo"/>
          <p:cNvPicPr/>
          <p:nvPr/>
        </p:nvPicPr>
        <p:blipFill>
          <a:blip r:embed="rId3"/>
          <a:stretch/>
        </p:blipFill>
        <p:spPr>
          <a:xfrm>
            <a:off x="615960" y="4422600"/>
            <a:ext cx="936720" cy="733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9" descr="ripencc"/>
          <p:cNvPicPr/>
          <p:nvPr/>
        </p:nvPicPr>
        <p:blipFill>
          <a:blip r:embed="rId4"/>
          <a:stretch/>
        </p:blipFill>
        <p:spPr>
          <a:xfrm>
            <a:off x="650880" y="5318280"/>
            <a:ext cx="1014480" cy="704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0" descr="afrinic-vs"/>
          <p:cNvPicPr/>
          <p:nvPr/>
        </p:nvPicPr>
        <p:blipFill>
          <a:blip r:embed="rId5"/>
          <a:stretch/>
        </p:blipFill>
        <p:spPr>
          <a:xfrm>
            <a:off x="376200" y="1957320"/>
            <a:ext cx="18604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3"/>
          <p:cNvSpPr/>
          <p:nvPr/>
        </p:nvSpPr>
        <p:spPr>
          <a:xfrm>
            <a:off x="1483560" y="2886120"/>
            <a:ext cx="608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Rounded MT Bold"/>
              </a:rPr>
              <a:t>A Closing Thou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3"/>
          <p:cNvSpPr txBox="1"/>
          <p:nvPr/>
        </p:nvSpPr>
        <p:spPr>
          <a:xfrm>
            <a:off x="1270080" y="2717640"/>
            <a:ext cx="657216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ank You</a:t>
            </a:r>
            <a:endParaRPr b="0" lang="en-US" sz="80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 Number Resource Status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496880" y="3857760"/>
            <a:ext cx="6007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 of 31 March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957240" y="5018040"/>
            <a:ext cx="72342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Prepar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egional Internet Regis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friNIC, APNIC, ARIN, LACNIC and the RIPE N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52600" y="317160"/>
            <a:ext cx="738648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Status of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IPv4 Address Space (/8s)</a:t>
            </a:r>
            <a:endParaRPr b="1" lang="en-US" sz="3600" spc="-1" strike="noStrike">
              <a:solidFill>
                <a:srgbClr val="ff0000"/>
              </a:solidFill>
              <a:latin typeface="Arial Rounded MT Bold"/>
            </a:endParaRPr>
          </a:p>
        </p:txBody>
      </p:sp>
      <p:graphicFrame>
        <p:nvGraphicFramePr>
          <p:cNvPr id="160" name="Object 2"/>
          <p:cNvGraphicFramePr/>
          <p:nvPr/>
        </p:nvGraphicFramePr>
        <p:xfrm>
          <a:off x="0" y="1689120"/>
          <a:ext cx="4381560" cy="346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89120"/>
                    <a:ext cx="438156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"/>
          <p:cNvGraphicFramePr/>
          <p:nvPr/>
        </p:nvGraphicFramePr>
        <p:xfrm>
          <a:off x="3860640" y="1511280"/>
          <a:ext cx="4775400" cy="134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0640" y="1511280"/>
                    <a:ext cx="477540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4"/>
          <p:cNvGraphicFramePr/>
          <p:nvPr/>
        </p:nvGraphicFramePr>
        <p:xfrm>
          <a:off x="3936960" y="3720960"/>
          <a:ext cx="4584600" cy="1981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36960" y="3720960"/>
                    <a:ext cx="45846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IPv4 - Address Space Utilization</a:t>
            </a:r>
            <a:endParaRPr b="1" lang="en-US" sz="32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67" name="Picture 5" descr="Addressapcechart"/>
          <p:cNvPicPr/>
          <p:nvPr/>
        </p:nvPicPr>
        <p:blipFill>
          <a:blip r:embed="rId1"/>
          <a:stretch/>
        </p:blipFill>
        <p:spPr>
          <a:xfrm>
            <a:off x="1087560" y="1617840"/>
            <a:ext cx="6967440" cy="47066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3257280" y="288288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ANA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4960" y="203040"/>
            <a:ext cx="7348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IPv4 Allocations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RIRs to LIRs/ISPs</a:t>
            </a:r>
            <a:br>
              <a:rPr sz="2800"/>
            </a:b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Cumulative Total (Jan 1999 – Mar 2007)</a:t>
            </a:r>
            <a:endParaRPr b="1" lang="en-US" sz="20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70" name="Object 2" descr=""/>
          <p:cNvPicPr/>
          <p:nvPr/>
        </p:nvPicPr>
        <p:blipFill>
          <a:blip r:embed="rId1"/>
          <a:stretch/>
        </p:blipFill>
        <p:spPr>
          <a:xfrm>
            <a:off x="641520" y="1379520"/>
            <a:ext cx="727524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4960" y="190440"/>
            <a:ext cx="7348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ASN Assignments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RIRs to LIRs/ISPs </a:t>
            </a:r>
            <a:br>
              <a:rPr sz="4800"/>
            </a:b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Cumulative Total (Jan 1999 – Mar 2007)</a:t>
            </a:r>
            <a:endParaRPr b="1" lang="en-US" sz="20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72" name="Object 2" descr=""/>
          <p:cNvPicPr/>
          <p:nvPr/>
        </p:nvPicPr>
        <p:blipFill>
          <a:blip r:embed="rId1"/>
          <a:stretch/>
        </p:blipFill>
        <p:spPr>
          <a:xfrm>
            <a:off x="641520" y="1379520"/>
            <a:ext cx="727524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22040" y="202680"/>
            <a:ext cx="576108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 Rounded MT Bold"/>
              </a:rPr>
              <a:t>IANA IPv6 Allocations </a:t>
            </a:r>
            <a:br>
              <a:rPr sz="3200"/>
            </a:br>
            <a:r>
              <a:rPr b="1" lang="en-AU" sz="3200" spc="-1" strike="noStrike">
                <a:solidFill>
                  <a:srgbClr val="ff0000"/>
                </a:solidFill>
                <a:latin typeface="Arial Rounded MT Bold"/>
              </a:rPr>
              <a:t>to RIRs </a:t>
            </a:r>
            <a:br>
              <a:rPr sz="3200"/>
            </a:br>
            <a:r>
              <a:rPr b="1" lang="en-AU" sz="2400" spc="-1" strike="noStrike">
                <a:solidFill>
                  <a:srgbClr val="ff0000"/>
                </a:solidFill>
                <a:latin typeface="Arial Rounded MT Bold"/>
              </a:rPr>
              <a:t>(issued Oct 06)</a:t>
            </a:r>
            <a:endParaRPr b="1" lang="en-US" sz="2400" spc="-1" strike="noStrike">
              <a:solidFill>
                <a:srgbClr val="ff0000"/>
              </a:solidFill>
              <a:latin typeface="Arial Rounded MT Bol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333440" y="1828800"/>
          <a:ext cx="6489720" cy="3238560"/>
        </p:xfrm>
        <a:graphic>
          <a:graphicData uri="http://schemas.openxmlformats.org/drawingml/2006/table">
            <a:tbl>
              <a:tblPr/>
              <a:tblGrid>
                <a:gridCol w="2730600"/>
                <a:gridCol w="3759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Pv6 Addre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00:0000::/1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:0000::/12*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0:0000::/12*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:0000::/12*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E N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A00:0000::/12*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26"/>
          <p:cNvSpPr/>
          <p:nvPr/>
        </p:nvSpPr>
        <p:spPr>
          <a:xfrm>
            <a:off x="4695840" y="5213520"/>
            <a:ext cx="368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*Contains some /23s from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evious allocations by IANA to the 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4960" y="190440"/>
            <a:ext cx="7348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IPv6 Allocations</a:t>
            </a: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br>
              <a:rPr sz="3200"/>
            </a:b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RIRs to LIRs/ISPs</a:t>
            </a:r>
            <a:br>
              <a:rPr sz="2800"/>
            </a:b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Cumulative Total (Jan 1999 – Mar 2007)</a:t>
            </a:r>
            <a:endParaRPr b="1" lang="en-US" sz="20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77" name="Object 2" descr=""/>
          <p:cNvPicPr/>
          <p:nvPr/>
        </p:nvPicPr>
        <p:blipFill>
          <a:blip r:embed="rId1"/>
          <a:stretch/>
        </p:blipFill>
        <p:spPr>
          <a:xfrm>
            <a:off x="1082520" y="1679400"/>
            <a:ext cx="639468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rin</cp:lastModifiedBy>
  <dcterms:modified xsi:type="dcterms:W3CDTF">2007-06-28T12:04:13Z</dcterms:modified>
  <cp:revision>7</cp:revision>
  <dc:subject/>
  <dc:title>Slide 1</dc:title>
</cp:coreProperties>
</file>