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7E02-226F-4C29-823D-320459BD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1820-44C2-47D6-AE1A-047B4384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E07E-1FFE-4ECF-86AC-BDB007DD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954-A0AF-4595-950A-08A18198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9143-60E7-4E56-A0CD-D6C3988D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1054-65E6-4AF9-B540-89D7B99E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08E8-BC00-47DE-A858-2EBB3C4B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20BB-F26A-42B1-BA32-27405747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1323-7C45-495A-960D-2656D9E6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BE89-484F-4361-94CC-F8CBB6D0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FEA5-7841-4FAD-9C74-6D3BC9E3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8053-C403-436F-91C3-4A85C971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B04B-458C-4340-8CDA-0A1863AD7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hotelsw.nyc/" TargetMode="External"/><Relationship Id="rId2" Type="http://schemas.openxmlformats.org/officeDocument/2006/relationships/hyperlink" Target="http://www.schools.nyc/" TargetMode="External"/><Relationship Id="rId3" Type="http://schemas.openxmlformats.org/officeDocument/2006/relationships/hyperlink" Target="http://www.hospitals.nyc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3200" y="1947960"/>
            <a:ext cx="373392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lanning head, city leaders established a Commission to plan for the futu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y created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York City  18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391520" y="5595840"/>
            <a:ext cx="1371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mmissioners Plan of 18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33940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mmissioners Plan of 18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2438280"/>
            <a:ext cx="198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can you see the su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3394080" cy="4496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5800" y="25146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mmissioners Plan of 18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1828800"/>
            <a:ext cx="71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d the Manhattan Street Gr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581280" y="2666880"/>
            <a:ext cx="1474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mmissioners Plan of 18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grid organiz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nd made accessibl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ew York City’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al estate resourc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rganiz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nd make accessibl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ew York City’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digital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resourc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                              thing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              fi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fin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thing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 you can find thing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city has 402 hotel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oogle “NYC hotel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get 50 - 90,000,000 h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 you can find thing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city has 1,400 sch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oogle “NYC school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get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0 -174,000,000 h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 you can find thing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city has 120 hospit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oogle “NYC hospital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get 47 - 144,000,000 h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’m going to make two points: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8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8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nfus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391520" y="5595840"/>
            <a:ext cx="1371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                              thing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              fi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fin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thing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Proximit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istoric role of the cit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imity ~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imity ~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’s my city networking map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imity ~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imity ~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514600"/>
            <a:ext cx="8229600" cy="2286000"/>
          </a:xfrm>
          <a:prstGeom prst="rect">
            <a:avLst/>
          </a:prstGeom>
          <a:solidFill>
            <a:srgbClr val="969696"/>
          </a:solidFill>
          <a:ln w="85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 of all shad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cting in different way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imity ~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imity ~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n about 1995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8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391520" y="5595840"/>
            <a:ext cx="1371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imity ~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were globalize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imity ~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 more junk ~ ebay.c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is Holiness ~ pope.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.com TLD globalized NYC’s communic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imity ~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role of .nyc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reconnect the c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imity ~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role of .nyc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reestablish its historic ro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imity ~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imity ~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391520" y="5595840"/>
            <a:ext cx="1371600" cy="981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Con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workshop is entitl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391520" y="5595840"/>
            <a:ext cx="1371600" cy="981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Con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Con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ew Geo-TL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nsumer Choic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nsumer Confus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1438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Con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ew Geo-TL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nsumer Choic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nsumer Confusion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981080" y="3047760"/>
            <a:ext cx="2590920" cy="609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81080" y="3657240"/>
            <a:ext cx="2667240" cy="685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1438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ood Domain Na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script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emor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391520" y="5595840"/>
            <a:ext cx="1371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Con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ew Geo-TL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no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Resident Choic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Resident Confusion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1438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Con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ew Geo-TL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no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Voter Choic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Voter Confus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1438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Con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ew Geo-TL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no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Entrepreneur Choic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Entrepreneur Confus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1438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Con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ew Geo-TL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no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Resident Choic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Resident Confusion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www.hotels.ny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www.schools.ny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www.hospitals.ny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7543800" y="5562720"/>
            <a:ext cx="1438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iminating confusio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YC.GO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OV.NY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Con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14382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iminating confusio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YC.GO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ite for mayor’s 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Con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14382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iminating confusio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YC.GO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ite for mayor’s 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y Council splits its efforts between  .us  and  .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Con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14382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iminating confusio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OV.NYC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irect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YC.GO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Con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14382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place on the Intern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or the city’s resident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nd organizations 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nd one anoth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N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14382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place on the Internet  where the world can find our resourc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N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14382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ames fo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all Bus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ty and Civ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 for Profi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vidua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91520" y="5595840"/>
            <a:ext cx="1371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Opportunit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pecially for our youth and large immigrant communi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N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14382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7 for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onnecting.nyc Inc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-for-pro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quire &amp; Develop the .nyc T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1438200" cy="10285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N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657600" cy="2476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09480" y="487692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Wiki Front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w.connectingnyc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N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dentit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de in New Y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rom New York C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391520" y="5595840"/>
            <a:ext cx="1371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 the Internet, there is no New York City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391520" y="5595840"/>
            <a:ext cx="1371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                              thing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              fi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fin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thing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7920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.ny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856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York City  18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3886200" y="4114800"/>
            <a:ext cx="9144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7:10:58Z</dcterms:created>
  <dc:creator>tom</dc:creator>
  <dc:description/>
  <dc:language>en-US</dc:language>
  <cp:lastModifiedBy>tom</cp:lastModifiedBy>
  <dcterms:modified xsi:type="dcterms:W3CDTF">2007-07-04T20:01:07Z</dcterms:modified>
  <cp:revision>76</cp:revision>
  <dc:subject/>
  <dc:title>.nyc</dc:title>
</cp:coreProperties>
</file>