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9D8-7D7F-4A97-ACEB-952FC9BC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E1F-7993-4039-9212-9B8B1403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F89-6AE1-43B8-BAAA-17ABB56E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572-7654-4FBF-9F65-1DB23164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FE6-AE89-4BD8-B2D4-515B64CD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B28-5143-4110-B1DD-E28CAD5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661-2CB2-47CD-A1A2-DE97738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B09-2708-42A8-A703-D578D0F6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FB2-E75F-458F-A2F9-5E765229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33E-13CD-45B7-B940-6B4699A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B68-2FAD-4F57-9F6D-194B292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4B0-ECBF-4B67-BCA5-ECDBF0E0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B810-D010-4A1C-ABE2-62EE5DF6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hotelsw.nyc/" TargetMode="External"/><Relationship Id="rId2" Type="http://schemas.openxmlformats.org/officeDocument/2006/relationships/hyperlink" Target="http://www.schools.nyc/" TargetMode="External"/><Relationship Id="rId3" Type="http://schemas.openxmlformats.org/officeDocument/2006/relationships/hyperlink" Target="http://www.hospitals.nyc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947960"/>
            <a:ext cx="37339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anning head, city leaders established a Commission to plan for the fu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created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York City  1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issioners Plan of 18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394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issioners Plan of 18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438280"/>
            <a:ext cx="198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can you see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394080" cy="4496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25146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issioners Plan of 18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8288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d the Manhattan Street G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1474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issioners Plan of 18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grid organiz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made accessi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w York City’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al estate resourc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iz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make accessi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w York City’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resourc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                         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             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fi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 you can find thin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ity has 402 hotel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ogle “NYC hotel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et 50 - 90,000,000 h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 you can find thin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ity has 1,400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ogle “NYC school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et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0 -174,000,000 h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 you can find thin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ity has 120 hospit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ogle “NYC hospital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et 47 - 144,000,000 h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going to make two points: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                         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             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fi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roximi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ic role of the c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’s my city networking map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514600"/>
            <a:ext cx="8229600" cy="2286000"/>
          </a:xfrm>
          <a:prstGeom prst="rect">
            <a:avLst/>
          </a:prstGeom>
          <a:solidFill>
            <a:srgbClr val="969696"/>
          </a:solidFill>
          <a:ln w="85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of all shad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in different way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about 1995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ere globaliz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 more junk ~ ebay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s Holiness ~ pope.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.com TLD globalized NYC’s communic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role of .nyc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reconnect the 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role of .nyc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reestablish its historic r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workshop is entitl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nsumer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nsumer Confu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nsumer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nsumer Confus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3047760"/>
            <a:ext cx="259092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81080" y="3657240"/>
            <a:ext cx="266724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od Domain Na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mor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Resident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Resident Confus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Voter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Voter Confu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Entrepreneur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Entrepreneur Confu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Resident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Resident Confus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ww.hotels.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schools.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www.hospitals.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ing confu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YC.G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V.NY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ing confu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YC.G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e for mayor’s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ing confu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YC.G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e for mayor’s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Council splits its efforts between  .us  and  .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ing confu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V.NY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rect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YC.G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place on the Inter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r the city’s residen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organizations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nd one anot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place on the Internet  where the world can find our resourc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mes fo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and Civ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for Pro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ally for our youth and large immigrant commun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 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nnecting.nyc Inc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-for-pro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quire &amp; Develop the .nyc T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4876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Wiki Front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connectingnyc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dentit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in New Y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m New York 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the Internet, there is no New York City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                         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             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fi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York City  1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886200" y="4114800"/>
            <a:ext cx="9144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7:10:58Z</dcterms:created>
  <dc:creator>tom</dc:creator>
  <dc:description/>
  <dc:language>en-US</dc:language>
  <cp:lastModifiedBy>tom</cp:lastModifiedBy>
  <dcterms:modified xsi:type="dcterms:W3CDTF">2007-07-04T20:01:07Z</dcterms:modified>
  <cp:revision>76</cp:revision>
  <dc:subject/>
  <dc:title>.nyc</dc:title>
</cp:coreProperties>
</file>