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1BD5C-AE9C-4451-81A6-A30C4084D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0" name="PlaceHolder 2"/>
          <p:cNvSpPr>
            <a:spLocks noGrp="1"/>
          </p:cNvSpPr>
          <p:nvPr>
            <p:ph/>
          </p:nvPr>
        </p:nvSpPr>
        <p:spPr>
          <a:xfrm>
            <a:off x="2185920" y="141264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484A3-7C6E-4BC4-A254-06B92CE6F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3"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AB62B-2E3E-4346-9A09-142508A29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8" name="PlaceHolder 2"/>
          <p:cNvSpPr>
            <a:spLocks noGrp="1"/>
          </p:cNvSpPr>
          <p:nvPr>
            <p:ph/>
          </p:nvPr>
        </p:nvSpPr>
        <p:spPr>
          <a:xfrm>
            <a:off x="218592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450180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81804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218592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450180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81804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26106-D2A7-47F8-BB84-F37C83AAC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6944D-0464-4C39-8B5B-4BC052F24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51" name="PlaceHolder 2"/>
          <p:cNvSpPr>
            <a:spLocks noGrp="1"/>
          </p:cNvSpPr>
          <p:nvPr>
            <p:ph type="subTitle"/>
          </p:nvPr>
        </p:nvSpPr>
        <p:spPr>
          <a:xfrm>
            <a:off x="2185920" y="1412640"/>
            <a:ext cx="685008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7483F-2315-4C6C-8747-7E1FBC572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53"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ADA59-AECD-40A4-83A7-3F5A53EAE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55"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60988-5316-49D3-AF7E-63DE3FA9E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BFC8-5DF1-4853-903F-94A4A86BF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85920" y="115560"/>
            <a:ext cx="685008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B5CC4-AEE5-4A7F-BD2E-27EBCF51B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60"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377FC-FFDA-445D-BBBE-E224A7806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9" name="PlaceHolder 2"/>
          <p:cNvSpPr>
            <a:spLocks noGrp="1"/>
          </p:cNvSpPr>
          <p:nvPr>
            <p:ph type="subTitle"/>
          </p:nvPr>
        </p:nvSpPr>
        <p:spPr>
          <a:xfrm>
            <a:off x="2185920" y="1412640"/>
            <a:ext cx="685008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1CBB0-A333-484D-B120-649E0890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64"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C4368-B90D-498F-BFEA-1E1E51FE6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68"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733A-B2E6-4B41-BEB0-3ADF90872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72" name="PlaceHolder 2"/>
          <p:cNvSpPr>
            <a:spLocks noGrp="1"/>
          </p:cNvSpPr>
          <p:nvPr>
            <p:ph/>
          </p:nvPr>
        </p:nvSpPr>
        <p:spPr>
          <a:xfrm>
            <a:off x="2185920" y="141264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45E99-4E9C-4CF4-AF63-197DBE81D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75"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739D7-DE52-47EE-AD7F-B648E5B57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80" name="PlaceHolder 2"/>
          <p:cNvSpPr>
            <a:spLocks noGrp="1"/>
          </p:cNvSpPr>
          <p:nvPr>
            <p:ph/>
          </p:nvPr>
        </p:nvSpPr>
        <p:spPr>
          <a:xfrm>
            <a:off x="218592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450180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818040" y="141264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218592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450180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818040" y="4045680"/>
            <a:ext cx="220536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11968-9EBC-4346-A7AA-C684E02BA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11"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34C15-FCC2-4352-B973-09600A599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13"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3AB7B-BB6B-462B-BE54-F74BFEB34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9B7E-8C3F-423F-8854-35C59CAF8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85920" y="115560"/>
            <a:ext cx="685008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D66E-C2FA-472F-BC55-55E147DC7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18"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569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218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A93A-1606-4557-AD78-B02239AC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22" name="PlaceHolder 2"/>
          <p:cNvSpPr>
            <a:spLocks noGrp="1"/>
          </p:cNvSpPr>
          <p:nvPr>
            <p:ph/>
          </p:nvPr>
        </p:nvSpPr>
        <p:spPr>
          <a:xfrm>
            <a:off x="2185920" y="1412640"/>
            <a:ext cx="334260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5695920" y="404568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50640-A7E6-46AC-B03D-ED682513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c0039"/>
              </a:solidFill>
              <a:latin typeface="Arial"/>
            </a:endParaRPr>
          </a:p>
        </p:txBody>
      </p:sp>
      <p:sp>
        <p:nvSpPr>
          <p:cNvPr id="26" name="PlaceHolder 2"/>
          <p:cNvSpPr>
            <a:spLocks noGrp="1"/>
          </p:cNvSpPr>
          <p:nvPr>
            <p:ph/>
          </p:nvPr>
        </p:nvSpPr>
        <p:spPr>
          <a:xfrm>
            <a:off x="218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5695920" y="1412640"/>
            <a:ext cx="334260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2185920" y="4045680"/>
            <a:ext cx="685008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E221-17ED-4407-8CB0-5E0BB4B48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484000" cy="6858000"/>
            <a:chOff x="0" y="0"/>
            <a:chExt cx="2484000" cy="6858000"/>
          </a:xfrm>
        </p:grpSpPr>
        <p:sp>
          <p:nvSpPr>
            <p:cNvPr id="1" name=""/>
            <p:cNvSpPr/>
            <p:nvPr/>
          </p:nvSpPr>
          <p:spPr>
            <a:xfrm>
              <a:off x="1845360" y="0"/>
              <a:ext cx="63864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1993320" cy="6858000"/>
            </a:xfrm>
            <a:prstGeom prst="rect">
              <a:avLst/>
            </a:prstGeom>
            <a:ln w="0">
              <a:noFill/>
            </a:ln>
          </p:spPr>
        </p:pic>
      </p:grpSp>
      <p:sp>
        <p:nvSpPr>
          <p:cNvPr id="3"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Click to edit the title text format</a:t>
            </a:r>
            <a:endParaRPr b="1" lang="en-US" sz="3600" spc="-1" strike="noStrike">
              <a:solidFill>
                <a:srgbClr val="8c0039"/>
              </a:solidFill>
              <a:latin typeface="Arial"/>
            </a:endParaRPr>
          </a:p>
        </p:txBody>
      </p:sp>
      <p:sp>
        <p:nvSpPr>
          <p:cNvPr id="4" name="PlaceHolder 2"/>
          <p:cNvSpPr>
            <a:spLocks noGrp="1"/>
          </p:cNvSpPr>
          <p:nvPr>
            <p:ph type="body"/>
          </p:nvPr>
        </p:nvSpPr>
        <p:spPr>
          <a:xfrm>
            <a:off x="2185920" y="1412640"/>
            <a:ext cx="6850080" cy="504036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5" name="PlaceHolder 3"/>
          <p:cNvSpPr>
            <a:spLocks noGrp="1"/>
          </p:cNvSpPr>
          <p:nvPr>
            <p:ph type="dt" idx="1"/>
          </p:nvPr>
        </p:nvSpPr>
        <p:spPr>
          <a:xfrm>
            <a:off x="151920" y="6561000"/>
            <a:ext cx="1901880" cy="252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D5FB-B064-40BB-BE44-10D38F349276}" type="datetime">
              <a:rPr b="1"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484000" y="6524280"/>
            <a:ext cx="4824360" cy="289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7451640" y="6524280"/>
            <a:ext cx="1387440" cy="289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E7E3-4779-4DFC-AE5F-EBCC1CE263C8}" type="slidenum">
              <a:rPr b="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F133-EB2E-4322-AEA3-7918061870FF}"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49E9-87FE-4B25-8E28-1B3D2ED7332D}"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7 New gTLDs</a:t>
            </a:r>
            <a:endParaRPr b="1"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gram Status Update</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981080" y="1917720"/>
          <a:ext cx="7128000" cy="3671640"/>
        </p:xfrm>
        <a:graphic>
          <a:graphicData uri="http://schemas.openxmlformats.org/drawingml/2006/table">
            <a:tbl>
              <a:tblPr/>
              <a:tblGrid>
                <a:gridCol w="2376720"/>
                <a:gridCol w="2087640"/>
                <a:gridCol w="2663640"/>
              </a:tblGrid>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onso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Sponsor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estricted</a:t>
                      </a:r>
                      <a:br>
                        <a:rPr sz="2800"/>
                      </a:br>
                      <a:r>
                        <a:rPr b="1" lang="fr-FR" sz="2800" spc="-1" strike="noStrike">
                          <a:solidFill>
                            <a:srgbClr val="000000"/>
                          </a:solidFill>
                          <a:latin typeface="Arial"/>
                        </a:rPr>
                        <a:t>Charter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useum</a:t>
                      </a:r>
                      <a:br>
                        <a:rPr sz="2800"/>
                      </a:br>
                      <a:r>
                        <a:rPr b="1" lang="fr-FR" sz="2800" spc="-1" strike="noStrike">
                          <a:solidFill>
                            <a:srgbClr val="000000"/>
                          </a:solidFill>
                          <a:latin typeface="Arial"/>
                        </a:rPr>
                        <a:t>.aero</a:t>
                      </a:r>
                      <a:br>
                        <a:rPr sz="2800"/>
                      </a:br>
                      <a:r>
                        <a:rPr b="1" lang="fr-FR" sz="2800" spc="-1" strike="noStrike">
                          <a:solidFill>
                            <a:srgbClr val="000000"/>
                          </a:solidFill>
                          <a:latin typeface="Arial"/>
                        </a:rPr>
                        <a:t>.coo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z</a:t>
                      </a:r>
                      <a:br>
                        <a:rPr sz="2800"/>
                      </a:br>
                      <a:r>
                        <a:rPr b="1" lang="en-GB" sz="2800" spc="-1" strike="noStrike">
                          <a:solidFill>
                            <a:srgbClr val="000000"/>
                          </a:solidFill>
                          <a:latin typeface="Arial"/>
                        </a:rPr>
                        <a:t>.name</a:t>
                      </a:r>
                      <a:br>
                        <a:rPr sz="2800"/>
                      </a:br>
                      <a:r>
                        <a:rPr b="1" lang="en-GB" sz="2800" spc="-1" strike="noStrike">
                          <a:solidFill>
                            <a:srgbClr val="000000"/>
                          </a:solidFill>
                          <a:latin typeface="Arial"/>
                        </a:rPr>
                        <a:t>.pr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restricted</a:t>
                      </a:r>
                      <a:br>
                        <a:rPr sz="2800"/>
                      </a:br>
                      <a:r>
                        <a:rPr b="1" lang="fr-FR" sz="2800" spc="-1" strike="noStrike">
                          <a:solidFill>
                            <a:srgbClr val="000000"/>
                          </a:solidFill>
                          <a:latin typeface="Arial"/>
                        </a:rPr>
                        <a:t>UnCharter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f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PlaceHolder 1"/>
          <p:cNvSpPr>
            <a:spLocks noGrp="1"/>
          </p:cNvSpPr>
          <p:nvPr>
            <p:ph type="title"/>
          </p:nvPr>
        </p:nvSpPr>
        <p:spPr>
          <a:xfrm>
            <a:off x="2293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c0039"/>
                </a:solidFill>
                <a:latin typeface="Arial"/>
              </a:rPr>
              <a:t>New gTLDs Program Status Update</a:t>
            </a:r>
            <a:r>
              <a:rPr b="1" lang="en-GB" sz="3600" spc="-1" strike="noStrike">
                <a:solidFill>
                  <a:srgbClr val="8c0039"/>
                </a:solidFill>
                <a:latin typeface="Arial"/>
              </a:rPr>
              <a:t> </a:t>
            </a:r>
            <a:endParaRPr b="1" lang="en-US" sz="3600" spc="-1" strike="noStrike">
              <a:solidFill>
                <a:srgbClr val="8c0039"/>
              </a:solidFill>
              <a:latin typeface="Arial"/>
            </a:endParaRPr>
          </a:p>
        </p:txBody>
      </p:sp>
      <p:sp>
        <p:nvSpPr>
          <p:cNvPr id="3" name="PlaceHolder 2"/>
          <p:cNvSpPr>
            <a:spLocks noGrp="1"/>
          </p:cNvSpPr>
          <p:nvPr>
            <p:ph type="ftr" idx="2"/>
          </p:nvPr>
        </p:nvSpPr>
        <p:spPr/>
        <p:txBody>
          <a:bodyPr/>
          <a:p>
            <a:r>
              <a:t>New gTLDs Program Status Update - Sébastien Bachollet</a:t>
            </a:r>
          </a:p>
        </p:txBody>
      </p:sp>
      <p:sp>
        <p:nvSpPr>
          <p:cNvPr id="4" name="PlaceHolder 3"/>
          <p:cNvSpPr>
            <a:spLocks noGrp="1"/>
          </p:cNvSpPr>
          <p:nvPr>
            <p:ph type="sldNum" idx="3"/>
          </p:nvPr>
        </p:nvSpPr>
        <p:spPr/>
        <p:txBody>
          <a:bodyPr/>
          <a:p>
            <a:fld id="{6357B916-4F18-498B-8ED2-69C327525CCA}" type="slidenum">
              <a:t>2</a:t>
            </a:fld>
          </a:p>
        </p:txBody>
      </p:sp>
      <p:sp>
        <p:nvSpPr>
          <p:cNvPr id="5" name="PlaceHolder 4"/>
          <p:cNvSpPr>
            <a:spLocks noGrp="1"/>
          </p:cNvSpPr>
          <p:nvPr>
            <p:ph type="dt" idx="1"/>
          </p:nvPr>
        </p:nvSpPr>
        <p:spPr/>
        <p:txBody>
          <a:bodyPr/>
          <a:p>
            <a:fld id="{4ABD825C-117F-45AC-A272-2262BF0EFC07}"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c0039"/>
                </a:solidFill>
                <a:latin typeface="Arial"/>
              </a:rPr>
              <a:t>TEAC</a:t>
            </a:r>
            <a:br>
              <a:rPr sz="4000"/>
            </a:br>
            <a:r>
              <a:rPr b="1" lang="en-GB" sz="2800" spc="-1" strike="noStrike">
                <a:solidFill>
                  <a:srgbClr val="8c0039"/>
                </a:solidFill>
                <a:latin typeface="Arial"/>
              </a:rPr>
              <a:t>(TLD Evaluation Advisory Committee)</a:t>
            </a:r>
            <a:endParaRPr b="1" lang="en-US" sz="2800" spc="-1" strike="noStrike">
              <a:solidFill>
                <a:srgbClr val="8c0039"/>
              </a:solidFill>
              <a:latin typeface="Arial"/>
            </a:endParaRPr>
          </a:p>
        </p:txBody>
      </p:sp>
      <p:sp>
        <p:nvSpPr>
          <p:cNvPr id="91" name="PlaceHolder 2"/>
          <p:cNvSpPr>
            <a:spLocks noGrp="1"/>
          </p:cNvSpPr>
          <p:nvPr>
            <p:ph/>
          </p:nvPr>
        </p:nvSpPr>
        <p:spPr>
          <a:xfrm>
            <a:off x="2268000" y="1341360"/>
            <a:ext cx="6705720" cy="5445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e completed and appointed by the President</a:t>
            </a:r>
            <a:endParaRPr b="1" lang="en-US" sz="2800" spc="-1" strike="noStrike">
              <a:solidFill>
                <a:srgbClr val="000000"/>
              </a:solidFill>
              <a:latin typeface="Arial"/>
            </a:endParaRPr>
          </a:p>
          <a:p>
            <a:pPr marL="339480" indent="-33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overall coordination and guidance to the Evaluation Team(s) in conjunction with the Coordinator</a:t>
            </a:r>
            <a:endParaRPr b="1" lang="en-US" sz="2800" spc="-1" strike="noStrike">
              <a:solidFill>
                <a:srgbClr val="000000"/>
              </a:solidFill>
              <a:latin typeface="Arial"/>
            </a:endParaRPr>
          </a:p>
          <a:p>
            <a:pPr marL="339480" indent="-3394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 (as of today): Individuals (primary affiliations)</a:t>
            </a:r>
            <a:endParaRPr b="1" lang="en-US" sz="28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ap Akkerhuis (ccTLD Constituency)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bastien Bachollet (Coordinator)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lyn Cade (Business Constituency)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Heltzer (Intellectual Property Constituency)  </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J Park (Non-Commercial Domain Name Holders Constituency)</a:t>
            </a:r>
            <a:endParaRPr b="1" lang="en-US" sz="2400" spc="-1" strike="noStrike">
              <a:solidFill>
                <a:srgbClr val="000000"/>
              </a:solidFill>
              <a:latin typeface="Arial"/>
            </a:endParaRPr>
          </a:p>
          <a:p>
            <a:pPr lvl="1" marL="735480" indent="-282960">
              <a:lnSpc>
                <a:spcPct val="8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 Twomey (Chai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B2A49B87-6D12-4B9B-B8EC-087D2838AAC9}" type="slidenum">
              <a:t>3</a:t>
            </a:fld>
          </a:p>
        </p:txBody>
      </p:sp>
      <p:sp>
        <p:nvSpPr>
          <p:cNvPr id="6" name="PlaceHolder 5"/>
          <p:cNvSpPr>
            <a:spLocks noGrp="1"/>
          </p:cNvSpPr>
          <p:nvPr>
            <p:ph type="dt" idx="1"/>
          </p:nvPr>
        </p:nvSpPr>
        <p:spPr/>
        <p:txBody>
          <a:bodyPr/>
          <a:p>
            <a:fld id="{78544F2B-3F8A-4B89-AD5E-0D16C8035AD3}"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12 questions to be answered organised in sub-group (1/2)</a:t>
            </a:r>
            <a:endParaRPr b="1" lang="en-US" sz="3600" spc="-1" strike="noStrike">
              <a:solidFill>
                <a:srgbClr val="8c0039"/>
              </a:solidFill>
              <a:latin typeface="Arial"/>
            </a:endParaRPr>
          </a:p>
        </p:txBody>
      </p:sp>
      <p:sp>
        <p:nvSpPr>
          <p:cNvPr id="93"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1: Technical Impact of New TLD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1. Has there been any measurable or otherwise determinable effect on DNS performance, security, and stability with the introduction of the new gTLDs, including any impact on the root server system?</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2: Performance of the DN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2. Have new TLD registries incorporated technologies, including new technologies, that can adversely affect the performance of the DNS, violate DNS technical standards, or cause existing applications to fail?</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3: WhoI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3. To what extent and in what timeframe have the registry operators provided free, realtime access to a fully searchable Whois database?</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4: Competition</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4. What effect have the new gTLDs had on the scope and competitiveness of the domain name market, in terms of opening new markets, and in their effect on existing TLDs and registrants?</a:t>
            </a:r>
            <a:endParaRPr b="1"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group 5: Operational aspects of the start-up phases</a:t>
            </a:r>
            <a:endParaRPr b="1"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1. How effective have start-up mechanisms been in protecting trademark owners against cybersquatting and other abusive registrations?</a:t>
            </a:r>
            <a:endParaRPr b="1" lang="en-US" sz="14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6. How effective were the different start-up mechanisms used, from both a functional and an operational perspective? To what extent did they meet their objectives or, conversely, cause consumer confusion, delays, legal issues, operational problems, or other impediments to smooth implementation?</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68C8C896-12F9-431E-BF8A-779E8987D58C}" type="slidenum">
              <a:t>4</a:t>
            </a:fld>
          </a:p>
        </p:txBody>
      </p:sp>
      <p:sp>
        <p:nvSpPr>
          <p:cNvPr id="6" name="PlaceHolder 5"/>
          <p:cNvSpPr>
            <a:spLocks noGrp="1"/>
          </p:cNvSpPr>
          <p:nvPr>
            <p:ph type="dt" idx="1"/>
          </p:nvPr>
        </p:nvSpPr>
        <p:spPr/>
        <p:txBody>
          <a:bodyPr/>
          <a:p>
            <a:fld id="{2ED4BEF4-1E26-4152-AC14-37D3167E579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12 questions to be answered organised in sub-group (2/2)</a:t>
            </a:r>
            <a:endParaRPr b="1" lang="en-US" sz="3600" spc="-1" strike="noStrike">
              <a:solidFill>
                <a:srgbClr val="8c0039"/>
              </a:solidFill>
              <a:latin typeface="Arial"/>
            </a:endParaRPr>
          </a:p>
        </p:txBody>
      </p:sp>
      <p:sp>
        <p:nvSpPr>
          <p:cNvPr id="95"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6: Legal aspects of the start-up phases</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3. Has there been any unusual number of legal disputes during the start-up period and how well have they been addressed?</a:t>
            </a:r>
            <a:endParaRPr b="1"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 How effective have start-up mechanisms been in protecting trademark owners against cybersquatting and other abusive registrations?</a:t>
            </a:r>
            <a:endParaRPr b="1"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6. How effective were the different start-up mechanisms used, from both a functional and an operational perspective? To what extent did they meet their objectives or, conversely, cause consumer confusion, delays, legal issues, operational problems, or other impediments to smooth implementation?</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7: Legal framework</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1. How well did the agreements provide a framework for implementing the objectives set by the Board?</a:t>
            </a:r>
            <a:endParaRPr b="1"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2. Have the new gTLDs encountered any legal or regulatory problems that were not considered at the outset, and, if so, how could they have been avoided?</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8: Restriction on registration</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 How often and how successfully have advance filtering and other mechanisms for enforcement of registration restrictions been used, both in sponsored gTLDs and in restricted unsponsored gTLDs?</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9: Continuity of service</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5. Are adequate management policies and safeguards in place to ensure protection against accidental or malicious acts that could substantially interfere with continuity of service?</a:t>
            </a:r>
            <a:endParaRPr b="1"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group 10: Process</a:t>
            </a:r>
            <a:endParaRPr b="1"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1. To what extent were the Board's original objectives met through the processes that were used for selection, approval, negotiation, and implementation? How could these processes have been streamlined?</a:t>
            </a: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0CC4B259-8AA3-497D-B3BC-958D098F969B}" type="slidenum">
              <a:t>5</a:t>
            </a:fld>
          </a:p>
        </p:txBody>
      </p:sp>
      <p:sp>
        <p:nvSpPr>
          <p:cNvPr id="6" name="PlaceHolder 5"/>
          <p:cNvSpPr>
            <a:spLocks noGrp="1"/>
          </p:cNvSpPr>
          <p:nvPr>
            <p:ph type="dt" idx="1"/>
          </p:nvPr>
        </p:nvSpPr>
        <p:spPr/>
        <p:txBody>
          <a:bodyPr/>
          <a:p>
            <a:fld id="{D1ECED8D-4225-44E0-866A-D1A1B7764B27}"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85920" y="115560"/>
            <a:ext cx="6850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c0039"/>
                </a:solidFill>
                <a:latin typeface="Arial"/>
              </a:rPr>
              <a:t>Timetable for the Evaluation Plan &amp; TEAC activities</a:t>
            </a:r>
            <a:endParaRPr b="1" lang="en-US" sz="3600" spc="-1" strike="noStrike">
              <a:solidFill>
                <a:srgbClr val="8c0039"/>
              </a:solidFill>
              <a:latin typeface="Arial"/>
            </a:endParaRPr>
          </a:p>
        </p:txBody>
      </p:sp>
      <p:sp>
        <p:nvSpPr>
          <p:cNvPr id="97" name="PlaceHolder 2"/>
          <p:cNvSpPr>
            <a:spLocks noGrp="1"/>
          </p:cNvSpPr>
          <p:nvPr>
            <p:ph/>
          </p:nvPr>
        </p:nvSpPr>
        <p:spPr>
          <a:xfrm>
            <a:off x="2185920" y="1412640"/>
            <a:ext cx="685008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ch to July 2003</a:t>
            </a:r>
            <a:endParaRPr b="1"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 appoints TEAC</a:t>
            </a:r>
            <a:endParaRPr b="1" lang="en-US" sz="20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Plan</a:t>
            </a:r>
            <a:endParaRPr b="1"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 by the TEAC</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Team(s) selected</a:t>
            </a:r>
            <a:endParaRPr b="1" lang="en-US" sz="18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ANN meeting in Montreal</a:t>
            </a:r>
            <a:endParaRPr b="1" lang="en-US" sz="20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 with</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gistries</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rs constituency</a:t>
            </a:r>
            <a:endParaRPr b="1" lang="en-US" sz="1800" spc="-1" strike="noStrike">
              <a:solidFill>
                <a:srgbClr val="000000"/>
              </a:solidFill>
              <a:latin typeface="Arial"/>
            </a:endParaRPr>
          </a:p>
          <a:p>
            <a:pPr lvl="2" marL="1143000" indent="-228600">
              <a:lnSpc>
                <a:spcPct val="80000"/>
              </a:lnSpc>
              <a:spcBef>
                <a:spcPts val="45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constituencies</a:t>
            </a:r>
            <a:endParaRPr b="1" lang="en-US" sz="18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to September 2003</a:t>
            </a:r>
            <a:endParaRPr b="1"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by the evaluation teams</a:t>
            </a:r>
            <a:endParaRPr b="1" lang="en-US" sz="20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tober 2003</a:t>
            </a:r>
            <a:endParaRPr b="1" lang="en-US" sz="2400" spc="-1" strike="noStrike">
              <a:solidFill>
                <a:srgbClr val="000000"/>
              </a:solidFill>
              <a:latin typeface="Arial"/>
            </a:endParaRPr>
          </a:p>
          <a:p>
            <a:pPr lvl="1" marL="743040" indent="-285840">
              <a:lnSpc>
                <a:spcPct val="80000"/>
              </a:lnSpc>
              <a:spcBef>
                <a:spcPts val="4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Final Evaluation report issued for community comment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ew gTLDs Program Status Update - Sébastien Bachollet</a:t>
            </a:r>
          </a:p>
        </p:txBody>
      </p:sp>
      <p:sp>
        <p:nvSpPr>
          <p:cNvPr id="5" name="PlaceHolder 4"/>
          <p:cNvSpPr>
            <a:spLocks noGrp="1"/>
          </p:cNvSpPr>
          <p:nvPr>
            <p:ph type="sldNum" idx="3"/>
          </p:nvPr>
        </p:nvSpPr>
        <p:spPr/>
        <p:txBody>
          <a:bodyPr/>
          <a:p>
            <a:fld id="{D8DA3AF1-765D-44BB-B899-A0F5F5FC2AF3}" type="slidenum">
              <a:t>6</a:t>
            </a:fld>
          </a:p>
        </p:txBody>
      </p:sp>
      <p:sp>
        <p:nvSpPr>
          <p:cNvPr id="6" name="PlaceHolder 5"/>
          <p:cNvSpPr>
            <a:spLocks noGrp="1"/>
          </p:cNvSpPr>
          <p:nvPr>
            <p:ph type="dt" idx="1"/>
          </p:nvPr>
        </p:nvSpPr>
        <p:spPr/>
        <p:txBody>
          <a:bodyPr/>
          <a:p>
            <a:fld id="{3024A8C1-9E80-460E-A9AA-4E616524D80B}"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8:04:19Z</dcterms:created>
  <dc:creator>Sébastien Bachollet</dc:creator>
  <dc:description/>
  <dc:language>en-US</dc:language>
  <cp:lastModifiedBy>connell</cp:lastModifiedBy>
  <dcterms:modified xsi:type="dcterms:W3CDTF">2003-06-25T17:05:50Z</dcterms:modified>
  <cp:revision>73</cp:revision>
  <dc:subject/>
  <dc:title>New gTLDs Evaluation Plan </dc:title>
</cp:coreProperties>
</file>