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396-CA4A-4E8E-8753-C812ABBC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409392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FB4-508E-4126-A387-CBD6BF91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372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8D1-828E-4EAA-A060-82D3E132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94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48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94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48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E2E-BBB4-47C4-ACF3-5C0F7AA7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10B-D15B-49A7-8262-A336E00E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1372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09392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1372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94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48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94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48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EB6-4640-455C-8544-0601ED2C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FB5-DAE4-4F95-A00B-A7090DAB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702-135A-4435-9884-6234A4C8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D7B-6F99-4A9A-A818-E3CE7081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834-F643-43B5-A00B-625AC21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1372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A16-F2AD-4EA2-B1E3-AB973EA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3BD-7808-4939-B7F0-173FAAC9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0" y="6520320"/>
            <a:ext cx="5875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9819-5C3A-4D7A-9121-D2FD21118305}" type="slidenum"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14400" y="1676520"/>
            <a:ext cx="8001000" cy="759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95480"/>
            <a:ext cx="4572000" cy="3962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57200" y="1425240"/>
            <a:ext cx="825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8017200">
            <a:off x="3900600" y="2378520"/>
            <a:ext cx="770040" cy="1508040"/>
          </a:xfrm>
          <a:custGeom>
            <a:avLst/>
            <a:gdLst>
              <a:gd name="textAreaLeft" fmla="*/ 101880 w 770040"/>
              <a:gd name="textAreaRight" fmla="*/ 556200 w 770040"/>
              <a:gd name="textAreaTop" fmla="*/ 378720 h 1508040"/>
              <a:gd name="textAreaBottom" fmla="*/ 1129320 h 15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600" y="2799"/>
                  <a:pt x="15600" y="5080"/>
                  <a:pt x="15600" y="10800"/>
                </a:cubicBezTo>
                <a:cubicBezTo>
                  <a:pt x="15600" y="16520"/>
                  <a:pt x="18600" y="1880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4876920"/>
            <a:ext cx="3809880" cy="759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lac-comments@icann.org" TargetMode="External"/><Relationship Id="rId2" Type="http://schemas.openxmlformats.org/officeDocument/2006/relationships/hyperlink" Target="mailto:alac-comments@icann.org" TargetMode="External"/><Relationship Id="rId3" Type="http://schemas.openxmlformats.org/officeDocument/2006/relationships/hyperlink" Target="mailto:alac-comments@icann.org" TargetMode="External"/><Relationship Id="rId4" Type="http://schemas.openxmlformats.org/officeDocument/2006/relationships/hyperlink" Target="mailto:alac-comments@icann.org" TargetMode="External"/><Relationship Id="rId5" Type="http://schemas.openxmlformats.org/officeDocument/2006/relationships/hyperlink" Target="mailto:alac-comments@icann.org" TargetMode="External"/><Relationship Id="rId6" Type="http://schemas.openxmlformats.org/officeDocument/2006/relationships/hyperlink" Target="mailto:alac-comments@icann.org" TargetMode="External"/><Relationship Id="rId7" Type="http://schemas.openxmlformats.org/officeDocument/2006/relationships/hyperlink" Target="mailto:alac-comments@icann.org" TargetMode="External"/><Relationship Id="rId8" Type="http://schemas.openxmlformats.org/officeDocument/2006/relationships/hyperlink" Target="http://alac.icann.org/" TargetMode="External"/><Relationship Id="rId9" Type="http://schemas.openxmlformats.org/officeDocument/2006/relationships/hyperlink" Target="http://alac.icann.org/" TargetMode="External"/><Relationship Id="rId10" Type="http://schemas.openxmlformats.org/officeDocument/2006/relationships/hyperlink" Target="http://alac.icann.org/" TargetMode="External"/><Relationship Id="rId11" Type="http://schemas.openxmlformats.org/officeDocument/2006/relationships/hyperlink" Target="http://alac.icann.org/" TargetMode="External"/><Relationship Id="rId12" Type="http://schemas.openxmlformats.org/officeDocument/2006/relationships/hyperlink" Target="http://alac.icann.org/" TargetMode="External"/><Relationship Id="rId13" Type="http://schemas.openxmlformats.org/officeDocument/2006/relationships/hyperlink" Target="http://alac.icann.org/" TargetMode="External"/><Relationship Id="rId14" Type="http://schemas.openxmlformats.org/officeDocument/2006/relationships/hyperlink" Target="http://alac.icann.org/" TargetMode="External"/><Relationship Id="rId15" Type="http://schemas.openxmlformats.org/officeDocument/2006/relationships/hyperlink" Target="mailto:forum@alac.icann.org" TargetMode="External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"/>
              </a:rPr>
              <a:t>The At Large Advisory Committe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38610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Vittorio Bertola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ALAC, Chairman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410080"/>
            <a:ext cx="4038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CANN Meet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Rio de Janeiro, 22-26 March 200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Interim ALAC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0 members (2 per Region) appointed by the Transition Board in January 200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frica: Clement Dzidonu (Co-Vice Chair), Pierre Dandjin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sia/Pacific: Hong Xue, Izumi Aiz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urope: Vittorio Bertola (Chair), Thomas Roess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tin America: Erick Iriarte Ahon (Co-Vice Chair), Sebastian Ricciar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North America: Esther Dyson, Wendy Seltz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5 more members to be appointed by Nom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694-4EC4-4EE1-8024-318B454577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The Fundamental Design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dvisory Committee established by the new Byla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ission is to give individual Internet users a specific voice in the ICANN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dvocacy, not re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Rely upon existing organizations and active persons to jumpstart – don’t try to reinvent the whe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et involved with policy-making in the early stages of the process through Task Force and Council liais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74B-63F2-4713-9715-86C44C03E7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ALAC involvement in the process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ppointed 5 voting NomCom deleg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hristian Ahlert (Europe), Leopoldo Brandt (Latin America), 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avan Duggal (Asia / Pacific), Bret Fausett (North America),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idier Kasole (Africa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1 non-voting Board liais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ot y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nt non-voting liaisons to other bod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NSO Council: Thomas Roess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nt liaisons to Task Forc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NSO WHOIS TF: Thomas Roess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NSO UDRP Review TF: Hong X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NSO gTLD Cmt. / TEAC: Wendy Seltz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511-7D04-4E8D-A481-A2D8E0767C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Final ALAC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5 members appointed by the Nom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0 members (2 per Region) (s)elected by the Regional At Large Organ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iaison from the GAC (if they send on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iaisons from other groups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F94-8BC8-46F5-BB8E-A472CC0378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RALOs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egional At Large Organ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erface between ALAC and existing organizations (“at-large structures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ALOs will enter MoUs with ICAN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o be formed; one per Reg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457-84EA-4F98-BC8A-8FB3C11801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At Large Structures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xisting user organ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pen, self-sustai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ocused predominantly on individu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vide local forums for discu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Will undergo accreditation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mputer user associ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nsumers’ associ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ivil society / rights organiz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E8D-915F-4FB8-9787-30C888681C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ALAC immediate agenda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riteria for accreditation of At-Large Struc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uidelines for RALO structure and funding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utreach to potential At-Large Struc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utreach to other parts of ICAN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olicy ques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WHO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ew gTL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NUM (since this morn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3B5-F82E-443A-88F6-B6314A5911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mment / Contact addres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lac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-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omments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@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cann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.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Websi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http://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alac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.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icann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.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org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ublic forums on the webs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forum@alac.icann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BBC-4221-43C6-934E-5E12693FA0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6T18:31:45Z</dcterms:created>
  <dc:creator>Vittorio Bertola</dc:creator>
  <dc:description/>
  <dc:language>en-US</dc:language>
  <cp:lastModifiedBy>Louis Touton</cp:lastModifiedBy>
  <dcterms:modified xsi:type="dcterms:W3CDTF">2003-03-31T15:33:31Z</dcterms:modified>
  <cp:revision>46</cp:revision>
  <dc:subject/>
  <dc:title>Perché gli utenti?</dc:title>
</cp:coreProperties>
</file>