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8778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62000" y="-1800"/>
            <a:ext cx="28782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880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1440" y="940896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E805-33BC-442A-A705-F12CFBC635AA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FAA-F20A-4ACD-9270-020A932B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9F3-89EA-4810-A556-EEA225CC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253-19F0-4DDE-A939-6A4A3C99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248-9E32-4274-A822-B4F21EA8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198-41A3-4A06-AB90-7EC69CEB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56E-AB14-4199-9CB8-D9076A0C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9D5-A759-449E-BA84-802668E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2EF-2E1D-4B5C-AE7B-834C592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56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2FD-06EF-4094-B6CD-B8300A3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E90-00B6-4304-A86D-659DAF8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C8A-3027-4961-8BA7-A3C7ECA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694-4F71-491F-AC46-174EE0B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00320" y="642600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March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640" y="64148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ichard Stast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19640" y="6414840"/>
            <a:ext cx="709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Folie </a:t>
            </a:r>
            <a:fld id="{443B09C2-FE2E-400B-AB77-3758A3B3509E}" type="slidenum">
              <a:rPr b="0" lang="de-DE" sz="1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81640"/>
            <a:ext cx="8372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6.xml"/><Relationship Id="rId21" Type="http://schemas.openxmlformats.org/officeDocument/2006/relationships/slide" Target="slide16.xml"/><Relationship Id="rId22" Type="http://schemas.openxmlformats.org/officeDocument/2006/relationships/slide" Target="slide16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92080" y="2374920"/>
            <a:ext cx="7661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ff"/>
                </a:solidFill>
                <a:latin typeface="Times New Roman"/>
              </a:rPr>
              <a:t>ENUM</a:t>
            </a:r>
            <a:br>
              <a:rPr sz="4400"/>
            </a:br>
            <a:r>
              <a:rPr b="1" lang="de-DE" sz="4000" spc="-1" strike="noStrike">
                <a:solidFill>
                  <a:srgbClr val="ff3300"/>
                </a:solidFill>
                <a:latin typeface="Times New Roman"/>
              </a:rPr>
              <a:t>Austrian and VISIONng Demo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2492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Tahoma"/>
              </a:rPr>
              <a:t>ENUM Informational Up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ICANN</a:t>
            </a:r>
            <a:br>
              <a:rPr sz="3200"/>
            </a:b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25. March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6281640"/>
            <a:ext cx="7861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4165560"/>
            <a:ext cx="4448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Richard STAST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ÖF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el: +43 664 420 41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-Mail: richard.stastny@oefeg.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165560"/>
            <a:ext cx="4448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Rudolf BRAND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el: +49 172 273 9694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-Mail: rudolf.brandner@siemen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A47-0AAD-4543-A548-5888F7BAD77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7480" y="32976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3300"/>
                </a:solidFill>
                <a:latin typeface="Times New Roman"/>
              </a:rPr>
              <a:t>Austrian ENUM Trial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92080" y="6281640"/>
            <a:ext cx="7861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9040" y="2354400"/>
            <a:ext cx="8305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3300"/>
                </a:solidFill>
                <a:latin typeface="Times New Roman"/>
              </a:rPr>
              <a:t>Demo Backup Sl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816-A6D6-43BB-9415-20D39610B6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Content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9476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" action="ppaction://hlinksldjump"/>
              </a:rPr>
              <a:t>ENUM Trial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Welcom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3" action="ppaction://hlinksldjump"/>
              </a:rPr>
              <a:t>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4" action="ppaction://hlinksldjump"/>
              </a:rPr>
              <a:t>ENUM Query via Siemens UK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5" action="ppaction://hlinksldjump"/>
              </a:rPr>
              <a:t>Rok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6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7" action="ppaction://hlinksldjump"/>
              </a:rPr>
              <a:t>Ma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8" action="ppaction://hlinksldjump"/>
              </a:rPr>
              <a:t>Telecom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9" action="ppaction://hlinksldjump"/>
              </a:rPr>
              <a:t>Austria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0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1" action="ppaction://hlinksldjump"/>
              </a:rPr>
              <a:t>Welcom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2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3" action="ppaction://hlinksldjump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4" action="ppaction://hlinksldjump"/>
              </a:rPr>
              <a:t>ENUM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5" action="ppaction://hlinksldjump"/>
              </a:rPr>
              <a:t>Subscriber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6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7" action="ppaction://hlinksldjump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8" action="ppaction://hlinksldjump"/>
              </a:rPr>
              <a:t>Reassuranc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9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0" action="ppaction://hlinksldjump"/>
              </a:rPr>
              <a:t>e-mail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1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2" action="ppaction://hlinksldjump"/>
              </a:rPr>
              <a:t>for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3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4" action="ppaction://hlinksldjump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Validation using Phone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ructured E-Mail to Tier 1 Regi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firmation e-mail to ENUM Subscr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Subscriber Lo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Subscriber edits NAPT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Subscriber commits to EN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User queries with ENUM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User queries with (another) ENUM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ustrian ENUM Web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HOIS qu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627-7D33-418B-96D6-27663C56A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10620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278-7170-42A3-AA28-A03ADD0F5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4213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3FE-3525-41CB-95C3-A1B049A29F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06400" y="304560"/>
            <a:ext cx="7531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Telekom Austria Welcome page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0" b="3824"/>
          <a:stretch/>
        </p:blipFill>
        <p:spPr>
          <a:xfrm>
            <a:off x="1076400" y="1257480"/>
            <a:ext cx="6831000" cy="49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571-99C5-441F-8581-4A8A4F3E94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50840" y="304560"/>
            <a:ext cx="7112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Subscriber Registratio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3662"/>
          <a:stretch/>
        </p:blipFill>
        <p:spPr>
          <a:xfrm>
            <a:off x="1050840" y="1181160"/>
            <a:ext cx="72741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AAF-B99E-464A-8C2B-7D256997B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7600" y="232920"/>
            <a:ext cx="83185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Reassurance e-mail for registration</a:t>
            </a: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Dear user,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you have been successfully registered to the enum trial system with the following data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Max Mustermann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Seering 6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8141 Unterpremstätten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Austri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433168003110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email: max.mustermann@infonova.a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organisation: INFONOV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E164 Numbers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- 433168003110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Awaiting confirmation by the administrator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--------------------------------------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This Mail was generated automatically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please do not reply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31D-1084-4B0E-AB11-FB50700049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alidation using Phone Director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11202" r="0" b="3824"/>
          <a:stretch/>
        </p:blipFill>
        <p:spPr>
          <a:xfrm>
            <a:off x="801720" y="1295280"/>
            <a:ext cx="7540560" cy="480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628-15EE-45F4-85BA-2D6C5BD91A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5360" y="304560"/>
            <a:ext cx="842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Structured e-mail to </a:t>
            </a:r>
            <a:br>
              <a:rPr sz="3600"/>
            </a:b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Tier 1 Registry (nic.at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5000" y="1218960"/>
            <a:ext cx="86806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-----Original Message----- </a:t>
            </a:r>
            <a:br>
              <a:rPr sz="12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From: ENUM System Notifier [mailto:enumtrial@infonova.com]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Sent: Mon 25/11/2002 14:20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To: Administrator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Cc: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Subject: ENUM-ANTRAG 0.0.1.1.3.0.0.8.6.1.3.3.4.e164.arpa</a:t>
            </a:r>
            <a:br>
              <a:rPr sz="1300"/>
            </a:b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===========================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Version: 164.0 (Bitte Versionsnummer NIEMALS loeschen)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===========================</a:t>
            </a:r>
            <a:br>
              <a:rPr sz="1300"/>
            </a:b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OMAIN OBJEC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omain:0.0.1.1.3.0.0.8.6.1.3.3.4.e164.arp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organisation]:INFONOV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name]:Max Mustermann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street address]:Musterstrasse 4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postal code]:8541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city]:Graz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country]:Austri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phone]:031680031100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e-mail]:max.mustermann@hotmail.a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admin-c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tech-c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zone-c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nserver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remarks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nserver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remarks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registrar-id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mnt-by: ENUM-TRIAL-AT-MN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source: ENUM-TRIAL-A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E93-4A7B-445C-8D9F-3282F4EB1C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07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ff"/>
                </a:solidFill>
                <a:latin typeface="Times New Roman"/>
              </a:rPr>
              <a:t>Confirmation Mail to ENUM Subscriber </a:t>
            </a:r>
            <a:br>
              <a:rPr sz="2800"/>
            </a:br>
            <a:r>
              <a:rPr b="1" lang="de-AT" sz="2800" spc="-1" strike="noStrike">
                <a:solidFill>
                  <a:srgbClr val="0000ff"/>
                </a:solidFill>
                <a:latin typeface="Times New Roman"/>
              </a:rPr>
              <a:t>with Login Informa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Dear Max Mustermann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your request for registration was confirmed by the enum syste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Your userdata i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=================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User ID: 00078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Password: lu788dca79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This Mail was generated automatically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please do not repl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--------------------------------------------------------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3E9-D6E7-4292-B067-5A999942E4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Overview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3360" y="1463400"/>
            <a:ext cx="829476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Demonstration of the T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Provis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Call Scen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952-77ED-406D-828A-3CA581F9B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62080" y="304560"/>
            <a:ext cx="6819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UM Subscriber Logi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0" t="0" r="0" b="4371"/>
          <a:stretch/>
        </p:blipFill>
        <p:spPr>
          <a:xfrm>
            <a:off x="1106640" y="1189080"/>
            <a:ext cx="6929280" cy="49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60D-92EF-4548-AE18-7F08706FC1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Subscriber edits NAPTR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1243080" y="1206360"/>
            <a:ext cx="69040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C91-ABF1-4334-BDDB-B2DA00536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636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Subscriber commits to ENUM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1193760" y="1170000"/>
            <a:ext cx="6883560" cy="49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F5C-F659-4CA3-A25B-038CEE7335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799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User queries with ENUM Clien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24589" t="24866" r="24183" b="26505"/>
          <a:stretch/>
        </p:blipFill>
        <p:spPr>
          <a:xfrm>
            <a:off x="1362240" y="1371600"/>
            <a:ext cx="6170400" cy="4394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B2A-C29E-4AF9-801A-C63397E31F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1200" y="304560"/>
            <a:ext cx="784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User queries with Enum Clien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25413" t="24320" r="26025" b="27868"/>
          <a:stretch/>
        </p:blipFill>
        <p:spPr>
          <a:xfrm>
            <a:off x="1434960" y="1311120"/>
            <a:ext cx="6205680" cy="45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751-38B3-4D09-A422-BED1A1CA60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442-F47F-4754-816F-5A59A197BB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User queries with Enum 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5207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F8-2A78-4240-97A4-3FF4C1F652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Provisioning and Quer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552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Webpage http://enum.nic.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Query query via UK Siemens Roke Ma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Registration of an E.164 number by an ENUM subscriber via the web-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Query of ENUM entries via the web-interface by ENUM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odification of ENUM entries via the web-interface by ENUM subscrib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DNS-query of ENUM entries by ENUM User with ENUM client SW and launch of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Query of WHOIS data related to an E.164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DE2-F13B-4F90-9EFC-2D5CD34FF6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Call Scenario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3360" y="1463760"/>
            <a:ext cx="8294760" cy="37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VoIP Call Scenarios without E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VoIP Call Scenarios with E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Query by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Query by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Calls to the 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E0D-5A3B-4CCF-9A42-BD4703EB2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The VISIONng Scenario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80920" y="2374920"/>
            <a:ext cx="67140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3200" y="1773360"/>
            <a:ext cx="7977240" cy="4197240"/>
            <a:chOff x="673200" y="1773360"/>
            <a:chExt cx="7977240" cy="4197240"/>
          </a:xfrm>
        </p:grpSpPr>
        <p:grpSp>
          <p:nvGrpSpPr>
            <p:cNvPr id="67" name=""/>
            <p:cNvGrpSpPr/>
            <p:nvPr/>
          </p:nvGrpSpPr>
          <p:grpSpPr>
            <a:xfrm>
              <a:off x="673200" y="1773360"/>
              <a:ext cx="7977240" cy="4197240"/>
              <a:chOff x="673200" y="1773360"/>
              <a:chExt cx="7977240" cy="41972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5708520" y="3579840"/>
                <a:ext cx="736560" cy="308520"/>
                <a:chOff x="5708520" y="3579840"/>
                <a:chExt cx="736560" cy="3085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708520" y="358128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900400" y="357984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673200" y="1773360"/>
                <a:ext cx="7977240" cy="4197240"/>
                <a:chOff x="673200" y="1773360"/>
                <a:chExt cx="7977240" cy="419724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1104840" y="1773360"/>
                  <a:ext cx="1735200" cy="1024920"/>
                  <a:chOff x="1104840" y="1773360"/>
                  <a:chExt cx="1735200" cy="10249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2100240" y="1773360"/>
                    <a:ext cx="739800" cy="601560"/>
                  </a:xfrm>
                  <a:prstGeom prst="can">
                    <a:avLst>
                      <a:gd name="adj" fmla="val 21666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EN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1104840" y="2374560"/>
                    <a:ext cx="1173240" cy="42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673200" y="2008080"/>
                  <a:ext cx="7977240" cy="3962520"/>
                  <a:chOff x="673200" y="2008080"/>
                  <a:chExt cx="7977240" cy="39625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5873760" y="4475160"/>
                    <a:ext cx="2679840" cy="1495440"/>
                    <a:chOff x="5873760" y="4475160"/>
                    <a:chExt cx="2679840" cy="1495440"/>
                  </a:xfrm>
                </p:grpSpPr>
                <p:graphicFrame>
                  <p:nvGraphicFramePr>
                    <p:cNvPr id="77" name=""/>
                    <p:cNvGraphicFramePr/>
                    <p:nvPr/>
                  </p:nvGraphicFramePr>
                  <p:xfrm>
                    <a:off x="7981920" y="5315040"/>
                    <a:ext cx="571680" cy="536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78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7981920" y="5315040"/>
                              <a:ext cx="571680" cy="536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79" name=""/>
                    <p:cNvGrpSpPr/>
                    <p:nvPr/>
                  </p:nvGrpSpPr>
                  <p:grpSpPr>
                    <a:xfrm>
                      <a:off x="5900760" y="5354640"/>
                      <a:ext cx="1650960" cy="615960"/>
                      <a:chOff x="5900760" y="5354640"/>
                      <a:chExt cx="1650960" cy="615960"/>
                    </a:xfrm>
                  </p:grpSpPr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239160" y="5434200"/>
                        <a:ext cx="99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D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5900760" y="5354640"/>
                        <a:ext cx="1650960" cy="615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7551720" y="5622840"/>
                      <a:ext cx="482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256440" y="4745160"/>
                      <a:ext cx="439560" cy="569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5873760" y="4475160"/>
                      <a:ext cx="736560" cy="308520"/>
                      <a:chOff x="5873760" y="4475160"/>
                      <a:chExt cx="736560" cy="30852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5873760" y="4476600"/>
                        <a:ext cx="7365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G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6065640" y="4475160"/>
                        <a:ext cx="355680" cy="26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" name=""/>
                  <p:cNvGrpSpPr/>
                  <p:nvPr/>
                </p:nvGrpSpPr>
                <p:grpSpPr>
                  <a:xfrm>
                    <a:off x="692280" y="2008080"/>
                    <a:ext cx="7958160" cy="1188720"/>
                    <a:chOff x="692280" y="2008080"/>
                    <a:chExt cx="7958160" cy="1188720"/>
                  </a:xfrm>
                </p:grpSpPr>
                <p:grpSp>
                  <p:nvGrpSpPr>
                    <p:cNvPr id="88" name=""/>
                    <p:cNvGrpSpPr/>
                    <p:nvPr/>
                  </p:nvGrpSpPr>
                  <p:grpSpPr>
                    <a:xfrm>
                      <a:off x="692280" y="2398680"/>
                      <a:ext cx="7958160" cy="798120"/>
                      <a:chOff x="692280" y="2398680"/>
                      <a:chExt cx="7958160" cy="798120"/>
                    </a:xfrm>
                  </p:grpSpPr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922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0344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91" name=""/>
                      <p:cNvGrpSpPr/>
                      <p:nvPr/>
                    </p:nvGrpSpPr>
                    <p:grpSpPr>
                      <a:xfrm>
                        <a:off x="2133720" y="2398680"/>
                        <a:ext cx="4800600" cy="798120"/>
                        <a:chOff x="2133720" y="2398680"/>
                        <a:chExt cx="4800600" cy="798120"/>
                      </a:xfrm>
                    </p:grpSpPr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2133720" y="2398680"/>
                          <a:ext cx="4800600" cy="79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3657600" y="2563200"/>
                          <a:ext cx="1778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Internet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104840" y="2798640"/>
                        <a:ext cx="1365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6507360" y="2798640"/>
                        <a:ext cx="1703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6" name=""/>
                      <p:cNvGrpSpPr/>
                      <p:nvPr/>
                    </p:nvGrpSpPr>
                    <p:grpSpPr>
                      <a:xfrm>
                        <a:off x="5959440" y="2646360"/>
                        <a:ext cx="736560" cy="308520"/>
                        <a:chOff x="5959440" y="2646360"/>
                        <a:chExt cx="736560" cy="308520"/>
                      </a:xfrm>
                    </p:grpSpPr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5959440" y="26478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6151320" y="26463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9" name=""/>
                      <p:cNvGrpSpPr/>
                      <p:nvPr/>
                    </p:nvGrpSpPr>
                    <p:grpSpPr>
                      <a:xfrm>
                        <a:off x="2278080" y="2644560"/>
                        <a:ext cx="736560" cy="308520"/>
                        <a:chOff x="2278080" y="2644560"/>
                        <a:chExt cx="736560" cy="308520"/>
                      </a:xfrm>
                    </p:grpSpPr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2278080" y="26460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2469960" y="26445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3624120" y="2008080"/>
                      <a:ext cx="1989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GK or SIP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2967120" y="2979720"/>
                    <a:ext cx="739800" cy="875880"/>
                    <a:chOff x="2967120" y="2979720"/>
                    <a:chExt cx="739800" cy="8758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2967120" y="2979720"/>
                      <a:ext cx="739800" cy="601560"/>
                    </a:xfrm>
                    <a:prstGeom prst="can">
                      <a:avLst>
                        <a:gd name="adj" fmla="val 21666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ENUM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flipV="1">
                      <a:off x="3032280" y="3585960"/>
                      <a:ext cx="320400" cy="269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lg" type="stealth" w="lg"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692280" y="3516480"/>
                    <a:ext cx="7958160" cy="955080"/>
                    <a:chOff x="692280" y="3516480"/>
                    <a:chExt cx="7958160" cy="955080"/>
                  </a:xfrm>
                </p:grpSpPr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692280" y="3733920"/>
                      <a:ext cx="7958160" cy="737640"/>
                      <a:chOff x="692280" y="3733920"/>
                      <a:chExt cx="7958160" cy="737640"/>
                    </a:xfrm>
                  </p:grpSpPr>
                  <p:grpSp>
                    <p:nvGrpSpPr>
                      <p:cNvPr id="108" name=""/>
                      <p:cNvGrpSpPr/>
                      <p:nvPr/>
                    </p:nvGrpSpPr>
                    <p:grpSpPr>
                      <a:xfrm>
                        <a:off x="692280" y="3733920"/>
                        <a:ext cx="7958160" cy="737640"/>
                        <a:chOff x="692280" y="3733920"/>
                        <a:chExt cx="7958160" cy="737640"/>
                      </a:xfrm>
                    </p:grpSpPr>
                    <p:pic>
                      <p:nvPicPr>
                        <p:cNvPr id="109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8034480" y="385596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10" name=""/>
                        <p:cNvGrpSpPr/>
                        <p:nvPr/>
                      </p:nvGrpSpPr>
                      <p:grpSpPr>
                        <a:xfrm>
                          <a:off x="5370480" y="3855960"/>
                          <a:ext cx="1650960" cy="615600"/>
                          <a:chOff x="5370480" y="3855960"/>
                          <a:chExt cx="1650960" cy="615600"/>
                        </a:xfrm>
                      </p:grpSpPr>
                      <p:sp>
                        <p:nvSpPr>
                          <p:cNvPr id="111" name=""/>
                          <p:cNvSpPr/>
                          <p:nvPr/>
                        </p:nvSpPr>
                        <p:spPr>
                          <a:xfrm>
                            <a:off x="570888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537048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" name=""/>
                        <p:cNvGrpSpPr/>
                        <p:nvPr/>
                      </p:nvGrpSpPr>
                      <p:grpSpPr>
                        <a:xfrm>
                          <a:off x="1973160" y="3855960"/>
                          <a:ext cx="1650960" cy="615600"/>
                          <a:chOff x="1973160" y="3855960"/>
                          <a:chExt cx="1650960" cy="615600"/>
                        </a:xfrm>
                      </p:grpSpPr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231156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5" name=""/>
                          <p:cNvSpPr/>
                          <p:nvPr/>
                        </p:nvSpPr>
                        <p:spPr>
                          <a:xfrm>
                            <a:off x="197316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pic>
                      <p:nvPicPr>
                        <p:cNvPr id="11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92280" y="373392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1263600" y="4157280"/>
                          <a:ext cx="709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657600" y="4170240"/>
                        <a:ext cx="17128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7021440" y="4176360"/>
                        <a:ext cx="1189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773520" y="3516480"/>
                      <a:ext cx="166212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 Back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73200" y="4473720"/>
                    <a:ext cx="5252760" cy="1496880"/>
                    <a:chOff x="673200" y="4473720"/>
                    <a:chExt cx="5252760" cy="1496880"/>
                  </a:xfrm>
                </p:grpSpPr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673200" y="4473720"/>
                      <a:ext cx="2519280" cy="1496880"/>
                      <a:chOff x="673200" y="4473720"/>
                      <a:chExt cx="2519280" cy="1496880"/>
                    </a:xfrm>
                  </p:grpSpPr>
                  <p:graphicFrame>
                    <p:nvGraphicFramePr>
                      <p:cNvPr id="123" name=""/>
                      <p:cNvGraphicFramePr/>
                      <p:nvPr/>
                    </p:nvGraphicFramePr>
                    <p:xfrm>
                      <a:off x="673200" y="5354640"/>
                      <a:ext cx="571320" cy="536400"/>
                    </p:xfrm>
                    <a:graphic>
                      <a:graphicData uri="http://schemas.openxmlformats.org/presentationml/2006/ole">
                        <p:oleObj r:id="rId7" spid="">
                          <p:embed/>
                          <p:pic>
                            <p:nvPicPr>
                              <p:cNvPr id="124" name="" descr=""/>
                              <p:cNvPicPr/>
                              <p:nvPr/>
                            </p:nvPicPr>
                            <p:blipFill>
                              <a:blip r:embed="rId8"/>
                              <a:stretch/>
                            </p:blipFill>
                            <p:spPr>
                              <a:xfrm>
                                <a:off x="673200" y="5354640"/>
                                <a:ext cx="571320" cy="536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pSp>
                    <p:nvGrpSpPr>
                      <p:cNvPr id="125" name=""/>
                      <p:cNvGrpSpPr/>
                      <p:nvPr/>
                    </p:nvGrpSpPr>
                    <p:grpSpPr>
                      <a:xfrm>
                        <a:off x="1541520" y="5354640"/>
                        <a:ext cx="1650960" cy="615960"/>
                        <a:chOff x="1541520" y="5354640"/>
                        <a:chExt cx="1650960" cy="615960"/>
                      </a:xfrm>
                    </p:grpSpPr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1879920" y="5434200"/>
                          <a:ext cx="9903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TDM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1541520" y="5354640"/>
                          <a:ext cx="1650960" cy="61596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2455920" y="4473720"/>
                        <a:ext cx="736560" cy="308520"/>
                        <a:chOff x="2455920" y="4473720"/>
                        <a:chExt cx="736560" cy="308520"/>
                      </a:xfrm>
                    </p:grpSpPr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455920" y="447516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W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47800" y="447372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104840" y="5622840"/>
                        <a:ext cx="436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 flipH="1">
                        <a:off x="2311560" y="4743360"/>
                        <a:ext cx="514080" cy="611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218040" y="5630760"/>
                      <a:ext cx="2707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4" name=""/>
            <p:cNvSpPr/>
            <p:nvPr/>
          </p:nvSpPr>
          <p:spPr>
            <a:xfrm>
              <a:off x="5594400" y="3197160"/>
              <a:ext cx="47160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192480" y="3733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G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4720" y="3732120"/>
            <a:ext cx="355320" cy="2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623760" y="3203640"/>
            <a:ext cx="63180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560" y="4781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9040" y="4121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486-F7B6-4F33-B43C-09C86BC5D4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77880" y="304560"/>
            <a:ext cx="5988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ON Demo Scenario - SIP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58680" y="3429000"/>
            <a:ext cx="2584440" cy="1474920"/>
            <a:chOff x="958680" y="3429000"/>
            <a:chExt cx="2584440" cy="1474920"/>
          </a:xfrm>
        </p:grpSpPr>
        <p:grpSp>
          <p:nvGrpSpPr>
            <p:cNvPr id="142" name=""/>
            <p:cNvGrpSpPr/>
            <p:nvPr/>
          </p:nvGrpSpPr>
          <p:grpSpPr>
            <a:xfrm>
              <a:off x="1892160" y="3429000"/>
              <a:ext cx="1650960" cy="615960"/>
              <a:chOff x="1892160" y="3429000"/>
              <a:chExt cx="1650960" cy="615960"/>
            </a:xfrm>
          </p:grpSpPr>
          <p:sp>
            <p:nvSpPr>
              <p:cNvPr id="143" name=""/>
              <p:cNvSpPr/>
              <p:nvPr/>
            </p:nvSpPr>
            <p:spPr>
              <a:xfrm>
                <a:off x="2230560" y="35085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nic.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92160" y="342900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45" name=""/>
            <p:cNvGraphicFramePr/>
            <p:nvPr/>
          </p:nvGraphicFramePr>
          <p:xfrm>
            <a:off x="958680" y="3429000"/>
            <a:ext cx="571680" cy="53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8680" y="342900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2913120" y="42879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1878120" y="42879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392120" y="371484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247840" y="4044600"/>
              <a:ext cx="24624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913120" y="4044960"/>
              <a:ext cx="13968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58680" y="1333440"/>
            <a:ext cx="2570400" cy="1550880"/>
            <a:chOff x="958680" y="1333440"/>
            <a:chExt cx="2570400" cy="1550880"/>
          </a:xfrm>
        </p:grpSpPr>
        <p:grpSp>
          <p:nvGrpSpPr>
            <p:cNvPr id="153" name=""/>
            <p:cNvGrpSpPr/>
            <p:nvPr/>
          </p:nvGrpSpPr>
          <p:grpSpPr>
            <a:xfrm>
              <a:off x="1878120" y="2268360"/>
              <a:ext cx="1650960" cy="615960"/>
              <a:chOff x="1878120" y="2268360"/>
              <a:chExt cx="1650960" cy="615960"/>
            </a:xfrm>
          </p:grpSpPr>
          <p:sp>
            <p:nvSpPr>
              <p:cNvPr id="154" name=""/>
              <p:cNvSpPr/>
              <p:nvPr/>
            </p:nvSpPr>
            <p:spPr>
              <a:xfrm>
                <a:off x="2050920" y="2347920"/>
                <a:ext cx="131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pulver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78120" y="226836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6" name=""/>
            <p:cNvGraphicFramePr/>
            <p:nvPr/>
          </p:nvGraphicFramePr>
          <p:xfrm>
            <a:off x="958680" y="2287440"/>
            <a:ext cx="571680" cy="53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58680" y="2287440"/>
                      <a:ext cx="57168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174312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274788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38400" y="1824120"/>
              <a:ext cx="2952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823840" y="1824120"/>
              <a:ext cx="16668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3280" y="255600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554800" y="3573360"/>
            <a:ext cx="3033720" cy="1405080"/>
            <a:chOff x="5554800" y="3573360"/>
            <a:chExt cx="3033720" cy="1405080"/>
          </a:xfrm>
        </p:grpSpPr>
        <p:grpSp>
          <p:nvGrpSpPr>
            <p:cNvPr id="164" name=""/>
            <p:cNvGrpSpPr/>
            <p:nvPr/>
          </p:nvGrpSpPr>
          <p:grpSpPr>
            <a:xfrm>
              <a:off x="5554800" y="3573360"/>
              <a:ext cx="1650960" cy="615960"/>
              <a:chOff x="5554800" y="3573360"/>
              <a:chExt cx="1650960" cy="615960"/>
            </a:xfrm>
          </p:grpSpPr>
          <p:sp>
            <p:nvSpPr>
              <p:cNvPr id="165" name=""/>
              <p:cNvSpPr/>
              <p:nvPr/>
            </p:nvSpPr>
            <p:spPr>
              <a:xfrm>
                <a:off x="5727600" y="3652920"/>
                <a:ext cx="13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telekom.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54800" y="357336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7904160" y="3618000"/>
            <a:ext cx="571680" cy="536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04160" y="361800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7972560" y="4362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205760" y="3886200"/>
              <a:ext cx="8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7760" y="4056120"/>
              <a:ext cx="96048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5320" y="1333440"/>
            <a:ext cx="2855880" cy="1550880"/>
            <a:chOff x="5575320" y="1333440"/>
            <a:chExt cx="2855880" cy="1550880"/>
          </a:xfrm>
        </p:grpSpPr>
        <p:grpSp>
          <p:nvGrpSpPr>
            <p:cNvPr id="173" name=""/>
            <p:cNvGrpSpPr/>
            <p:nvPr/>
          </p:nvGrpSpPr>
          <p:grpSpPr>
            <a:xfrm>
              <a:off x="5575320" y="2268360"/>
              <a:ext cx="1650960" cy="615960"/>
              <a:chOff x="5575320" y="2268360"/>
              <a:chExt cx="1650960" cy="615960"/>
            </a:xfrm>
          </p:grpSpPr>
          <p:sp>
            <p:nvSpPr>
              <p:cNvPr id="174" name=""/>
              <p:cNvSpPr/>
              <p:nvPr/>
            </p:nvSpPr>
            <p:spPr>
              <a:xfrm>
                <a:off x="5913720" y="234792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iptel.or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75320" y="226836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6" name=""/>
            <p:cNvGraphicFramePr/>
            <p:nvPr/>
          </p:nvGraphicFramePr>
          <p:xfrm>
            <a:off x="7859880" y="2287440"/>
            <a:ext cx="571320" cy="536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859880" y="2287440"/>
                      <a:ext cx="57132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8" name="" descr=""/>
            <p:cNvPicPr/>
            <p:nvPr/>
          </p:nvPicPr>
          <p:blipFill>
            <a:blip r:embed="rId14"/>
            <a:stretch/>
          </p:blipFill>
          <p:spPr>
            <a:xfrm>
              <a:off x="673272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5"/>
            <a:stretch/>
          </p:blipFill>
          <p:spPr>
            <a:xfrm>
              <a:off x="572760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234200" y="2567160"/>
              <a:ext cx="7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53120" y="1835280"/>
              <a:ext cx="190440" cy="4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688080" y="1824120"/>
              <a:ext cx="22392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5600" y="2657520"/>
            <a:ext cx="2087640" cy="1119240"/>
            <a:chOff x="3495600" y="2657520"/>
            <a:chExt cx="2087640" cy="1119240"/>
          </a:xfrm>
        </p:grpSpPr>
        <p:grpSp>
          <p:nvGrpSpPr>
            <p:cNvPr id="184" name=""/>
            <p:cNvGrpSpPr/>
            <p:nvPr/>
          </p:nvGrpSpPr>
          <p:grpSpPr>
            <a:xfrm>
              <a:off x="3746520" y="2892600"/>
              <a:ext cx="1650960" cy="615600"/>
              <a:chOff x="3746520" y="2892600"/>
              <a:chExt cx="1650960" cy="615600"/>
            </a:xfrm>
          </p:grpSpPr>
          <p:sp>
            <p:nvSpPr>
              <p:cNvPr id="185" name=""/>
              <p:cNvSpPr/>
              <p:nvPr/>
            </p:nvSpPr>
            <p:spPr>
              <a:xfrm>
                <a:off x="4084920" y="29718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46520" y="2892600"/>
                <a:ext cx="1650960" cy="615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95600" y="2657520"/>
              <a:ext cx="5000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529080" y="3429000"/>
              <a:ext cx="4665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74920" y="2657520"/>
              <a:ext cx="50796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5280" y="3429000"/>
              <a:ext cx="5079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44480" y="2787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8840" y="1468440"/>
            <a:ext cx="8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22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63840" y="1457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226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tas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400" y="39956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42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960" y="5270400"/>
            <a:ext cx="42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WD - FWD: 16241 dials 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960" y="5781600"/>
            <a:ext cx="49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nic.at - FWD: stastny dials 19824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endCxn id="159" idx="2"/>
          </p:cNvCxnSpPr>
          <p:nvPr/>
        </p:nvCxnSpPr>
        <p:spPr>
          <a:xfrm flipV="1">
            <a:off x="1530360" y="1948680"/>
            <a:ext cx="1526400" cy="60732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cxnSp>
        <p:nvCxnSpPr>
          <p:cNvPr id="200" name=""/>
          <p:cNvCxnSpPr>
            <a:stCxn id="148" idx="3"/>
          </p:cNvCxnSpPr>
          <p:nvPr/>
        </p:nvCxnSpPr>
        <p:spPr>
          <a:xfrm flipV="1">
            <a:off x="2493720" y="1948680"/>
            <a:ext cx="727560" cy="264708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CB8-E973-4E31-BB40-65A889C3A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8360" y="304560"/>
            <a:ext cx="802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ON Demo Scenario – SIP +ENUM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78120" y="2268360"/>
            <a:ext cx="1650960" cy="615960"/>
            <a:chOff x="1878120" y="2268360"/>
            <a:chExt cx="1650960" cy="615960"/>
          </a:xfrm>
        </p:grpSpPr>
        <p:sp>
          <p:nvSpPr>
            <p:cNvPr id="203" name=""/>
            <p:cNvSpPr/>
            <p:nvPr/>
          </p:nvSpPr>
          <p:spPr>
            <a:xfrm>
              <a:off x="2050920" y="234792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781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575320" y="2268360"/>
            <a:ext cx="1650960" cy="615960"/>
            <a:chOff x="5575320" y="2268360"/>
            <a:chExt cx="1650960" cy="615960"/>
          </a:xfrm>
        </p:grpSpPr>
        <p:sp>
          <p:nvSpPr>
            <p:cNvPr id="206" name=""/>
            <p:cNvSpPr/>
            <p:nvPr/>
          </p:nvSpPr>
          <p:spPr>
            <a:xfrm>
              <a:off x="5913720" y="2347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ptel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753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892160" y="3429000"/>
            <a:ext cx="1650960" cy="615960"/>
            <a:chOff x="1892160" y="3429000"/>
            <a:chExt cx="1650960" cy="615960"/>
          </a:xfrm>
        </p:grpSpPr>
        <p:sp>
          <p:nvSpPr>
            <p:cNvPr id="209" name=""/>
            <p:cNvSpPr/>
            <p:nvPr/>
          </p:nvSpPr>
          <p:spPr>
            <a:xfrm>
              <a:off x="2230560" y="3508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nic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2160" y="342900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554800" y="3573360"/>
            <a:ext cx="1650960" cy="615960"/>
            <a:chOff x="5554800" y="3573360"/>
            <a:chExt cx="1650960" cy="615960"/>
          </a:xfrm>
        </p:grpSpPr>
        <p:sp>
          <p:nvSpPr>
            <p:cNvPr id="212" name=""/>
            <p:cNvSpPr/>
            <p:nvPr/>
          </p:nvSpPr>
          <p:spPr>
            <a:xfrm>
              <a:off x="5727600" y="365292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elekom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54800" y="3573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958680" y="3429000"/>
          <a:ext cx="57168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429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913120" y="4287960"/>
            <a:ext cx="615960" cy="6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958680" y="2287440"/>
          <a:ext cx="571680" cy="53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8680" y="2287440"/>
                    <a:ext cx="5716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859880" y="2287440"/>
          <a:ext cx="571320" cy="5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9880" y="2287440"/>
                    <a:ext cx="571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7904160" y="3618000"/>
          <a:ext cx="571680" cy="53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04160" y="3618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1878120" y="4287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17431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274788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7972560" y="436248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67327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5"/>
          <a:stretch/>
        </p:blipFill>
        <p:spPr>
          <a:xfrm>
            <a:off x="5727600" y="1333440"/>
            <a:ext cx="615960" cy="615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92120" y="371484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247840" y="4044600"/>
            <a:ext cx="24624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13120" y="4044960"/>
            <a:ext cx="1396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8400" y="1824120"/>
            <a:ext cx="2952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23840" y="1824120"/>
            <a:ext cx="16668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255600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4200" y="2567160"/>
            <a:ext cx="7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5760" y="3886200"/>
            <a:ext cx="8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53120" y="1835280"/>
            <a:ext cx="19044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88080" y="1824120"/>
            <a:ext cx="22392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97760" y="4056120"/>
            <a:ext cx="960480" cy="6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46520" y="2892600"/>
            <a:ext cx="1650960" cy="615600"/>
            <a:chOff x="3746520" y="2892600"/>
            <a:chExt cx="1650960" cy="615600"/>
          </a:xfrm>
        </p:grpSpPr>
        <p:sp>
          <p:nvSpPr>
            <p:cNvPr id="241" name=""/>
            <p:cNvSpPr/>
            <p:nvPr/>
          </p:nvSpPr>
          <p:spPr>
            <a:xfrm>
              <a:off x="4084920" y="29718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520" y="2892600"/>
              <a:ext cx="1650960" cy="615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495600" y="2657520"/>
            <a:ext cx="5000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29080" y="3429000"/>
            <a:ext cx="4665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074920" y="2657520"/>
            <a:ext cx="50796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5280" y="3429000"/>
            <a:ext cx="50796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02280" y="2112840"/>
            <a:ext cx="739440" cy="60192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0920" y="1824120"/>
            <a:ext cx="98136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20920" y="2567160"/>
            <a:ext cx="981360" cy="9410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941720" y="1743120"/>
            <a:ext cx="878040" cy="604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41720" y="2476440"/>
            <a:ext cx="641520" cy="73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41720" y="2567160"/>
            <a:ext cx="1211400" cy="1050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363840" y="2714760"/>
            <a:ext cx="1042920" cy="1882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4480" y="2787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8840" y="1468440"/>
            <a:ext cx="8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22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63840" y="1457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226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tas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00" y="39956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242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5880" y="52704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 queries ENUM for +87810 87810 87810, gets 19824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575136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or mah dials +87810 87810 87810, nic.at queries ENUM, gets 19824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16" idx="3"/>
            <a:endCxn id="248" idx="0"/>
          </p:cNvCxnSpPr>
          <p:nvPr/>
        </p:nvCxnSpPr>
        <p:spPr>
          <a:xfrm flipH="1" flipV="1">
            <a:off x="3220560" y="1823760"/>
            <a:ext cx="308880" cy="2772000"/>
          </a:xfrm>
          <a:prstGeom prst="curvedConnector5">
            <a:avLst>
              <a:gd name="adj1" fmla="val -292765"/>
              <a:gd name="adj2" fmla="val 41291"/>
              <a:gd name="adj3" fmla="val -292765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cxnSp>
        <p:nvCxnSpPr>
          <p:cNvPr id="263" name=""/>
          <p:cNvCxnSpPr>
            <a:endCxn id="225" idx="2"/>
          </p:cNvCxnSpPr>
          <p:nvPr/>
        </p:nvCxnSpPr>
        <p:spPr>
          <a:xfrm flipV="1">
            <a:off x="1530360" y="1948680"/>
            <a:ext cx="1526400" cy="174852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91D-96A2-48CD-B6C4-E9208C464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33360" y="3045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ON Demo Scenario - PSTN 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8120" y="2268360"/>
            <a:ext cx="1650960" cy="615960"/>
            <a:chOff x="1878120" y="2268360"/>
            <a:chExt cx="1650960" cy="615960"/>
          </a:xfrm>
        </p:grpSpPr>
        <p:sp>
          <p:nvSpPr>
            <p:cNvPr id="266" name=""/>
            <p:cNvSpPr/>
            <p:nvPr/>
          </p:nvSpPr>
          <p:spPr>
            <a:xfrm>
              <a:off x="2050920" y="234792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781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575320" y="2268360"/>
            <a:ext cx="1650960" cy="615960"/>
            <a:chOff x="5575320" y="2268360"/>
            <a:chExt cx="1650960" cy="615960"/>
          </a:xfrm>
        </p:grpSpPr>
        <p:sp>
          <p:nvSpPr>
            <p:cNvPr id="269" name=""/>
            <p:cNvSpPr/>
            <p:nvPr/>
          </p:nvSpPr>
          <p:spPr>
            <a:xfrm>
              <a:off x="5913720" y="2347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ptel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3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92160" y="3429000"/>
            <a:ext cx="1650960" cy="615960"/>
            <a:chOff x="1892160" y="3429000"/>
            <a:chExt cx="1650960" cy="615960"/>
          </a:xfrm>
        </p:grpSpPr>
        <p:sp>
          <p:nvSpPr>
            <p:cNvPr id="272" name=""/>
            <p:cNvSpPr/>
            <p:nvPr/>
          </p:nvSpPr>
          <p:spPr>
            <a:xfrm>
              <a:off x="2230560" y="3508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nic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2160" y="342900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83240" y="4440240"/>
            <a:ext cx="1650960" cy="615960"/>
            <a:chOff x="5583240" y="4440240"/>
            <a:chExt cx="1650960" cy="615960"/>
          </a:xfrm>
        </p:grpSpPr>
        <p:sp>
          <p:nvSpPr>
            <p:cNvPr id="275" name=""/>
            <p:cNvSpPr/>
            <p:nvPr/>
          </p:nvSpPr>
          <p:spPr>
            <a:xfrm>
              <a:off x="5756040" y="451980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elekom.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3240" y="444024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554800" y="3573360"/>
            <a:ext cx="1650960" cy="615960"/>
            <a:chOff x="5554800" y="3573360"/>
            <a:chExt cx="1650960" cy="615960"/>
          </a:xfrm>
        </p:grpSpPr>
        <p:sp>
          <p:nvSpPr>
            <p:cNvPr id="278" name=""/>
            <p:cNvSpPr/>
            <p:nvPr/>
          </p:nvSpPr>
          <p:spPr>
            <a:xfrm>
              <a:off x="5727600" y="365292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elekom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4800" y="3573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83240" y="5354640"/>
            <a:ext cx="1650960" cy="615960"/>
            <a:chOff x="5583240" y="5354640"/>
            <a:chExt cx="1650960" cy="615960"/>
          </a:xfrm>
        </p:grpSpPr>
        <p:sp>
          <p:nvSpPr>
            <p:cNvPr id="281" name=""/>
            <p:cNvSpPr/>
            <p:nvPr/>
          </p:nvSpPr>
          <p:spPr>
            <a:xfrm>
              <a:off x="5921640" y="54342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3240" y="535464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958680" y="3429000"/>
          <a:ext cx="57168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429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913120" y="4287960"/>
            <a:ext cx="615960" cy="6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958680" y="2287440"/>
          <a:ext cx="571680" cy="53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8680" y="2287440"/>
                    <a:ext cx="5716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859880" y="2287440"/>
          <a:ext cx="571320" cy="5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9880" y="2287440"/>
                    <a:ext cx="571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7904160" y="3618000"/>
          <a:ext cx="571680" cy="53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04160" y="3618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10"/>
          <a:stretch/>
        </p:blipFill>
        <p:spPr>
          <a:xfrm>
            <a:off x="1878120" y="4287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17431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2"/>
          <a:stretch/>
        </p:blipFill>
        <p:spPr>
          <a:xfrm>
            <a:off x="274788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3"/>
          <a:stretch/>
        </p:blipFill>
        <p:spPr>
          <a:xfrm>
            <a:off x="7972560" y="436248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4"/>
          <a:stretch/>
        </p:blipFill>
        <p:spPr>
          <a:xfrm>
            <a:off x="67327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5"/>
          <a:stretch/>
        </p:blipFill>
        <p:spPr>
          <a:xfrm>
            <a:off x="5727600" y="1333440"/>
            <a:ext cx="615960" cy="615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392120" y="371484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247840" y="4044600"/>
            <a:ext cx="24624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913120" y="4044960"/>
            <a:ext cx="1396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8400" y="1824120"/>
            <a:ext cx="2952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23840" y="1824120"/>
            <a:ext cx="16668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255600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4200" y="2567160"/>
            <a:ext cx="7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05760" y="3886200"/>
            <a:ext cx="8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53120" y="1835280"/>
            <a:ext cx="19044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688080" y="1824120"/>
            <a:ext cx="22392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97760" y="4056120"/>
            <a:ext cx="87480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746520" y="2892600"/>
            <a:ext cx="1650960" cy="615600"/>
            <a:chOff x="3746520" y="2892600"/>
            <a:chExt cx="1650960" cy="615600"/>
          </a:xfrm>
        </p:grpSpPr>
        <p:sp>
          <p:nvSpPr>
            <p:cNvPr id="310" name=""/>
            <p:cNvSpPr/>
            <p:nvPr/>
          </p:nvSpPr>
          <p:spPr>
            <a:xfrm>
              <a:off x="4084920" y="29718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46520" y="2892600"/>
              <a:ext cx="1650960" cy="615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495600" y="2657520"/>
            <a:ext cx="5000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529080" y="3429000"/>
            <a:ext cx="4665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074920" y="2657520"/>
            <a:ext cx="50796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75280" y="3429000"/>
            <a:ext cx="50796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405480" y="418896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02240" y="505584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058240" y="5354640"/>
          <a:ext cx="571320" cy="536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058240" y="5354640"/>
                    <a:ext cx="5713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7234200" y="5637240"/>
            <a:ext cx="9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2280" y="2112840"/>
            <a:ext cx="739440" cy="60192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20920" y="1824120"/>
            <a:ext cx="98136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20920" y="2567160"/>
            <a:ext cx="981360" cy="9410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941720" y="1743120"/>
            <a:ext cx="878040" cy="604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41720" y="2476440"/>
            <a:ext cx="641520" cy="73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41720" y="2567160"/>
            <a:ext cx="1211400" cy="1050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363840" y="2714760"/>
            <a:ext cx="1042920" cy="1882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7880" y="5249880"/>
            <a:ext cx="52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 dials +87810 87810 87810, nic.at queries ENUM, gets +43 664 420 4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endCxn id="279" idx="1"/>
          </p:cNvCxnSpPr>
          <p:nvPr/>
        </p:nvCxnSpPr>
        <p:spPr>
          <a:xfrm flipV="1">
            <a:off x="1530000" y="3663720"/>
            <a:ext cx="4266360" cy="33840"/>
          </a:xfrm>
          <a:prstGeom prst="curvedConnector5">
            <a:avLst>
              <a:gd name="adj1" fmla="val 47147"/>
              <a:gd name="adj2" fmla="val 527956"/>
              <a:gd name="adj3" fmla="val 47147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cxnSp>
        <p:nvCxnSpPr>
          <p:cNvPr id="330" name=""/>
          <p:cNvCxnSpPr>
            <a:stCxn id="279" idx="1"/>
          </p:cNvCxnSpPr>
          <p:nvPr/>
        </p:nvCxnSpPr>
        <p:spPr>
          <a:xfrm flipH="1" rot="16200000">
            <a:off x="5947560" y="3511080"/>
            <a:ext cx="1959480" cy="2262960"/>
          </a:xfrm>
          <a:prstGeom prst="curvedConnector5">
            <a:avLst>
              <a:gd name="adj1" fmla="val 92686"/>
              <a:gd name="adj2" fmla="val 2482"/>
              <a:gd name="adj3" fmla="val 92686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331" name=""/>
          <p:cNvSpPr/>
          <p:nvPr/>
        </p:nvSpPr>
        <p:spPr>
          <a:xfrm>
            <a:off x="7032600" y="5891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+43 664 420 4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4480" y="2787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88840" y="1468440"/>
            <a:ext cx="8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22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63840" y="1457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226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tas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6400" y="39956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242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D75-940C-4DA4-80F4-637DF3F64D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Times New Roman"/>
              </a:rPr>
              <a:t>The END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3300"/>
                </a:solidFill>
                <a:latin typeface="Tahom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6330960"/>
            <a:ext cx="22860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BEE-5363-499D-A634-8237D84EF7AD}" type="slidenum">
              <a:t>9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udolf Brandner, Richard Stastny</dc:creator>
  <dc:description>Rio de Janiero
25. March 2003</dc:description>
  <dc:language>en-US</dc:language>
  <cp:lastModifiedBy>Louis Touton</cp:lastModifiedBy>
  <cp:lastPrinted>1999-02-24T12:58:28Z</cp:lastPrinted>
  <dcterms:modified xsi:type="dcterms:W3CDTF">2003-03-31T16:18:54Z</dcterms:modified>
  <cp:revision>386</cp:revision>
  <dc:subject>ICANN - ENUM Informational Update</dc:subject>
  <dc:title>ENUM - Austrian and VISIONng Demo</dc:title>
</cp:coreProperties>
</file>