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525-2DB5-497B-94F6-C9CFA0DD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301-838C-4DC3-977F-979FF82D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405-999E-47A8-951D-59188028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0F1-902F-4B77-9997-5CA1EA3E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6322-2FAD-4060-BBBF-BC72B03F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0B4B-8F34-42B5-B173-DBB0A3BC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0013-85C1-4838-9D40-A30385DB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8646-415B-4152-B9C9-19721A83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FD9A-0BCA-4214-8A9E-D866E343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70F7-FC83-48F2-AA9E-3F127CA6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83F2-2DE5-4BCD-ACFC-1C8598B4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5EC-67FB-4EB9-B5F9-1F9AA030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82E7-097B-4854-AFBB-342EF75A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C39C-C9B7-482E-8315-22702667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88FB-6554-441D-95CF-1D2E486B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7FE7-F737-46E6-BC57-5B686C10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1A5B-0882-45D8-B6E9-A7076752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A8D-997A-4A07-A2B0-AD45406C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C8E-5715-422C-B32D-35B4DE23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F7B-5344-4633-A586-0F6DB52B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366-0419-49B1-8709-2D618BC8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947-39F6-454A-93B0-D5DF881A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6A4-CE7D-4E8D-A583-49FAA98C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58B-FD0D-47C0-AE77-17833A3C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0" y="1295280"/>
            <a:ext cx="4572000" cy="312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95280"/>
            <a:ext cx="9144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54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548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548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548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548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A95A-7459-4D02-B0FE-911D657F0D07}" type="slidenum">
              <a:rPr b="0" lang="en-US" sz="1400" spc="-1" strike="noStrike">
                <a:solidFill>
                  <a:srgbClr val="2b548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1295280"/>
            <a:ext cx="4572000" cy="312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95280"/>
            <a:ext cx="9144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54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548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548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548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548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9A51-23D0-4310-A3C9-D7452220B990}" type="slidenum">
              <a:rPr b="0" lang="en-US" sz="1400" spc="-1" strike="noStrike">
                <a:solidFill>
                  <a:srgbClr val="2b548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etf.org/1id-abstracts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An IETF view of ENUM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Geoff Huston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Executive Director,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Internet Architecture Board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5448240"/>
            <a:ext cx="676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b5481"/>
                </a:solidFill>
                <a:latin typeface="Tahoma"/>
              </a:rPr>
              <a:t>Presented at ICANN, Rio de Janiero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b5481"/>
                </a:solidFill>
                <a:latin typeface="Tahoma"/>
              </a:rPr>
              <a:t>by Richard Stast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NUM (cont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0320" y="1346040"/>
          <a:ext cx="4959360" cy="531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0320" y="1346040"/>
                    <a:ext cx="495936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NUM (cont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59000" y="1486080"/>
          <a:ext cx="462600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9000" y="1486080"/>
                    <a:ext cx="46260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Why ENUM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Because tpc.int did not work!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tpc.int (c 1992) mapped E.164 numbers to A records (IP addresses) to emulate fax delivery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ach new service required a new E.164 -&gt; IP address mapping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Did not scale to multiple services using a single mapping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NUM is part of a broader IETF approach of splitting out the components of VOIP / PSTN interaction into discrete efforts and addressing each component as a discrete technology standardization effort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NUM is not an end in itself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Good Bits of ENUM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164.arpa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Single mapping that is service independent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ach mapping can be associated with a collection of URI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The mapping may be statically configured or dynamically generated (or both)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ach end point of the DNS hierarchy populates the entry with desired service entrie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ach application selects compatible service entries from the set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NUM is independent of directory, call control, routing and transport consideration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Its just a mapping from the E.164 domain into multiple URI service domain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Not So Good Bi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he DNS is an issue in itself……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DNS is insecure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2" marL="982800" indent="-19656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TSIG, DNSSEC, PKI, etc may help, but when and how much?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DNS is variably timed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DNS is generally not well maintained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DNS is generally not well synchronized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There is no “DNS says ‘no’”, only an indistinct timeout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Putting regular expressions in the DNS is an fascinating complication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But we have nothing better in terms of a very large distributed database to poke towards this problem space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Remember: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The DNS is a lousy kitchen sink. We have seen many proposals to “just put it in the DNS”. Be very concerned whenever you hear this!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ENUM is NOT everything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In particular, ENUM is NOT: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 directory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 search service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 transport service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 voice encoding method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 rendezvous protocol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ll ENUM is a distributed partial mapping from E.164 addresses into a set of service points identified via a URI labelling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VOIP Gateway Model for enu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Most IETF work these days assumes a ‘reference architecture’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ENUM’s core reference architecture is VOIP-to-VOIP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43" name="Cloud"/>
          <p:cNvSpPr/>
          <p:nvPr/>
        </p:nvSpPr>
        <p:spPr>
          <a:xfrm>
            <a:off x="2963880" y="5100480"/>
            <a:ext cx="2986200" cy="1101960"/>
          </a:xfrm>
          <a:prstGeom prst="pie">
            <a:avLst/>
          </a:prstGeom>
          <a:solidFill>
            <a:srgbClr val="e4e6fc"/>
          </a:solidFill>
          <a:ln w="9360">
            <a:solidFill>
              <a:srgbClr val="2b548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40160" y="4173120"/>
            <a:ext cx="790560" cy="9954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287600" y="4172040"/>
            <a:ext cx="1414440" cy="75096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265280" y="4183200"/>
            <a:ext cx="252360" cy="8316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16240" y="4916520"/>
            <a:ext cx="363600" cy="762120"/>
          </a:xfrm>
          <a:prstGeom prst="rect">
            <a:avLst/>
          </a:prstGeom>
          <a:ln w="0">
            <a:noFill/>
          </a:ln>
        </p:spPr>
      </p:pic>
      <p:sp>
        <p:nvSpPr>
          <p:cNvPr id="148" name="Cloud"/>
          <p:cNvSpPr/>
          <p:nvPr/>
        </p:nvSpPr>
        <p:spPr>
          <a:xfrm>
            <a:off x="2806560" y="3597120"/>
            <a:ext cx="3124440" cy="1020960"/>
          </a:xfrm>
          <a:prstGeom prst="pie">
            <a:avLst/>
          </a:prstGeom>
          <a:solidFill>
            <a:srgbClr val="b4ba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ST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537160" y="4657680"/>
            <a:ext cx="36360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307040" y="4740120"/>
            <a:ext cx="363240" cy="762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143080" y="5810400"/>
            <a:ext cx="606600" cy="393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21760" y="55800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2471760" y="6230880"/>
            <a:ext cx="606240" cy="393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5495760" y="6219720"/>
            <a:ext cx="606600" cy="39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6081840" y="5681520"/>
            <a:ext cx="606240" cy="393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2682720" y="5545080"/>
            <a:ext cx="596880" cy="3542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938320" y="5638320"/>
            <a:ext cx="435240" cy="66996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240080" y="5475240"/>
            <a:ext cx="200160" cy="9842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497480" y="5487840"/>
            <a:ext cx="341280" cy="96048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670720" y="5394240"/>
            <a:ext cx="187200" cy="8654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859000" y="5414760"/>
            <a:ext cx="422280" cy="39996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455200">
            <a:off x="2711160" y="4260960"/>
            <a:ext cx="1066680" cy="234144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063400">
            <a:off x="5291280" y="4199040"/>
            <a:ext cx="1066680" cy="219528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3819600" y="6431040"/>
            <a:ext cx="606240" cy="393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tretch/>
        </p:blipFill>
        <p:spPr>
          <a:xfrm>
            <a:off x="4624560" y="6464160"/>
            <a:ext cx="606240" cy="393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21337200">
            <a:off x="3935520" y="4483080"/>
            <a:ext cx="1066680" cy="230832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10120" y="454176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VOIP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90400" y="614844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VOIP Served sub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43720" y="3887640"/>
            <a:ext cx="1300320" cy="941400"/>
          </a:xfrm>
          <a:solidFill>
            <a:srgbClr val="009999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um Service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410080" y="4267080"/>
            <a:ext cx="1752840" cy="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4343400"/>
            <a:ext cx="1752480" cy="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Cloud"/>
          <p:cNvSpPr/>
          <p:nvPr/>
        </p:nvSpPr>
        <p:spPr>
          <a:xfrm>
            <a:off x="1523880" y="4419720"/>
            <a:ext cx="1067040" cy="349200"/>
          </a:xfrm>
          <a:prstGeom prst="pie">
            <a:avLst/>
          </a:prstGeom>
          <a:solidFill>
            <a:srgbClr val="e4e6f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4572000"/>
            <a:ext cx="1752840" cy="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Gateway VOIP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The single gateway model is simple: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PSTN / IP gateway maintains a mapping between IP and E.164 addresses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966600" cy="776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363600" cy="762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360880" y="50608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O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Gate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98400" y="4890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IP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562720" y="3809880"/>
            <a:ext cx="1371600" cy="60984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4419720"/>
            <a:ext cx="1371600" cy="30456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4419720"/>
            <a:ext cx="838080" cy="76176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19720"/>
            <a:ext cx="228600" cy="9144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410080" y="5181480"/>
            <a:ext cx="606600" cy="393840"/>
          </a:xfrm>
          <a:prstGeom prst="rect">
            <a:avLst/>
          </a:prstGeom>
          <a:ln w="0">
            <a:noFill/>
          </a:ln>
        </p:spPr>
      </p:pic>
      <p:sp>
        <p:nvSpPr>
          <p:cNvPr id="185" name="Cloud"/>
          <p:cNvSpPr/>
          <p:nvPr/>
        </p:nvSpPr>
        <p:spPr>
          <a:xfrm>
            <a:off x="3429000" y="3886200"/>
            <a:ext cx="3124080" cy="1020600"/>
          </a:xfrm>
          <a:prstGeom prst="pie">
            <a:avLst/>
          </a:prstGeom>
          <a:solidFill>
            <a:srgbClr val="b4ba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ST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019920" y="4952880"/>
            <a:ext cx="606240" cy="393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6553080" y="4572000"/>
            <a:ext cx="606600" cy="393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6781680" y="4038480"/>
            <a:ext cx="606600" cy="393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6553080" y="3581280"/>
            <a:ext cx="606600" cy="393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6680" y="5867280"/>
            <a:ext cx="1668240" cy="550800"/>
          </a:xfrm>
          <a:prstGeom prst="rect">
            <a:avLst/>
          </a:prstGeom>
          <a:noFill/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10.0.0.10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1234567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10.0.0.11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123456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10.0.0.12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123456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5867280"/>
            <a:ext cx="0" cy="533520"/>
          </a:xfrm>
          <a:prstGeom prst="line">
            <a:avLst/>
          </a:prstGeom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6067440"/>
            <a:ext cx="1676520" cy="0"/>
          </a:xfrm>
          <a:prstGeom prst="line">
            <a:avLst/>
          </a:prstGeom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66760" y="6219720"/>
            <a:ext cx="1676520" cy="0"/>
          </a:xfrm>
          <a:prstGeom prst="line">
            <a:avLst/>
          </a:prstGeom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10040" y="5643720"/>
            <a:ext cx="141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IP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E.16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15280" y="4044960"/>
            <a:ext cx="1290600" cy="215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5481"/>
                </a:solidFill>
                <a:latin typeface="Tahoma"/>
              </a:rPr>
              <a:t>1. Call “12345678”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92960" y="4344840"/>
            <a:ext cx="1330200" cy="459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5481"/>
                </a:solidFill>
                <a:latin typeface="Tahoma"/>
              </a:rPr>
              <a:t>2. PSTN routes the call to 12345678 to the VOIP gatewa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92960" y="4886280"/>
            <a:ext cx="1330200" cy="459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5481"/>
                </a:solidFill>
                <a:latin typeface="Tahoma"/>
              </a:rPr>
              <a:t>3. Gateway maps E.164 address  “12345678” to IP 10.0.0.1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92960" y="5418000"/>
            <a:ext cx="1330200" cy="459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5481"/>
                </a:solidFill>
                <a:latin typeface="Tahoma"/>
              </a:rPr>
              <a:t>4. Gateway initiates a SIP session with 10.0.0.1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073640" y="3877920"/>
            <a:ext cx="345960" cy="157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5149440" y="4467240"/>
            <a:ext cx="2228760" cy="936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730680" y="5118120"/>
            <a:ext cx="3657600" cy="8208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626920" y="4635360"/>
            <a:ext cx="4761000" cy="976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0240" y="4556160"/>
            <a:ext cx="12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Tahoma"/>
              </a:rPr>
              <a:t>123456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Tahoma"/>
              </a:rPr>
              <a:t>10.0.0.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92280" y="3819600"/>
            <a:ext cx="5280120" cy="515880"/>
          </a:xfrm>
          <a:custGeom>
            <a:avLst/>
            <a:gdLst/>
            <a:ahLst/>
            <a:rect l="l" t="t" r="r" b="b"/>
            <a:pathLst>
              <a:path w="3326" h="325">
                <a:moveTo>
                  <a:pt x="3326" y="0"/>
                </a:moveTo>
                <a:cubicBezTo>
                  <a:pt x="3030" y="127"/>
                  <a:pt x="2734" y="255"/>
                  <a:pt x="2537" y="270"/>
                </a:cubicBezTo>
                <a:cubicBezTo>
                  <a:pt x="2340" y="285"/>
                  <a:pt x="2312" y="92"/>
                  <a:pt x="2146" y="93"/>
                </a:cubicBezTo>
                <a:cubicBezTo>
                  <a:pt x="1980" y="94"/>
                  <a:pt x="1789" y="243"/>
                  <a:pt x="1543" y="279"/>
                </a:cubicBezTo>
                <a:cubicBezTo>
                  <a:pt x="1297" y="315"/>
                  <a:pt x="926" y="299"/>
                  <a:pt x="669" y="307"/>
                </a:cubicBezTo>
                <a:cubicBezTo>
                  <a:pt x="412" y="315"/>
                  <a:pt x="206" y="320"/>
                  <a:pt x="0" y="325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multi-Gateway VOIP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Use PSTN / VOIP Gateways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ach Gateway maps a set of telephone numbers to a set of served IP service addresse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ach Gateway knows only about locally served device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Gateway-to-Gateway calls need to be explicitly configured in each gateway to use IP or some private connection, or use the default of the PSTN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he PSTN currently is the glue that allows the VOIP islands to interconnect with each other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Cloud"/>
          <p:cNvSpPr/>
          <p:nvPr/>
        </p:nvSpPr>
        <p:spPr>
          <a:xfrm>
            <a:off x="2963880" y="5100480"/>
            <a:ext cx="2986200" cy="1101960"/>
          </a:xfrm>
          <a:prstGeom prst="pie">
            <a:avLst/>
          </a:prstGeom>
          <a:solidFill>
            <a:srgbClr val="e4e6fc"/>
          </a:solidFill>
          <a:ln w="9360">
            <a:solidFill>
              <a:srgbClr val="2b548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440160" y="4173120"/>
            <a:ext cx="790560" cy="9954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287600" y="4172040"/>
            <a:ext cx="1414440" cy="75096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multi-Gateway VOIP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VOIP Island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.164 numbers are only routable over the PSTN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nterprise or carrier VOIP dialling plans cannot be remotely accessed by other VOIP network segment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265280" y="4183200"/>
            <a:ext cx="252360" cy="8316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16240" y="4916520"/>
            <a:ext cx="363600" cy="762120"/>
          </a:xfrm>
          <a:prstGeom prst="rect">
            <a:avLst/>
          </a:prstGeom>
          <a:ln w="0">
            <a:noFill/>
          </a:ln>
        </p:spPr>
      </p:pic>
      <p:sp>
        <p:nvSpPr>
          <p:cNvPr id="214" name="Cloud"/>
          <p:cNvSpPr/>
          <p:nvPr/>
        </p:nvSpPr>
        <p:spPr>
          <a:xfrm>
            <a:off x="2806560" y="3597120"/>
            <a:ext cx="3124440" cy="1020960"/>
          </a:xfrm>
          <a:prstGeom prst="pie">
            <a:avLst/>
          </a:prstGeom>
          <a:solidFill>
            <a:srgbClr val="b4ba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ST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537160" y="4657680"/>
            <a:ext cx="36360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307040" y="4740120"/>
            <a:ext cx="363240" cy="762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143080" y="5810400"/>
            <a:ext cx="606600" cy="393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821760" y="55800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2471760" y="6230880"/>
            <a:ext cx="606240" cy="393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3819600" y="6431040"/>
            <a:ext cx="606240" cy="393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4522680" y="6431040"/>
            <a:ext cx="606600" cy="393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5495760" y="6219720"/>
            <a:ext cx="606600" cy="393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0"/>
          <a:stretch/>
        </p:blipFill>
        <p:spPr>
          <a:xfrm>
            <a:off x="6081840" y="5681520"/>
            <a:ext cx="606240" cy="393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V="1">
            <a:off x="2682720" y="5545080"/>
            <a:ext cx="596880" cy="3542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38320" y="5638320"/>
            <a:ext cx="435240" cy="66996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240080" y="5475240"/>
            <a:ext cx="200160" cy="9842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497480" y="5487840"/>
            <a:ext cx="341280" cy="96048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5670720" y="5394240"/>
            <a:ext cx="187200" cy="8654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5859000" y="5414760"/>
            <a:ext cx="422280" cy="39996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455200">
            <a:off x="2711160" y="4260960"/>
            <a:ext cx="1066680" cy="234144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20063400">
            <a:off x="5291280" y="4199040"/>
            <a:ext cx="1066680" cy="219528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1337200">
            <a:off x="3925800" y="4240080"/>
            <a:ext cx="1067040" cy="230832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o is the IETF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Internet Engineering Task Force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The organization that oversees the standards process for Internet protocols and technologies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Industry-based standards body with broad participation from vendors, operators and researchers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We make standards that work – how you work them is up to you!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re ENUM Probl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How can a VOIP gateway find out dynamically: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If a telephone number is reachable as an Internet device?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And if so, what’s its Internet service address?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35" name="Cloud"/>
          <p:cNvSpPr/>
          <p:nvPr/>
        </p:nvSpPr>
        <p:spPr>
          <a:xfrm>
            <a:off x="2963880" y="5100480"/>
            <a:ext cx="2986200" cy="1101960"/>
          </a:xfrm>
          <a:prstGeom prst="pie">
            <a:avLst/>
          </a:prstGeom>
          <a:solidFill>
            <a:srgbClr val="e4e6fc"/>
          </a:solidFill>
          <a:ln w="9360">
            <a:solidFill>
              <a:srgbClr val="2b548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40160" y="4173120"/>
            <a:ext cx="790560" cy="9954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4287600" y="4172040"/>
            <a:ext cx="1414440" cy="75096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4265280" y="4183200"/>
            <a:ext cx="252360" cy="8316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16240" y="4916520"/>
            <a:ext cx="363600" cy="762120"/>
          </a:xfrm>
          <a:prstGeom prst="rect">
            <a:avLst/>
          </a:prstGeom>
          <a:ln w="0">
            <a:noFill/>
          </a:ln>
        </p:spPr>
      </p:pic>
      <p:sp>
        <p:nvSpPr>
          <p:cNvPr id="240" name="Cloud"/>
          <p:cNvSpPr/>
          <p:nvPr/>
        </p:nvSpPr>
        <p:spPr>
          <a:xfrm>
            <a:off x="2806560" y="3597120"/>
            <a:ext cx="3124440" cy="1020960"/>
          </a:xfrm>
          <a:prstGeom prst="pie">
            <a:avLst/>
          </a:prstGeom>
          <a:solidFill>
            <a:srgbClr val="b4ba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ST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537160" y="4657680"/>
            <a:ext cx="363600" cy="762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4307040" y="4740120"/>
            <a:ext cx="363240" cy="762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2143080" y="5810400"/>
            <a:ext cx="606600" cy="3934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821760" y="55800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2471760" y="6230880"/>
            <a:ext cx="606240" cy="393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3819600" y="6431040"/>
            <a:ext cx="606240" cy="393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4522680" y="6431040"/>
            <a:ext cx="606600" cy="393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5495760" y="6219720"/>
            <a:ext cx="606600" cy="393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0"/>
          <a:stretch/>
        </p:blipFill>
        <p:spPr>
          <a:xfrm>
            <a:off x="6081840" y="5681520"/>
            <a:ext cx="606240" cy="3938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V="1">
            <a:off x="2682720" y="5545080"/>
            <a:ext cx="596880" cy="3542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938320" y="5638320"/>
            <a:ext cx="435240" cy="66996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240080" y="5475240"/>
            <a:ext cx="200160" cy="9842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4497480" y="5487840"/>
            <a:ext cx="341280" cy="96048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5670720" y="5394240"/>
            <a:ext cx="187200" cy="8654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5859000" y="5414760"/>
            <a:ext cx="422280" cy="39996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2455200">
            <a:off x="2480760" y="5060880"/>
            <a:ext cx="1067040" cy="143028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20526600">
            <a:off x="5410080" y="4946400"/>
            <a:ext cx="1067040" cy="143028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21337200">
            <a:off x="3970080" y="5360760"/>
            <a:ext cx="1066680" cy="143028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79760" y="4923000"/>
            <a:ext cx="3252600" cy="1430280"/>
          </a:xfrm>
          <a:custGeom>
            <a:avLst/>
            <a:gdLst/>
            <a:ahLst/>
            <a:rect l="l" t="t" r="r" b="b"/>
            <a:pathLst>
              <a:path w="2049" h="901">
                <a:moveTo>
                  <a:pt x="0" y="687"/>
                </a:moveTo>
                <a:cubicBezTo>
                  <a:pt x="186" y="561"/>
                  <a:pt x="350" y="304"/>
                  <a:pt x="502" y="259"/>
                </a:cubicBezTo>
                <a:cubicBezTo>
                  <a:pt x="654" y="214"/>
                  <a:pt x="760" y="389"/>
                  <a:pt x="915" y="414"/>
                </a:cubicBezTo>
                <a:cubicBezTo>
                  <a:pt x="1070" y="439"/>
                  <a:pt x="1260" y="462"/>
                  <a:pt x="1432" y="407"/>
                </a:cubicBezTo>
                <a:cubicBezTo>
                  <a:pt x="1604" y="352"/>
                  <a:pt x="1849" y="0"/>
                  <a:pt x="1949" y="82"/>
                </a:cubicBezTo>
                <a:cubicBezTo>
                  <a:pt x="2049" y="164"/>
                  <a:pt x="2046" y="599"/>
                  <a:pt x="2030" y="901"/>
                </a:cubicBez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5880" y="304920"/>
            <a:ext cx="8039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oblem statements for ENUM (1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How do network elements (gateways, SIP servers etc) find services on the Internet if you only have a telephone (E.164) number?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oblem statements for ENUM (2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How can subscribers define their preferences for nominating particular services and servers to respond to incoming communication requests?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NUM Objectiv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Allow any IP device to establish whether an E.164 telephone address is reachable as an Internet-described Service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nd … what the preferred Service Point actually is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nd if its an Internet-reachable Service Point… what IP address, protocol address, port address and application address should be used to contact the preferred Service Point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UM Resolu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8640" y="420804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he PSTN is a multi-service platform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o emulate this in IP, IP services associated with a single E.164 may be provided on a collection of different IP service point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n ENUM DNS request should return the entire set of service points and the associated service.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2589840" y="199692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D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906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Sele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23360" y="199692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D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24480" y="199692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04840" y="2738520"/>
            <a:ext cx="1506600" cy="33732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E.164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78560" y="2738520"/>
            <a:ext cx="1218600" cy="131076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Set of UR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98080" y="2738520"/>
            <a:ext cx="523800" cy="33732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U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40320" y="2738520"/>
            <a:ext cx="1800720" cy="82404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IP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TCP/UDP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Protocol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52520" y="2360520"/>
            <a:ext cx="1355760" cy="339840"/>
          </a:xfrm>
          <a:custGeom>
            <a:avLst/>
            <a:gdLst>
              <a:gd name="textAreaLeft" fmla="*/ 237240 w 1355760"/>
              <a:gd name="textAreaRight" fmla="*/ 983160 w 1355760"/>
              <a:gd name="textAreaTop" fmla="*/ 45360 h 339840"/>
              <a:gd name="textAreaBottom" fmla="*/ 294480 h 33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19520" y="2370240"/>
            <a:ext cx="1355760" cy="339480"/>
          </a:xfrm>
          <a:custGeom>
            <a:avLst/>
            <a:gdLst>
              <a:gd name="textAreaLeft" fmla="*/ 237240 w 1355760"/>
              <a:gd name="textAreaRight" fmla="*/ 983160 w 1355760"/>
              <a:gd name="textAreaTop" fmla="*/ 45360 h 339480"/>
              <a:gd name="textAreaBottom" fmla="*/ 294120 h 33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2379600"/>
            <a:ext cx="1355760" cy="339840"/>
          </a:xfrm>
          <a:custGeom>
            <a:avLst/>
            <a:gdLst>
              <a:gd name="textAreaLeft" fmla="*/ 237240 w 1355760"/>
              <a:gd name="textAreaRight" fmla="*/ 983160 w 1355760"/>
              <a:gd name="textAreaTop" fmla="*/ 45360 h 339840"/>
              <a:gd name="textAreaBottom" fmla="*/ 294480 h 33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137440" y="2638440"/>
            <a:ext cx="412920" cy="309600"/>
          </a:xfrm>
          <a:prstGeom prst="rightArrow">
            <a:avLst>
              <a:gd name="adj1" fmla="val 50000"/>
              <a:gd name="adj2" fmla="val 3334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8880" y="2705040"/>
            <a:ext cx="412920" cy="309600"/>
          </a:xfrm>
          <a:prstGeom prst="rightArrow">
            <a:avLst>
              <a:gd name="adj1" fmla="val 50000"/>
              <a:gd name="adj2" fmla="val 3334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3024360"/>
            <a:ext cx="339840" cy="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81720" y="3290760"/>
            <a:ext cx="339840" cy="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RI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URIs represent a generic naming scheme to describe IP service points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Generic format of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service:service-specific-addres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URI in IP context is ultimately resolvable to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ransport protocol (TCP/UDP) selection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IP addres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Port addres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ddress selector within the application session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Longer Ter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Telephone numbers are well accepted identifiers within their realm of application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Any collection of service URIs can be linked against an ENUM entry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mail, www, irc, sms,…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07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E.164 as a common address substrate 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2924280" y="5886360"/>
            <a:ext cx="36126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Arial"/>
              </a:rPr>
              <a:t>Use this number for any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Arial"/>
              </a:rPr>
              <a:t>+61 2 123456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011560" y="5387760"/>
            <a:ext cx="184320" cy="414360"/>
          </a:xfrm>
          <a:prstGeom prst="line">
            <a:avLst/>
          </a:prstGeom>
          <a:ln w="50760">
            <a:solidFill>
              <a:srgbClr val="3366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43440" y="5086440"/>
            <a:ext cx="819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Arial"/>
              </a:rPr>
              <a:t>EN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468440" y="2959200"/>
            <a:ext cx="1352520" cy="933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523880" y="426708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1447920" y="1600200"/>
            <a:ext cx="1371600" cy="12016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V="1">
            <a:off x="2895480" y="3885840"/>
            <a:ext cx="3048120" cy="685800"/>
          </a:xfrm>
          <a:prstGeom prst="line">
            <a:avLst/>
          </a:prstGeom>
          <a:ln w="5076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88240" y="3716280"/>
            <a:ext cx="2606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p:gih@sip.telstra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370480" y="4094280"/>
            <a:ext cx="1747800" cy="960480"/>
          </a:xfrm>
          <a:prstGeom prst="line">
            <a:avLst/>
          </a:prstGeom>
          <a:ln w="50760">
            <a:solidFill>
              <a:srgbClr val="3366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690880" y="6269040"/>
            <a:ext cx="1306440" cy="57240"/>
          </a:xfrm>
          <a:prstGeom prst="line">
            <a:avLst/>
          </a:prstGeom>
          <a:ln w="50760">
            <a:solidFill>
              <a:srgbClr val="3366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20880" bIns="20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2209680"/>
            <a:ext cx="3057480" cy="166680"/>
          </a:xfrm>
          <a:prstGeom prst="line">
            <a:avLst/>
          </a:prstGeom>
          <a:ln w="50760">
            <a:solidFill>
              <a:srgbClr val="00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743200" y="2895120"/>
            <a:ext cx="3048120" cy="381240"/>
          </a:xfrm>
          <a:prstGeom prst="line">
            <a:avLst/>
          </a:prstGeom>
          <a:ln w="507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819520" y="3352320"/>
            <a:ext cx="3429000" cy="1143000"/>
          </a:xfrm>
          <a:prstGeom prst="line">
            <a:avLst/>
          </a:prstGeom>
          <a:ln w="507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88040" y="2205000"/>
            <a:ext cx="2143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el:+61 2 624861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29920" y="2637000"/>
            <a:ext cx="25549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mailto:gih@telstra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67320" y="3138480"/>
            <a:ext cx="2143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el:+61 2 123456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7221600" y="5522760"/>
            <a:ext cx="1218960" cy="1060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Practical Iss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b5481"/>
                </a:solidFill>
                <a:latin typeface="Tahoma"/>
              </a:rPr>
              <a:t>Issues where the IETF has an active interest…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b5481"/>
                </a:solidFill>
                <a:latin typeface="Tahoma"/>
              </a:rPr>
              <a:t>Who should manage the e164.arpa zone?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b5481"/>
                </a:solidFill>
                <a:latin typeface="Tahoma"/>
              </a:rPr>
              <a:t>Should there be one root for a single ENUM database or multiple databases for different functions, number ranges, area codes or even numbers?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b5481"/>
                </a:solidFill>
                <a:latin typeface="Tahoma"/>
              </a:rPr>
              <a:t>How to secure the DNS to ensure that ENUM answers are valid, timely and authoritative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Practical Iss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b5481"/>
                </a:solidFill>
                <a:latin typeface="Tahoma"/>
              </a:rPr>
              <a:t>Issues where the IETF has a limited (if any) role to play in ENUM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b5481"/>
                </a:solidFill>
                <a:latin typeface="Tahoma"/>
              </a:rPr>
              <a:t>How to protect the privacy of the ENUM database?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b5481"/>
                </a:solidFill>
                <a:latin typeface="Tahoma"/>
              </a:rPr>
              <a:t>How to verify changes to the ENUM database?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b5481"/>
                </a:solidFill>
                <a:latin typeface="Tahoma"/>
              </a:rPr>
              <a:t>Should telephone number holders ‘opt-in’ or ‘opt-out’ of the system?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b5481"/>
                </a:solidFill>
                <a:latin typeface="Tahoma"/>
              </a:rPr>
              <a:t>Portability and ownership of a phone number?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2b5481"/>
                </a:solidFill>
                <a:latin typeface="Tahoma"/>
              </a:rPr>
              <a:t>Can I cancel all phone services and keep my phone number?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b5481"/>
                </a:solidFill>
                <a:latin typeface="Tahoma"/>
              </a:rPr>
              <a:t>Compliance with legislative framework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2b5481"/>
                </a:solidFill>
                <a:latin typeface="Tahoma"/>
              </a:rPr>
              <a:t>What is a “public telephone call” from a strict regulatory perspective?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2b5481"/>
                </a:solidFill>
                <a:latin typeface="Tahoma"/>
              </a:rPr>
              <a:t>Is there a valid need for yet another public identity space?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Structure of the IET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59080" y="1538280"/>
          <a:ext cx="6335640" cy="508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9080" y="1538280"/>
                    <a:ext cx="633564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uh? - Lets see that again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" y="2666880"/>
            <a:ext cx="8229240" cy="3332160"/>
            <a:chOff x="457200" y="2666880"/>
            <a:chExt cx="8229240" cy="3332160"/>
          </a:xfrm>
        </p:grpSpPr>
        <p:cxnSp>
          <p:nvCxnSpPr>
            <p:cNvPr id="98" name="_s58398"/>
            <p:cNvCxnSpPr>
              <a:stCxn id="99" idx="0"/>
              <a:endCxn id="100" idx="2"/>
            </p:cNvCxnSpPr>
            <p:nvPr/>
          </p:nvCxnSpPr>
          <p:spPr>
            <a:xfrm flipV="1" rot="16200000">
              <a:off x="4235400" y="3659400"/>
              <a:ext cx="229320" cy="2001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01" name="_s58396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847840" y="2584080"/>
              <a:ext cx="229320" cy="278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104" name="_s58395"/>
            <p:cNvCxnSpPr>
              <a:stCxn id="100" idx="0"/>
              <a:endCxn id="103" idx="2"/>
            </p:cNvCxnSpPr>
            <p:nvPr/>
          </p:nvCxnSpPr>
          <p:spPr>
            <a:xfrm flipH="1" flipV="1" rot="5400000">
              <a:off x="3846600" y="3362760"/>
              <a:ext cx="229320" cy="1223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105" name="_s58394"/>
            <p:cNvCxnSpPr>
              <a:stCxn id="103" idx="0"/>
              <a:endCxn id="106" idx="2"/>
            </p:cNvCxnSpPr>
            <p:nvPr/>
          </p:nvCxnSpPr>
          <p:spPr>
            <a:xfrm flipV="1">
              <a:off x="4572360" y="3174120"/>
              <a:ext cx="1080" cy="229320"/>
            </a:xfrm>
            <a:prstGeom prst="bentConnector2">
              <a:avLst/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107" name="_s58389"/>
            <p:cNvCxnSpPr>
              <a:stCxn id="108" idx="0"/>
              <a:endCxn id="109" idx="2"/>
            </p:cNvCxnSpPr>
            <p:nvPr/>
          </p:nvCxnSpPr>
          <p:spPr>
            <a:xfrm flipV="1">
              <a:off x="7354440" y="5261760"/>
              <a:ext cx="2160" cy="229320"/>
            </a:xfrm>
            <a:prstGeom prst="bentConnector2">
              <a:avLst/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110" name="_s58387"/>
            <p:cNvCxnSpPr>
              <a:stCxn id="109" idx="0"/>
              <a:endCxn id="102" idx="2"/>
            </p:cNvCxnSpPr>
            <p:nvPr/>
          </p:nvCxnSpPr>
          <p:spPr>
            <a:xfrm flipV="1" rot="16200000">
              <a:off x="7238880" y="46594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111" name="_s58385"/>
            <p:cNvCxnSpPr>
              <a:stCxn id="112" idx="0"/>
              <a:endCxn id="100" idx="2"/>
            </p:cNvCxnSpPr>
            <p:nvPr/>
          </p:nvCxnSpPr>
          <p:spPr>
            <a:xfrm flipV="1">
              <a:off x="3349440" y="4545720"/>
              <a:ext cx="1800" cy="229320"/>
            </a:xfrm>
            <a:prstGeom prst="bentConnector2">
              <a:avLst/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113" name="_s58383"/>
            <p:cNvCxnSpPr>
              <a:stCxn id="114" idx="0"/>
              <a:endCxn id="100" idx="2"/>
            </p:cNvCxnSpPr>
            <p:nvPr/>
          </p:nvCxnSpPr>
          <p:spPr>
            <a:xfrm flipH="1" flipV="1" rot="5400000">
              <a:off x="2233080" y="3657960"/>
              <a:ext cx="229320" cy="200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00"/>
              </a:solidFill>
              <a:miter/>
            </a:ln>
          </p:spPr>
        </p:cxnSp>
        <p:sp>
          <p:nvSpPr>
            <p:cNvPr id="106" name="_s58375"/>
            <p:cNvSpPr/>
            <p:nvPr/>
          </p:nvSpPr>
          <p:spPr>
            <a:xfrm>
              <a:off x="3231360" y="2666880"/>
              <a:ext cx="2680560" cy="50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Internet Society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58377"/>
            <p:cNvSpPr/>
            <p:nvPr/>
          </p:nvSpPr>
          <p:spPr>
            <a:xfrm>
              <a:off x="6680880" y="4089240"/>
              <a:ext cx="1344240" cy="45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IESG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58378"/>
            <p:cNvSpPr/>
            <p:nvPr/>
          </p:nvSpPr>
          <p:spPr>
            <a:xfrm>
              <a:off x="2675880" y="4089240"/>
              <a:ext cx="1344240" cy="45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IAB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58382"/>
            <p:cNvSpPr/>
            <p:nvPr/>
          </p:nvSpPr>
          <p:spPr>
            <a:xfrm>
              <a:off x="457200" y="4775040"/>
              <a:ext cx="1778040" cy="487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RFC Editor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8384"/>
            <p:cNvSpPr/>
            <p:nvPr/>
          </p:nvSpPr>
          <p:spPr>
            <a:xfrm>
              <a:off x="2459520" y="4775040"/>
              <a:ext cx="1778400" cy="487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IANA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8386"/>
            <p:cNvSpPr/>
            <p:nvPr/>
          </p:nvSpPr>
          <p:spPr>
            <a:xfrm>
              <a:off x="6464880" y="4775040"/>
              <a:ext cx="1778040" cy="487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Areas (7)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8388"/>
            <p:cNvSpPr/>
            <p:nvPr/>
          </p:nvSpPr>
          <p:spPr>
            <a:xfrm>
              <a:off x="6021000" y="5491080"/>
              <a:ext cx="2665440" cy="50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Working Group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58390"/>
            <p:cNvSpPr/>
            <p:nvPr/>
          </p:nvSpPr>
          <p:spPr>
            <a:xfrm>
              <a:off x="3898800" y="3403440"/>
              <a:ext cx="1344240" cy="45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IETF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58397"/>
            <p:cNvSpPr/>
            <p:nvPr/>
          </p:nvSpPr>
          <p:spPr>
            <a:xfrm>
              <a:off x="4462200" y="4775040"/>
              <a:ext cx="1778040" cy="487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99"/>
                  </a:solidFill>
                  <a:latin typeface="Tahoma"/>
                </a:rPr>
                <a:t>IRTF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does the IETF Work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We do not believe in Kings, Presidents and Voting. We believe in rough consensus and running code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Dave Clark, MIT, Former IAB member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The IETF has a focus on developing standards where interoperability testing of conformant implementations of the standard, and use of the technology in production contexts form an integral part of the standards process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How Does the IETF Work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Proposed work items are aired at a BOF session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Gather interest and support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work program is chartered by the IESG 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Working Group Charter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WG Chair(s) and Area Director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Working Group statement of activity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Schedule of milestone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Periodic IESG review and recharter as necessary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ETF Docum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20268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Internet Draft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ietf.org/1id-abstracts.html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Individual submission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draft-&lt;person&gt;-&lt;header&gt;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Working Group Document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draft-ietf-&lt;working group&gt;-&lt;header&gt;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Working Group documents denote some level of ‘buy-in’ from the community of interest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ETF Docum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RFC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Informational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Best Current Practice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Standards Track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Proposed (good idea, clearly written, Working Group approved, peer reviewed)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Draft (interoperability tested, sound idea)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Full (many people are / were using this technology)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Historic (no longer that useful)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ENUM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14640" y="1330200"/>
            <a:ext cx="617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481"/>
                </a:solidFill>
                <a:latin typeface="Tahoma"/>
              </a:rPr>
              <a:t>ENUM is a working group with the IETF Transport Area</a:t>
            </a:r>
            <a:endParaRPr b="0" lang="en-US" sz="1600" spc="-1" strike="noStrike">
              <a:solidFill>
                <a:srgbClr val="2b5481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73080" y="1757520"/>
          <a:ext cx="5681880" cy="506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3080" y="1757520"/>
                    <a:ext cx="568188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05:20:13Z</dcterms:created>
  <dc:creator>g</dc:creator>
  <dc:description/>
  <dc:language>en-US</dc:language>
  <cp:lastModifiedBy>Louis Touton</cp:lastModifiedBy>
  <dcterms:modified xsi:type="dcterms:W3CDTF">2003-03-31T16:15:37Z</dcterms:modified>
  <cp:revision>25</cp:revision>
  <dc:subject/>
  <dc:title>Implications of ENUM</dc:title>
</cp:coreProperties>
</file>