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16200" y="34920"/>
            <a:ext cx="290988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766680" y="34920"/>
            <a:ext cx="290988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ja-JP" sz="1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96760" y="772920"/>
            <a:ext cx="4865760" cy="364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56800" y="4669920"/>
            <a:ext cx="4946760" cy="43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16200" y="9310680"/>
            <a:ext cx="290988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ja-JP" sz="1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766680" y="9310680"/>
            <a:ext cx="290988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ja-JP" sz="1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930B-2093-4B00-B386-19F3C722B34D}" type="slidenum">
              <a:rPr b="0" i="1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896760" y="773280"/>
            <a:ext cx="4865760" cy="364932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856800" y="4669920"/>
            <a:ext cx="4946760" cy="43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arification Note regarding bullet point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"host name specifications" which impos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stricted subset of 7-bit ASCII limi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Applications tend to follow those specifications. There are "DNS specifications" which, because of the behavior of those applications, strongly recommend, but do not require, the LDH r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1536480"/>
            <a:ext cx="818496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760" y="3035880"/>
            <a:ext cx="818496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760" y="1536480"/>
            <a:ext cx="399420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0120" y="1536480"/>
            <a:ext cx="399420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760" y="3035880"/>
            <a:ext cx="399420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0120" y="3035880"/>
            <a:ext cx="399420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760" y="1536480"/>
            <a:ext cx="263520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3080" y="1536480"/>
            <a:ext cx="263520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0400" y="1536480"/>
            <a:ext cx="263520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760" y="3035880"/>
            <a:ext cx="263520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3080" y="3035880"/>
            <a:ext cx="263520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0400" y="3035880"/>
            <a:ext cx="263520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760" y="1536480"/>
            <a:ext cx="818496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536480"/>
            <a:ext cx="818496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36480"/>
            <a:ext cx="399420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0120" y="1536480"/>
            <a:ext cx="399420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760" y="1536480"/>
            <a:ext cx="399420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0120" y="1536480"/>
            <a:ext cx="399420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760" y="3035880"/>
            <a:ext cx="399420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760" y="1536480"/>
            <a:ext cx="399420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0120" y="1536480"/>
            <a:ext cx="399420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0120" y="3035880"/>
            <a:ext cx="399420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760" y="1536480"/>
            <a:ext cx="399420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0120" y="1536480"/>
            <a:ext cx="399420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760" y="3035880"/>
            <a:ext cx="818496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36480"/>
            <a:ext cx="818496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144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14120">
              <a:spcBef>
                <a:spcPts val="1125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77760" indent="-114120">
              <a:spcBef>
                <a:spcPts val="1125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114480">
              <a:spcBef>
                <a:spcPts val="1125"/>
              </a:spcBef>
              <a:buClr>
                <a:srgbClr val="000000"/>
              </a:buClr>
              <a:buSzPct val="78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257480" indent="-114480">
              <a:spcBef>
                <a:spcPts val="1125"/>
              </a:spcBef>
              <a:buClr>
                <a:srgbClr val="000000"/>
              </a:buClr>
              <a:buSzPct val="78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257480" indent="-114480">
              <a:spcBef>
                <a:spcPts val="1125"/>
              </a:spcBef>
              <a:buClr>
                <a:srgbClr val="000000"/>
              </a:buClr>
              <a:buSzPct val="78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9200" y="6389640"/>
            <a:ext cx="898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60440" y="374760"/>
            <a:ext cx="82137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263480" y="655164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A25C-4328-4A3F-87F4-16B404034C66}" type="slidenum"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8680" y="6404040"/>
            <a:ext cx="1706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ANN IDN Committee Re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ICANN Logo"/>
          <p:cNvPicPr/>
          <p:nvPr/>
        </p:nvPicPr>
        <p:blipFill>
          <a:blip r:embed="rId2"/>
          <a:stretch/>
        </p:blipFill>
        <p:spPr>
          <a:xfrm>
            <a:off x="8400960" y="6423120"/>
            <a:ext cx="532080" cy="40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73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tional Domain Name Committee</a:t>
            </a:r>
            <a:br>
              <a:rPr sz="3000"/>
            </a:br>
            <a:br>
              <a:rPr sz="3000"/>
            </a:br>
            <a:r>
              <a:rPr b="1" lang="en-AU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edings Report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9040" y="4903920"/>
            <a:ext cx="8229600" cy="7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7784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anghai, C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, 200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200" y="6496200"/>
            <a:ext cx="8988480" cy="0"/>
          </a:xfrm>
          <a:prstGeom prst="line">
            <a:avLst/>
          </a:prstGeom>
          <a:ln w="12600">
            <a:solidFill>
              <a:srgbClr val="79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0440" y="374760"/>
            <a:ext cx="82137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ICANN Logo"/>
          <p:cNvPicPr/>
          <p:nvPr/>
        </p:nvPicPr>
        <p:blipFill>
          <a:blip r:embed="rId1"/>
          <a:stretch/>
        </p:blipFill>
        <p:spPr>
          <a:xfrm>
            <a:off x="3575160" y="1430280"/>
            <a:ext cx="179064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bers of the IDN Committe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3809880" cy="454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ncent Wen-Sung CHEN       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陳文生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TWNIC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uhamet DIO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CANN Address Council Observer, ICANN Director elec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rik FÄLTSTRÖ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ETF/IES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iheng H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胡启恒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nternet Society of China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sanobu KATO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加藤 幹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かとう まさの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ommittee Chair, ICANN Director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0920" y="1076040"/>
            <a:ext cx="3894120" cy="4452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hn KLENS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Former IAB Chair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ng-Hyon KYONG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경 상 현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景 商 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CANN Director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art LYN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CANN Preside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isabeth PORTENEUV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żbieta PORTENEUVE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CANN Names Counci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hd Sharil TARMIZ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رميز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شحري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محم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GAC Vice Chair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1360" y="5324400"/>
            <a:ext cx="818496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istrative support was provided b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vid G THOMP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64240" y="5397480"/>
            <a:ext cx="2989080" cy="7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rew J McLAUGHL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ANN IDN Activities Time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3200" y="2124000"/>
            <a:ext cx="8185320" cy="272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ch 2001- Creation of ICANN Board IDN Working Group (Melbourne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une 2001-  IDN Working Group Status Report (Stockhol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tember 2001- IDN Working Group Final Report (Montevide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tember 2001- Creation of IDN Committee (Montevideo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une 2002- Final Proceeding Report of IDN Committee (Buchares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une 2002- Extension of IDN Committee until Shanghai (Buchares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 Issues Considered before Buchar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6280" y="1690560"/>
            <a:ext cx="7659720" cy="23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N.IDN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missible Code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 ASCII T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istrar Selection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DRP Review</a:t>
            </a:r>
            <a:br>
              <a:rPr sz="1800"/>
            </a:b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ermissible Code Point Issu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640" y="1638360"/>
            <a:ext cx="7543800" cy="39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 ‘permissible code point’ issues, we refer to the problems that might arise from the use of certain non-ASCII characters included in the Unicode Standard within IDN domain name labe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present, the DNS host name specifications limit permissible code points in domain name labels to a restricted subset of 7-bit ASCI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addition to the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acters of every language that could b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ed and standardized by the Unicode Consortium,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code Standard contains several sets of "characters" that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, in fact, appear in any conventional human languag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ermissible Code Point Issue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536840"/>
            <a:ext cx="7543800" cy="38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IDN Committee has communicated a recommendation to the IETF that it should proceed conservatively, using an "inclusion-based" approach to the definition of "Internationalized Hostnames", so as to leave out – at least temporarily – the sets of potentially problematic characters, most notabl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line and symbol-drawing character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symbols and icons that are neither alphabetic nor ideographic              language characters, such as typographical dingba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punctuation characters;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spacing charac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comments were submitted for IESG re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ETF (IESG) approval of Internet-Drafts, Oct. 24, 2002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536840"/>
            <a:ext cx="8184960" cy="2745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Internationalizing Domain Names In Applications (IDNA)                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&lt;draft-ietf-idn-idna-14.txt&gt; as a Proposed Standard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Nameprep: A Stringprep Profile for Internationalized Domain Names  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&lt;draft-ietf-idn-nameprep-11.txt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unycode: An encoding of Unicode for use with IDNA       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&lt;draft-ietf-idn-punycode-03.txt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s for Further Consid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536840"/>
            <a:ext cx="8184960" cy="3166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missible Code Point Issue – e.g. CJK (Chinese-Japanese-Korean) issue -- Registration and Administrative Guidelines (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-level IDNA Implementation – Need to slow down (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ther and when to proceed and adopt non-ASCII TLDs – Need to wait and see (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 dialogue and coordination among registries doing SLD/IDN implementation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Interface Issues (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mmend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536480"/>
            <a:ext cx="8184960" cy="1470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c Awareness and Edu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nue ICANN IDN Committee – (1) to serve as a general coordination body for the work on policy issues, and (2) to advise the Board as needed in the area of I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Ernst &amp; Young LLP</dc:creator>
  <dc:description/>
  <dc:language>en-US</dc:language>
  <cp:lastModifiedBy>Louis Touton</cp:lastModifiedBy>
  <cp:lastPrinted>2001-06-18T07:20:33Z</cp:lastPrinted>
  <dcterms:modified xsi:type="dcterms:W3CDTF">2002-11-08T17:10:57Z</dcterms:modified>
  <cp:revision>1264</cp:revision>
  <dc:subject/>
  <dc:title>No Slide Title</dc:title>
</cp:coreProperties>
</file>