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CDE-E26B-4A2B-8860-1347939A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3D8-F1EB-42E1-BBB2-C2BAF625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F31-22B4-4FED-86C7-03EEF52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3DA-06BC-4A9B-9C0D-169547B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B3B-487B-4BB8-99E2-4978DCC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E545-0630-4A01-8EB8-264CFAA5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45C6-5D61-42E9-8787-03D90785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AA5C-3C91-438E-BCB3-1CD2B9E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1BF3-F072-42A8-B8C6-E6908E68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CB6-214C-4A4A-944B-F380E364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C1F9-4515-41D9-9C9B-186D9B51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FE4F-B10D-4ED9-BCE5-23187C2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5FF-163B-4A72-B7ED-E87EF7E6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2DAF-B2DD-4C1D-BF2D-219BF9B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5B34-C979-499E-9713-37DEDEA0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B74D-A7A7-413F-AE20-59CFF8D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0267-1D7E-4654-ADFB-ADA6C0DD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694-BCEA-438C-B05A-46FDCCDB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694-A03C-4BA8-BF65-47DE229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66D-2F12-4434-BA29-4D19270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DB5-737B-494A-B14D-BBD8ACA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A96-2BD7-4F7A-B680-F314575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4E6-0C3E-4A0F-900F-EC393E7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2B5-87FA-4DA6-A8B4-9E8D822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D48-19EA-4022-BBE5-15AAC2C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E82F-E1DF-4742-A9FD-401F69B4070F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E82-9DC9-49F6-AA1F-425084ED92D6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 Preliminary Budge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liminary Budget posted March 16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ing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est for community input (October, Decem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e Committee (four mee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Advisory Gro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ly and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ow the community as a 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one president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Final Budget to be posted May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ing further consul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642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xpa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ted by ICANN 1.0 --&gt; ICANN 2.0 staff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saged by Blueprint, By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rogrammatic and suppor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reach,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ion and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teady growth of res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effectiveness and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ANN finally able to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d priorities and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burden falls primarily on gTLD registrars/regi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contractual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allocations to ccT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eliminary Budget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March 1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04:14Z</dcterms:modified>
  <cp:revision>158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