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45CB-F072-4C56-B659-4F06ABDFE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164120" y="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64120" y="868680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868680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8568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FC3-B21C-4B24-B8F3-96AB5235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97C-E283-424B-A640-17BE4631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A04-13A8-408E-9843-555B47A1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7A3-871B-4F16-8969-9D586262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4AC4-A6F0-4C82-A921-C3139966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3937-BCD4-4986-A7B5-243FB705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6CF2-B533-45BD-BD63-68EC554C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A950-3A9A-45E1-91BF-23D58849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2F37-0D97-4C9D-93DD-26566CAB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29BC-6A08-4AD9-B4AE-E2DDFDB6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1DD5-D7C5-486F-9517-EB7BCA3A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99F-B4E4-4825-AD4F-6F94ED88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3177-96D9-4F97-B60D-702C5895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7A0E-153F-45AE-B62D-4D028439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E900-9A8E-48EE-B374-D4632645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1B85-7237-40DD-96B2-5D357A94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3556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9988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37160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3556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69988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C950-8D0E-45D1-8FE0-7F43EE66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1D5-823D-4CCC-B014-07F1ACC1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9DA2-0FE2-4111-82B1-5047D665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6B2-2185-49A5-891B-A3FE20C8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E5A-3CBB-4270-B575-705D6CAC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03FB-67DF-4378-8814-72AE6A3C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F8C-4795-4F28-971F-FF186F96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0E5-087B-4E0C-9EFD-CBEE99AA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BA5C-EB53-4ED4-8B8E-7F9F32248311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7740720" y="5805360"/>
            <a:ext cx="1214280" cy="93672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1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2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2A92-CCE5-421B-9995-85DF2F8F2FC3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3352680" y="685800"/>
            <a:ext cx="2590920" cy="199872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cc"/>
            </a:gs>
            <a:gs pos="50000">
              <a:srgbClr val="0079a2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170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201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CANN Preliminary Budge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o de Janeiro, Braz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26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art Ly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liminary Budget posted March 16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ing 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est for community input (October, Decemb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e Committee (four mee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get Advisory Gro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ely and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ow the community as a wh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one president to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ed Final Budget to be posted May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ing further consul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642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xpa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inated by ICANN 1.0 --&gt; ICANN 2.0 staff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saged by Blueprint, Byla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programmatic and support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reach,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tion and other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ing steady growth of rese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effectiveness and 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ANN finally able to per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d priorities and 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ial burden falls primarily on gTLD registrars/regi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in contractual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allocations to ccT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reliminary Budget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44792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March 16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0866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2:12:36Z</dcterms:created>
  <dc:creator>Stuart Lynn</dc:creator>
  <dc:description/>
  <dc:language>en-US</dc:language>
  <cp:lastModifiedBy>Louis Touton</cp:lastModifiedBy>
  <dcterms:modified xsi:type="dcterms:W3CDTF">2003-03-29T19:04:14Z</dcterms:modified>
  <cp:revision>158</cp:revision>
  <dc:subject/>
  <dc:title>“Building Partnerships: A Global Challenge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4042962</vt:r8>
  </property>
  <property fmtid="{D5CDD505-2E9C-101B-9397-08002B2CF9AE}" pid="3" name="_AuthorEmail">
    <vt:lpwstr>herbert@icann.org</vt:lpwstr>
  </property>
  <property fmtid="{D5CDD505-2E9C-101B-9397-08002B2CF9AE}" pid="4" name="_AuthorEmailDisplayName">
    <vt:lpwstr>Herbert Vitzthum</vt:lpwstr>
  </property>
  <property fmtid="{D5CDD505-2E9C-101B-9397-08002B2CF9AE}" pid="5" name="_EmailSubject">
    <vt:lpwstr>lynn-to-CENTR-17dec01 (Herbert-Draft).ppt</vt:lpwstr>
  </property>
  <property fmtid="{D5CDD505-2E9C-101B-9397-08002B2CF9AE}" pid="6" name="_ReviewingToolsShownOnce">
    <vt:lpwstr/>
  </property>
</Properties>
</file>