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3F9F-BCCF-4916-B993-43805593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DEB-F1D3-4EE3-A6F9-5657333E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889-8064-48EE-A25A-BFB4ECDA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6DC-32A3-43CA-963A-1B5C6FC0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928-1031-4B1A-AC9F-CA41013A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F72-94AC-4F4B-8ABB-D623C24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984-4203-4BD5-8F89-22A8B17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64B0-25D4-4784-84D0-24AA9C6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49B-38B9-4DC0-87E9-D8D42AE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CDF-B537-486E-9A90-909B80B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9A4C-B400-4D31-A3BB-CFA2470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0A9C-E8A4-4AAD-BE56-912E2BE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9EA-6A71-4FF2-AFB8-56DFC65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548D-115A-4DFE-8594-91E2E60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23C-CD92-45DF-871B-ADAA9CD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AB6-C0FC-45FF-AA3B-E328F293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05D-3F13-4971-A6C0-992C8E6C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C5AA-7D17-4A38-9AFE-61E66141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955-4066-4F20-9DDD-25BAD68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F62-DE44-4A80-B581-CD315227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D8B-134F-410F-A416-E7B543D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31D-D06C-4E5A-8AFA-490667D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99D-63E8-433A-8DFE-4931E7E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BEC-7A6C-42A0-BE21-CAA46A7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65B-BDFF-4809-BA7A-097A8145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BAE-157E-4B3C-9E4A-05D1CB6838BD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D166-90D7-40E2-90F2-0F44A2438D7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 Conclus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anks to Board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anks to staff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057040" y="155700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3760" y="155700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za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e-Rach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7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20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 President’s Repor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o de Janeiro,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6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00400" y="1158840"/>
            <a:ext cx="266688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266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3920" y="1785600"/>
            <a:ext cx="487656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orum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2003-04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 &amp; Staff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s &amp;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NA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udget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1-02 Audit Report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2-03 first six months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udited compilation by accoun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able with budget pro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get proj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5638320"/>
            <a:ext cx="380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udget Projection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89000"/>
            <a:ext cx="7010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ff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staff on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s since Sha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master: Terri Ir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 of Registry Operations: visa 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y Liaison: Karen Len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Analyst: Renée F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ptionist: Tanzanica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nager of Public Particip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budgete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 of GNSO support &amp; polic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system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TLD lia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budsman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ontracts and Report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NA contract renewed by U.S. 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 contract with 6mo then every 12 mo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s with M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DA root server report filed on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d by M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version po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cTLD agreements 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tw,.la, .af,.ke,.sd,.uz (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ANA Performance Da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229600" cy="2252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TLD Name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Redelegations Involv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eeting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Mid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real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(22) Mon 23-Thur 26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Late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hage, Tun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(27) Tue 28 - Fri 31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Early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Mid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a Pa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Late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etown, 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Louis Touton</cp:lastModifiedBy>
  <dcterms:modified xsi:type="dcterms:W3CDTF">2003-03-29T19:40:33Z</dcterms:modified>
  <cp:revision>153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  <property fmtid="{D5CDD505-2E9C-101B-9397-08002B2CF9AE}" pid="6" name="_ReviewingToolsShownOnce">
    <vt:lpwstr/>
  </property>
</Properties>
</file>