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2A4E-471D-4ABD-BCCE-08C4D09A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17A-B833-4A14-A436-D8C600EA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EA1-19A4-4B59-A053-4B7A317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B98-1AC7-49B9-9B0E-5992A682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70B-8AE0-4DF9-9D66-313AB2DE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57EA-8D41-4B15-AB66-C3530426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6621-59F4-403E-AB98-564B4D88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6259-9EC8-4F7B-935C-D78A01B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4AF-3FA7-4EB1-B845-587D3925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288A-F0C7-4515-A8C6-2E238B61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F5D-0134-4954-892F-A43D8E4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A815-B8B8-4E7D-AD52-45EEF90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EFE-D67D-4952-96BD-992CF409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978F-93F8-450E-9285-7CEDF23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74B-531C-4789-8124-6DDBA76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56CF-33A7-417D-AE91-B358550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A3C3-7078-431F-9D57-6A23E2B2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43A-D2C0-4686-BE1A-E13C1AF2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AB3-4F44-46A5-89A1-FC82C389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436-9C45-4BC9-B528-C006A8D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149-1E8D-4DF2-AA9C-A69D2410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704-25C4-4714-A38A-578F937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1AE-62D5-4F19-AB56-4DDBECC6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A36-105A-4C94-949C-80D63CC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F0F-2CE6-42BF-BE4A-61C5B2F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DAC0-14BC-4301-82E2-77105950EA4A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0E5-39BF-459B-BB62-8F8C128EC1B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n Conclus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anks to Board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anks to staff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057040" y="155700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3760" y="155700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za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e-Rach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b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17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CANN President’s Repor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o de Janeiro,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6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00400" y="1158840"/>
            <a:ext cx="266688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266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33920" y="1785600"/>
            <a:ext cx="487656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orum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2003-04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  &amp; Staffing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s &amp;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NA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udget Statu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1-02 Audit Report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2-03 first six months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udited compilation by accoun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able with budget pro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get proj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5638320"/>
            <a:ext cx="380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udget Projection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89000"/>
            <a:ext cx="7010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ff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staff on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s since Shangh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master: Terri Ir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 of Registry Operations: visa p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y Liaison: Karen Len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Analyst: Renée F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ptionist: Tanzanica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nager of Public Particip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budget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 of GNSO support &amp; polic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system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TLD lia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budsman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ontracts and Repor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NA contract renewed by U.S. 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 contract with 6mo then every 12 mo check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s with M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DA root server report filed on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d by M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version po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cTLD agreements sig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tw,.la, .af,.ke,.sd,.uz (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ANA Performance Da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8229600" cy="2252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TLD Name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Redelegations Involv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eeting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Mid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real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(22) Mon 23-Thur 26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Late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hage, Tuni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(27) Tue 28 - Fri 31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Early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Mid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ia Pa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Late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etown, 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3-03-29T19:40:33Z</dcterms:modified>
  <cp:revision>153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  <property fmtid="{D5CDD505-2E9C-101B-9397-08002B2CF9AE}" pid="6" name="_ReviewingToolsShownOnce">
    <vt:lpwstr/>
  </property>
</Properties>
</file>