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0D37-0873-4AEC-8E6D-E9947A6DC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164120" y="0"/>
            <a:ext cx="318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64120" y="8686800"/>
            <a:ext cx="318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8686800"/>
            <a:ext cx="318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318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8568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BA9D-8396-4D76-8D53-F10693E4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36CB-B856-4EB5-B56A-C4C49BE6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2EBE-9575-40C0-A280-C88CE626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7D43-BB08-49AC-A47A-979301EA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9039-0934-4FE8-9334-866E4B52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0000-BEC3-49F2-98BD-CAF7030C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1B9A-A6BC-419A-B765-8EA62F76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17B7-7F49-456D-A1A2-8AC0952F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EC77-2C2B-41DB-9038-0EE6644C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436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B6C7-042E-4AB1-B5F3-1D97C4BA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A1F4-B090-422C-95A6-6BCA090C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5F5A-C9CA-4207-8B9B-21BAB18A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8ED4-B949-4EF9-B348-E7F6B25A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6415-B6BF-420B-B14F-880EC024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C665-55F0-46FA-9007-EA085759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38DC-2E57-43AA-9083-928A0BED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64E0-3E9F-4E4E-ACD8-34653189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CBE0-C220-401B-A627-2A698E2D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EB5E-215B-4DA8-B45C-79CA9612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C268-7DA3-43E0-8AF8-1F3A34F6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436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4329-D026-460F-ACD9-4E4EF787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F349-7E01-4E73-8BFE-2DEADEF7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944F-33F4-4884-A23E-E90EB562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9A1D-5404-4540-9642-CACCAE45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" name="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3" name="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2" name="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E602-5E95-433F-86DA-1B10EF09A8EE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ICANN Logo"/>
          <p:cNvPicPr/>
          <p:nvPr/>
        </p:nvPicPr>
        <p:blipFill>
          <a:blip r:embed="rId2">
            <a:alphaModFix amt="13000"/>
          </a:blip>
          <a:stretch/>
        </p:blipFill>
        <p:spPr>
          <a:xfrm>
            <a:off x="7740720" y="5805360"/>
            <a:ext cx="1214280" cy="936720"/>
          </a:xfrm>
          <a:prstGeom prst="rect">
            <a:avLst/>
          </a:prstGeom>
          <a:ln w="12600">
            <a:solidFill>
              <a:srgbClr val="0000ff">
                <a:alpha val="57000"/>
              </a:srgbClr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81" name="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83" name="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" name="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89" name="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" name="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" name="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8" name="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" name="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" name="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112" name="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300A-83CE-4030-8296-9EA6DB9B7A70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ICANN Logo"/>
          <p:cNvPicPr/>
          <p:nvPr/>
        </p:nvPicPr>
        <p:blipFill>
          <a:blip r:embed="rId2">
            <a:alphaModFix amt="13000"/>
          </a:blip>
          <a:stretch/>
        </p:blipFill>
        <p:spPr>
          <a:xfrm>
            <a:off x="3352680" y="685800"/>
            <a:ext cx="2590920" cy="1998720"/>
          </a:xfrm>
          <a:prstGeom prst="rect">
            <a:avLst/>
          </a:prstGeom>
          <a:ln w="12600">
            <a:solidFill>
              <a:srgbClr val="0000ff">
                <a:alpha val="57000"/>
              </a:srgbClr>
            </a:solidFill>
            <a:miter/>
          </a:ln>
        </p:spPr>
      </p:pic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cann.org/riodejaneiro/stld-rfp-topic.htm" TargetMode="External"/><Relationship Id="rId2" Type="http://schemas.openxmlformats.org/officeDocument/2006/relationships/hyperlink" Target="http://www.icann.org/committees/ntepptf/stld-compliance-report-25feb03.ht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cc"/>
            </a:gs>
            <a:gs pos="50000">
              <a:srgbClr val="0079a2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0" y="0"/>
            <a:ext cx="8835840" cy="5256000"/>
            <a:chOff x="0" y="0"/>
            <a:chExt cx="8835840" cy="5256000"/>
          </a:xfrm>
        </p:grpSpPr>
        <p:grpSp>
          <p:nvGrpSpPr>
            <p:cNvPr id="170" name=""/>
            <p:cNvGrpSpPr/>
            <p:nvPr/>
          </p:nvGrpSpPr>
          <p:grpSpPr>
            <a:xfrm>
              <a:off x="3527280" y="2880"/>
              <a:ext cx="5308560" cy="4889520"/>
              <a:chOff x="3527280" y="2880"/>
              <a:chExt cx="5308560" cy="488952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8055000" y="3111480"/>
                <a:ext cx="780840" cy="1780920"/>
                <a:chOff x="8055000" y="3111480"/>
                <a:chExt cx="780840" cy="1780920"/>
              </a:xfrm>
            </p:grpSpPr>
            <p:grpSp>
              <p:nvGrpSpPr>
                <p:cNvPr id="172" name=""/>
                <p:cNvGrpSpPr/>
                <p:nvPr/>
              </p:nvGrpSpPr>
              <p:grpSpPr>
                <a:xfrm>
                  <a:off x="8055000" y="4368600"/>
                  <a:ext cx="780840" cy="523800"/>
                  <a:chOff x="8055000" y="4368600"/>
                  <a:chExt cx="780840" cy="52380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8710560" y="436860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8470800" y="462276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8055000" y="463860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" name=""/>
                <p:cNvSpPr/>
                <p:nvPr/>
              </p:nvSpPr>
              <p:spPr>
                <a:xfrm>
                  <a:off x="8213760" y="311148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669000" y="776160"/>
                <a:ext cx="1646280" cy="3798720"/>
                <a:chOff x="6669000" y="776160"/>
                <a:chExt cx="1646280" cy="379872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6933960" y="1163520"/>
                  <a:ext cx="368280" cy="1141560"/>
                  <a:chOff x="6933960" y="1163520"/>
                  <a:chExt cx="368280" cy="11415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6933960" y="218736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7167600" y="198432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7151400" y="116352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7277040" y="347328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034040" y="323532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348320" y="294156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075440" y="281304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686720" y="303840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669000" y="277308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257960" y="224460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186680" y="132876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914880" y="77616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3527280" y="2880"/>
                <a:ext cx="3789360" cy="4391280"/>
                <a:chOff x="3527280" y="2880"/>
                <a:chExt cx="3789360" cy="439128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3527280" y="153828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3" name=""/>
                <p:cNvGrpSpPr/>
                <p:nvPr/>
              </p:nvGrpSpPr>
              <p:grpSpPr>
                <a:xfrm>
                  <a:off x="3655800" y="2880"/>
                  <a:ext cx="835200" cy="984240"/>
                  <a:chOff x="3655800" y="2880"/>
                  <a:chExt cx="835200" cy="984240"/>
                </a:xfrm>
              </p:grpSpPr>
              <p:grpSp>
                <p:nvGrpSpPr>
                  <p:cNvPr id="194" name=""/>
                  <p:cNvGrpSpPr/>
                  <p:nvPr/>
                </p:nvGrpSpPr>
                <p:grpSpPr>
                  <a:xfrm>
                    <a:off x="3986280" y="617400"/>
                    <a:ext cx="261720" cy="369720"/>
                    <a:chOff x="3986280" y="617400"/>
                    <a:chExt cx="261720" cy="369720"/>
                  </a:xfrm>
                </p:grpSpPr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3986280" y="75240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098960" y="61740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7" name=""/>
                  <p:cNvSpPr/>
                  <p:nvPr/>
                </p:nvSpPr>
                <p:spPr>
                  <a:xfrm>
                    <a:off x="3655800" y="288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5130720" y="349236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941640" y="6336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0" y="0"/>
              <a:ext cx="2960640" cy="5256000"/>
              <a:chOff x="0" y="0"/>
              <a:chExt cx="2960640" cy="5256000"/>
            </a:xfrm>
          </p:grpSpPr>
          <p:sp>
            <p:nvSpPr>
              <p:cNvPr id="201" name=""/>
              <p:cNvSpPr/>
              <p:nvPr/>
            </p:nvSpPr>
            <p:spPr>
              <a:xfrm>
                <a:off x="0" y="23148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431720" y="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95280" y="22680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42960" y="207936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812960" y="219060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687320" y="256068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TLD RFP: Statu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o de Janeiro, Braz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 24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art Ly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Board Actio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sterdam, December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-part re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unch new TLD e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criticality 1 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ained contract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k GNSO advice re top level name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ucture or no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, 20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requisite to moving forw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 President to develop RFP for Board appro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“few” new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ponsor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sion of “Proof of Concept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r fewer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ow going as predi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 “Few” Sponsored TLD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20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ft methodology &amp; evaluation criteria posted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a6a"/>
                </a:solidFill>
                <a:uFillTx/>
                <a:latin typeface="Arial"/>
                <a:hlinkClick r:id="rId1"/>
              </a:rPr>
              <a:t>http://www.icann.org/riodejaneiro/stld-rfp-topic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ed from meeting agenda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1880" indent="-191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community com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1880" indent="-191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FP for board approval in 4 - 6 wee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1880" indent="-191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 posted on existing sTLD registrants conformance to char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a6a"/>
                </a:solidFill>
                <a:uFillTx/>
                <a:latin typeface="Arial"/>
                <a:hlinkClick r:id="rId2"/>
              </a:rPr>
              <a:t>http://www.icann.org/committees/ntepptf/stld-compliance-report-25feb03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ed from meeting agenda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Draft Methodology &amp; Evaluatio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1709640"/>
            <a:ext cx="8458200" cy="45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onsor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view of proposed RFP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ft Select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ed Criteria Evaluation Method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s and s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line Proposal Evaluation Method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evaluation t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ponsored TLD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to registrants from defined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ing members of sponsoring orga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pe of activity, registrations be defined by limited char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egated policy respon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&amp; transparent gover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bers influence 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here to applicable ICANN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Draft Selection Criteri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86868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ure stable registry 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continuity requi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orm to requirements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onsor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new value to D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 value of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hanced diversity of D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h &amp; enrich broad global comm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graphic r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 reach &amp; acces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vel of community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ect rights of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ter compli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ute resolu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is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12:12:36Z</dcterms:created>
  <dc:creator>Stuart Lynn</dc:creator>
  <dc:description/>
  <dc:language>en-US</dc:language>
  <cp:lastModifiedBy>Louis Touton</cp:lastModifiedBy>
  <dcterms:modified xsi:type="dcterms:W3CDTF">2003-03-29T19:48:52Z</dcterms:modified>
  <cp:revision>162</cp:revision>
  <dc:subject/>
  <dc:title>“Building Partnerships: A Global Challenge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4042962</vt:r8>
  </property>
  <property fmtid="{D5CDD505-2E9C-101B-9397-08002B2CF9AE}" pid="3" name="_AuthorEmail">
    <vt:lpwstr>herbert@icann.org</vt:lpwstr>
  </property>
  <property fmtid="{D5CDD505-2E9C-101B-9397-08002B2CF9AE}" pid="4" name="_AuthorEmailDisplayName">
    <vt:lpwstr>Herbert Vitzthum</vt:lpwstr>
  </property>
  <property fmtid="{D5CDD505-2E9C-101B-9397-08002B2CF9AE}" pid="5" name="_EmailSubject">
    <vt:lpwstr>lynn-to-CENTR-17dec01 (Herbert-Draft).ppt</vt:lpwstr>
  </property>
  <property fmtid="{D5CDD505-2E9C-101B-9397-08002B2CF9AE}" pid="6" name="_ReviewingToolsShownOnce">
    <vt:lpwstr/>
  </property>
</Properties>
</file>