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8F75-7D23-429A-816C-8125C6DE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1E3-8DB3-467F-B668-63CDF6B9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CD2-2E72-4928-9BDA-8F160014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C25-51BA-4DFD-A7BF-72301D5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A84-7472-4172-A2EC-5B4720A0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EA0-0E78-41B5-8301-570F75A1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334C-CCB1-4F2D-812F-6A34269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31F-737C-487D-A1B2-0118F29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4BC4-77EE-4E5D-B130-78CC648B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1892-632C-487C-807B-6B583B3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8059-1EAB-482C-BF7E-ACACC54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B543-7C48-4BDA-9135-453C600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1E9-1A0F-419B-BA16-0F0EA87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9E1-BD34-4911-8C56-1B0F108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FD4-F828-4B7E-B1CA-F9DA5AF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0367-E4BC-43D7-AE8A-B55CF51A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401-7D88-4857-B8BF-8097A4B1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8419-B6AF-400F-96CA-61F12156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CBD-F68F-44C0-9DC1-A62D7EF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8B4-0F83-4209-B0BD-A40BC69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A68-6AEB-4934-8154-B8F78CB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5D1-2FE3-4263-8672-0FE195C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7FF-F8A1-4C26-B9DD-ED2F72E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578-3D6D-4D2A-89CF-B4CCE69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F95-1B07-4B3A-BA44-C1ED783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09B-93A1-4EBD-A6F4-F8BB268BD11E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9C2E-9082-4192-9719-356884A3B425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riodejaneiro/stld-rfp-topic.htm" TargetMode="External"/><Relationship Id="rId2" Type="http://schemas.openxmlformats.org/officeDocument/2006/relationships/hyperlink" Target="http://www.icann.org/committees/ntepptf/stld-compliance-report-25feb03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0"/>
            <a:ext cx="8835840" cy="5256000"/>
            <a:chOff x="0" y="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527280" y="2880"/>
              <a:ext cx="5308560" cy="4889520"/>
              <a:chOff x="3527280" y="288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055000" y="3111480"/>
                <a:ext cx="780840" cy="1780920"/>
                <a:chOff x="8055000" y="311148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055000" y="4368600"/>
                  <a:ext cx="780840" cy="523800"/>
                  <a:chOff x="8055000" y="436860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710560" y="436860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470800" y="462276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55000" y="463860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213760" y="311148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69000" y="776160"/>
                <a:ext cx="1646280" cy="3798720"/>
                <a:chOff x="6669000" y="77616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933960" y="1163520"/>
                  <a:ext cx="368280" cy="1141560"/>
                  <a:chOff x="6933960" y="116352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933960" y="218736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167600" y="198432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51400" y="116352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277040" y="347328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34040" y="323532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48320" y="294156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75440" y="281304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686720" y="303840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69000" y="277308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257960" y="224460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186680" y="132876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14880" y="77616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527280" y="2880"/>
                <a:ext cx="3789360" cy="4391280"/>
                <a:chOff x="3527280" y="288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27280" y="153828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655800" y="2880"/>
                  <a:ext cx="835200" cy="984240"/>
                  <a:chOff x="3655800" y="288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3986280" y="617400"/>
                    <a:ext cx="261720" cy="369720"/>
                    <a:chOff x="3986280" y="61740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986280" y="75240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098960" y="61740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655800" y="288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130720" y="349236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41640" y="6336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0" y="0"/>
              <a:ext cx="2960640" cy="5256000"/>
              <a:chOff x="0" y="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3148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31720" y="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5280" y="22680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42960" y="207936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12960" y="219060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87320" y="256068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LD RFP: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4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oard A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sterdam, Decembe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-part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new TLD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criticality 1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ned contrac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GNSO advice re top level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or n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requisite to moving 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President to develop RFP for Board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“few” new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 of “Proof of Concep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r fewer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w going as predi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 “Few” Sponsored TL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0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methodology &amp; evaluation criteria post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a6a"/>
                </a:solidFill>
                <a:uFillTx/>
                <a:latin typeface="Arial"/>
                <a:hlinkClick r:id="rId1"/>
              </a:rPr>
              <a:t>http://www.icann.org/riodejaneiro/stld-rfp-topic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d from meeting agenda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mmunity com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FP for board approval in 4 - 6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posted on existing sTLD registrants conformance to cha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a6a"/>
                </a:solidFill>
                <a:uFillTx/>
                <a:latin typeface="Arial"/>
                <a:hlinkClick r:id="rId2"/>
              </a:rPr>
              <a:t>http://www.icann.org/committees/ntepptf/stld-compliance-report-25feb03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d from meeting agenda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raft Methodology &amp; Evalu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709640"/>
            <a:ext cx="84582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proposed RFP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ft Selec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Criteria Evalu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s and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ine Proposal Evalu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evaluation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ponsored TL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o registrants from defined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ing members of sponsoring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 of activity, registrations be defined by limited ch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gated policy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&amp; transparent 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influenc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re to applicable ICANN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raft Selection Criter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able registry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continuity requ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rm to requirement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ew value to D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value of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diversity of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&amp; enrich broad global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graphic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reach &amp; 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communit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rights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ute resolu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is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48:52Z</dcterms:modified>
  <cp:revision>162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