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18E-8647-4E88-B7B5-3A10C2B4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D62-BAAA-4BFE-B975-A27FB42D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CDE-925D-4AD7-9436-3CF9DC65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D63-586C-484F-8F69-A4C0C93A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69D-AA96-4570-87F5-9597BAD2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5408-0A05-46C5-BA0F-BE6C81AC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7CAB-163B-43DE-A2B2-D90848FB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B87A-C571-43A4-A1C5-70208B7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2400-04BA-44E3-AF0D-DFDCF35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2EE5-AEBB-48C7-8850-7A236E26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615-CFA0-4504-AB19-C46AD5F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2FC-060A-4440-A9CA-72B0396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25A-D27D-4332-8F9D-533AF2D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97E9-8106-4D04-B8B9-740FF3A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A013-A665-481C-8A31-FC773D3F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D636-ED9D-41EE-BD61-B39B724C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FF0E-A510-4934-92FB-AF8DBADB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A33-4A55-4E68-BB4F-E2EA9A6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320-0211-4BA4-A1AA-2EAAD714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391-80E8-4282-8B43-5D7B18D6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AD4-32AD-4452-B8D8-2AE8EE6F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4B7-AAC6-44D1-A98E-8538EE8F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878-D6C7-445F-BCA6-A42EEC6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EF9-118C-42DC-907C-0BAC457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D74-4735-4330-864F-03A3C9905892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124080" y="457200"/>
            <a:ext cx="3048120" cy="235116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09DB-10B7-4327-B1CE-B5CF82FB65C6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lynn@icann.org" TargetMode="External"/><Relationship Id="rId2" Type="http://schemas.openxmlformats.org/officeDocument/2006/relationships/hyperlink" Target="mailto:lynn@icann.org" TargetMode="External"/><Relationship Id="rId3" Type="http://schemas.openxmlformats.org/officeDocument/2006/relationships/hyperlink" Target="mailto:lynn@icann.org" TargetMode="External"/><Relationship Id="rId4" Type="http://schemas.openxmlformats.org/officeDocument/2006/relationships/hyperlink" Target="mailto:comment-reform@icann.org" TargetMode="External"/><Relationship Id="rId5" Type="http://schemas.openxmlformats.org/officeDocument/2006/relationships/hyperlink" Target="mailto:comment-reform@icann.org" TargetMode="External"/><Relationship Id="rId6" Type="http://schemas.openxmlformats.org/officeDocument/2006/relationships/hyperlink" Target="mailto:comment-reform@icann.org" TargetMode="External"/><Relationship Id="rId7" Type="http://schemas.openxmlformats.org/officeDocument/2006/relationships/hyperlink" Target="http://forum.icann.org/reform/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CANN: The Case for Refor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&amp; C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AN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COT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gk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 A CROSSROA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atus Quo Not Sustaina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ceed 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by key stakehol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effectiveness over pro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irrelevant dis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te, reliable, international fu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backing for private-secto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qu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stai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 inadequate to perform core functions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global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meet conditions for full transfer of DNS root from US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s of inte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ddling through not good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eak ICANN is a vulnerable ICA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ft toward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tern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orm Requir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ink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usion of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d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nd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ffect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key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ublic/private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ny other workable alternati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ADMAP TO REFOR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onged Approac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95480" y="3200040"/>
            <a:ext cx="518184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ness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5638680"/>
            <a:ext cx="7315200" cy="1143000"/>
          </a:xfrm>
          <a:prstGeom prst="rect">
            <a:avLst/>
          </a:prstGeom>
          <a:solidFill>
            <a:srgbClr val="1145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57200"/>
            <a:ext cx="7315200" cy="2057400"/>
          </a:xfrm>
          <a:prstGeom prst="rect">
            <a:avLst/>
          </a:prstGeom>
          <a:solidFill>
            <a:srgbClr val="1145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666880"/>
            <a:ext cx="7315200" cy="2895840"/>
          </a:xfrm>
          <a:prstGeom prst="rect">
            <a:avLst/>
          </a:prstGeom>
          <a:solidFill>
            <a:srgbClr val="1145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1. Struc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5943600"/>
            <a:ext cx="2286000" cy="45720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overnment Advisor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791320"/>
            <a:ext cx="2286000" cy="7617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echnical Advisor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SAC, RSSOC, etc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2800" y="587844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ADVISOR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OMMITTE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496360" y="1371600"/>
            <a:ext cx="457200" cy="4815000"/>
            <a:chOff x="8496360" y="1371600"/>
            <a:chExt cx="457200" cy="4815000"/>
          </a:xfrm>
        </p:grpSpPr>
        <p:sp>
          <p:nvSpPr>
            <p:cNvPr id="192" name=""/>
            <p:cNvSpPr/>
            <p:nvPr/>
          </p:nvSpPr>
          <p:spPr>
            <a:xfrm>
              <a:off x="8496360" y="1371600"/>
              <a:ext cx="457200" cy="4724280"/>
            </a:xfrm>
            <a:prstGeom prst="rect">
              <a:avLst/>
            </a:prstGeom>
            <a:solidFill>
              <a:srgbClr val="1145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72680" y="1505880"/>
              <a:ext cx="304920" cy="4680720"/>
            </a:xfrm>
            <a:prstGeom prst="rect">
              <a:avLst/>
            </a:prstGeom>
            <a:solidFill>
              <a:srgbClr val="114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NOMINATING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OMMITTE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90440" y="914400"/>
            <a:ext cx="457200" cy="2133720"/>
            <a:chOff x="190440" y="914400"/>
            <a:chExt cx="457200" cy="2133720"/>
          </a:xfrm>
        </p:grpSpPr>
        <p:sp>
          <p:nvSpPr>
            <p:cNvPr id="195" name=""/>
            <p:cNvSpPr/>
            <p:nvPr/>
          </p:nvSpPr>
          <p:spPr>
            <a:xfrm>
              <a:off x="190440" y="914400"/>
              <a:ext cx="457200" cy="2133720"/>
            </a:xfrm>
            <a:prstGeom prst="rect">
              <a:avLst/>
            </a:prstGeom>
            <a:solidFill>
              <a:srgbClr val="1145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760" y="974520"/>
              <a:ext cx="304920" cy="2012040"/>
            </a:xfrm>
            <a:prstGeom prst="rect">
              <a:avLst/>
            </a:prstGeom>
            <a:solidFill>
              <a:srgbClr val="114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OMBUDSMA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52480" y="3505320"/>
            <a:ext cx="1447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ADVISOR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OUNCIL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895480"/>
            <a:ext cx="1600200" cy="1828800"/>
          </a:xfrm>
          <a:prstGeom prst="rect">
            <a:avLst/>
          </a:prstGeom>
          <a:solidFill>
            <a:srgbClr val="074cb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2760" y="3048120"/>
            <a:ext cx="1295280" cy="5331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Steer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4035600"/>
            <a:ext cx="28080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4035600"/>
            <a:ext cx="2793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276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4006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Forums*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57880" y="2895480"/>
            <a:ext cx="1600200" cy="1828800"/>
          </a:xfrm>
          <a:prstGeom prst="rect">
            <a:avLst/>
          </a:prstGeom>
          <a:solidFill>
            <a:srgbClr val="074cb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10160" y="3048120"/>
            <a:ext cx="1295280" cy="5331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Steer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8120" y="4035600"/>
            <a:ext cx="2793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016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006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Forums*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38960" y="2895480"/>
            <a:ext cx="1600200" cy="1828800"/>
          </a:xfrm>
          <a:prstGeom prst="rect">
            <a:avLst/>
          </a:prstGeom>
          <a:solidFill>
            <a:srgbClr val="074cb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91240" y="3048120"/>
            <a:ext cx="1295640" cy="5331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Steer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4035600"/>
            <a:ext cx="28080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9200" y="4035600"/>
            <a:ext cx="2793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9124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91240" y="40068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Forums*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29080" y="4876920"/>
            <a:ext cx="121896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Nam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876920"/>
            <a:ext cx="14479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eographi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Nam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38960" y="4913280"/>
            <a:ext cx="16765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Numbers a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ddress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4680" y="3581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67360" y="3581280"/>
            <a:ext cx="43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48440" y="358128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0440" y="3276720"/>
            <a:ext cx="457200" cy="3200400"/>
            <a:chOff x="190440" y="3276720"/>
            <a:chExt cx="457200" cy="3200400"/>
          </a:xfrm>
        </p:grpSpPr>
        <p:sp>
          <p:nvSpPr>
            <p:cNvPr id="223" name=""/>
            <p:cNvSpPr/>
            <p:nvPr/>
          </p:nvSpPr>
          <p:spPr>
            <a:xfrm>
              <a:off x="190440" y="3276720"/>
              <a:ext cx="457200" cy="3200400"/>
            </a:xfrm>
            <a:prstGeom prst="rect">
              <a:avLst/>
            </a:prstGeom>
            <a:solidFill>
              <a:srgbClr val="1145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760" y="3366720"/>
              <a:ext cx="304920" cy="2975760"/>
            </a:xfrm>
            <a:prstGeom prst="rect">
              <a:avLst/>
            </a:prstGeom>
            <a:solidFill>
              <a:srgbClr val="114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ARTI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852480" y="957240"/>
            <a:ext cx="1447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RUSTE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15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184480" y="689040"/>
            <a:ext cx="1904760" cy="987480"/>
            <a:chOff x="2184480" y="689040"/>
            <a:chExt cx="1904760" cy="987480"/>
          </a:xfrm>
        </p:grpSpPr>
        <p:sp>
          <p:nvSpPr>
            <p:cNvPr id="227" name=""/>
            <p:cNvSpPr/>
            <p:nvPr/>
          </p:nvSpPr>
          <p:spPr>
            <a:xfrm>
              <a:off x="2184480" y="1070280"/>
              <a:ext cx="1904760" cy="606240"/>
            </a:xfrm>
            <a:prstGeom prst="rect">
              <a:avLst/>
            </a:prstGeom>
            <a:solidFill>
              <a:srgbClr val="1004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37040" y="689040"/>
              <a:ext cx="0" cy="381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070000" y="1146240"/>
            <a:ext cx="21337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ppointe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292640" y="689040"/>
            <a:ext cx="1904760" cy="987480"/>
            <a:chOff x="4292640" y="689040"/>
            <a:chExt cx="1904760" cy="987480"/>
          </a:xfrm>
        </p:grpSpPr>
        <p:sp>
          <p:nvSpPr>
            <p:cNvPr id="231" name=""/>
            <p:cNvSpPr/>
            <p:nvPr/>
          </p:nvSpPr>
          <p:spPr>
            <a:xfrm>
              <a:off x="4292640" y="1070280"/>
              <a:ext cx="1904760" cy="606240"/>
            </a:xfrm>
            <a:prstGeom prst="rect">
              <a:avLst/>
            </a:prstGeom>
            <a:solidFill>
              <a:srgbClr val="1004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45200" y="689040"/>
              <a:ext cx="0" cy="381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178160" y="129528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88200" y="1069920"/>
            <a:ext cx="1650960" cy="606600"/>
          </a:xfrm>
          <a:prstGeom prst="rect">
            <a:avLst/>
          </a:prstGeom>
          <a:solidFill>
            <a:srgbClr val="100491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29400" y="1204920"/>
            <a:ext cx="11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Ex-Offici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37040" y="689040"/>
            <a:ext cx="431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689040"/>
            <a:ext cx="4572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57360" y="167652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5 Regional?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2560" y="16765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5 via NonCom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47840" y="16765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4 + CEO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7200" y="202572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[+ non-voting GAC, IAB Designees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533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t Larg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61880" y="1676520"/>
            <a:ext cx="350532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19640" y="1676520"/>
            <a:ext cx="182880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200720" y="1676520"/>
            <a:ext cx="22860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50840" y="4632480"/>
            <a:ext cx="245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5240" y="481644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*Self-Organizin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um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391520" y="1676520"/>
            <a:ext cx="41904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2. Funding Princip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481040"/>
            <a:ext cx="83822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quate, Reliable, Intern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70000"/>
              </a:lnSpc>
              <a:spcBef>
                <a:spcPts val="374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policymaking; root name server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r Unbund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ements vs Fee fo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size, GNP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Share Principle for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participation = Fair share fu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n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ed agre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s fo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3. Openness &amp; Transpar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buds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r. Of Public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d by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ence, knowledge, leadership, judgment, geographic and functional diversity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keholder Lia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nd 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Con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-An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aning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organizing foru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ow Does This Solve The Problem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33360" y="3005280"/>
            <a:ext cx="6476760" cy="34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ot and S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 much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er Opportunities to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er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920" y="3233880"/>
            <a:ext cx="5790960" cy="15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Unfulfilled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 Crossro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ing Towards a Cl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 to Re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Core 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blic/Private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 Need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Yo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a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oint not an end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deas, comments, critici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lynn@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2"/>
              </a:rPr>
              <a:t>icann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4"/>
              </a:rPr>
              <a:t>comment-reform@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5"/>
              </a:rPr>
              <a:t>icann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6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7c80"/>
                </a:solidFill>
                <a:uFillTx/>
                <a:latin typeface="Times New Roman"/>
                <a:hlinkClick r:id="rId7"/>
              </a:rPr>
              <a:t>http://forum.icann.org/refor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&amp;A s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ed a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ust move with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isp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CANN Red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09680" y="2014200"/>
            <a:ext cx="563904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trong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and Ag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ed by Key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ublic/Private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d by Best Team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ard &amp; Steering Committ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and 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articipation not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ly Fu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RE WE A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CANN’s Mis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81532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private sector, global coordination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ize + international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ile and eff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alternative to government treaty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ames, numbers,address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ved as a bold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dibly ambiti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greements, no funding model, no f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s la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ission be achiev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in The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as structu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accomplished, but key goals not attai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requisites for full transfer of DNS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U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need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gnific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uctural re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azing if it did no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formed ICAN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ht focus on core 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nd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blic/priv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tnership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ly private will f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ly governmental highly undesi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able bal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y ICANN Cannot Succe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ull particip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key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sure of legitim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burdened by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xpense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-like layers of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government legitimacy,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many dist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te, unreliable, US-centric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no clear path to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een as credible by key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:  A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u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debating soci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ey Stakehold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90920" y="300492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Registries/Registr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T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T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Regis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ot name server op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” 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o Much Proces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over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over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ICANN as a political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everyone’s agre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ckle IC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sensitivity to role of 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nd more contr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out of wh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has become an end in it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xpense of effec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many dist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Large El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inishes support for ICAN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adequate Fund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started with no guaranteed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registries/registrars particip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not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funded for three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budget shortfall each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modat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hiring to authorized 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going rese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even if fully fu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backup of key individu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take on needed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2-03-08T04:16:59Z</dcterms:modified>
  <cp:revision>211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</Properties>
</file>