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24E-66C7-474C-8BB8-F3E833CD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EDD-BC87-4645-9EF9-DE1D8BCE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C07-0FB4-46E7-9511-651DCD16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E4B-4FEB-410C-836B-E96D0E37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F84D-679D-4BB8-9FA4-86A5E5D5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F0F6-673C-4E37-A498-4F951A28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17DE-05AE-40B1-BE57-9DD9BD9F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AF0B-B0FC-4F7E-97D1-31115DF8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2814-ECC6-41FD-94D0-ECD4F8CF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3068-2EF5-47D5-BF63-606524D3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F755-D2EF-4A71-83A1-8689181F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3ED-2527-412F-B9C8-AD56D992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F447-76CA-4E99-8DED-3B904C9E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373A-8E9C-4C17-947C-B3F285EF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C000-F91C-43B2-80F4-03953B76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8EBB-3AE7-4A72-974B-CF7D28CB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994C-CD63-47CF-A798-2E31B423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574-6B07-440A-90BC-CE533B89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9B2-AF0A-4A94-AC5B-ECCFFBA9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3FB-9A54-46B4-9B74-4963003C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C4C-ED24-49A0-BB1E-C1C8C5CB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B3F-1488-48C8-8439-80E0ECCC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F3D-E75C-4E85-8A35-3CCB2B93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95F-D05A-4E54-A527-9EC3D2F5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A2BB-BDF1-4B7C-913B-CB2F0F81290F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15200" y="5334120"/>
            <a:ext cx="1676520" cy="13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1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7BDB-4DAA-449F-8391-99395650A16C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00400" y="533520"/>
            <a:ext cx="2743200" cy="215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 TLD Evaluation Process Planning Task For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pdate to ICANN Public Foru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uart Lyn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nday, September 9, 200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TEPPTF Chart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la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for monitoring and evaluation of new TL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cus on technical, business, leg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ly on contractually available da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pose schedule for execution of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sent to Board by Montevide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ASK FORCE MEMB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aap Akkerhuis (ccTL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bastien Bachollet (B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rilyn Cade (B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avid Conrad (RSSA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chael Heltzer (I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off Houston (PS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4956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berto Laorden (PS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uart Lynn (Chai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any Martinez (NC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 J Park (NC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rian Pinder (GA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0932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verall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as for 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Questions for each are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trics for each ques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edu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thodolog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E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chnic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NS stability and perform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erational perform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si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li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demarks, cybersquatting, dispute resolu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sum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g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greements and effectiveness of agreem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ro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Selection, negotiation, communications, monitor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ffect on ICANN decis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unch new TL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ape character of new TL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answer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asured with available 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asonably objective qualitative proc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thin useful timefra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rt-up, steady-st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parate tr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onsored vs unsponsor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tricted vs unrestric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ctober 10: Post draft questions for feedb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d of October: Post draft report for feedb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cept metric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vember Meeting: Submit adjusted draft repor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erim recommend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d-January: Post draft metrics for feedb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d-February: Post “final” report for feedb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rch Meeting: Submit final repor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06:48:08Z</dcterms:created>
  <dc:creator>M. Stuart Lynn</dc:creator>
  <dc:description/>
  <dc:language>en-US</dc:language>
  <cp:lastModifiedBy>Louis Touton</cp:lastModifiedBy>
  <dcterms:modified xsi:type="dcterms:W3CDTF">2003-03-29T19:57:53Z</dcterms:modified>
  <cp:revision>25</cp:revision>
  <dc:subject/>
  <dc:title>Presentation to the GAC </dc:title>
</cp:coreProperties>
</file>