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330-5CA2-4061-9456-3B25100D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6C6-2F57-4588-9A5A-B5760F0C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F92-AB81-4423-B783-A2F5FAB4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A9E-5AD2-42C6-B606-204F0129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4555-258F-4957-BA02-4AFD5DB1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1CF1-F1FD-42AA-B777-7D4AD64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D43B-093B-4FD9-B1BA-33E94597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EFED-02BD-4AF6-A791-99738F9E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A603-D2A5-4701-999D-E0AEDD4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8DE9-7DF6-4463-B8EB-812D481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76B3-D0FB-46D3-BF25-18B0D0A3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F94-65D3-4C6B-9C43-11FCA950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2403-6612-4D85-A4C5-687074E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5350-A133-473A-BD1F-73F4DF1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7596-876E-44C2-8AB4-F69FE28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F17-1C28-4F00-BB6B-E0BB5DFF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A252-3975-45C9-BFD0-06FB97F3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C98-3A16-4963-9D2A-A72AAC4F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25D-CB20-4B5C-BAA4-D9999478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01A-BAA0-4CA8-957C-266AE58F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FED-6B1D-4C2D-A344-C73C469E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B78-7F60-4DFD-94D3-A237938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14D-8CAF-405E-9C4F-E1CE43A8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113-9A7A-4797-A33D-A19417D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86E1-43C3-4885-A702-07BF331A08FC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15200" y="5334120"/>
            <a:ext cx="1676520" cy="13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1744-07F0-49FB-896F-AB7FB20BD8C3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00400" y="533520"/>
            <a:ext cx="2743200" cy="215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TLD Evaluation Process Planning Task F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pdate to ICANN Public Foru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art Lyn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nday, September 9, 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TEPPTF Chart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l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for monitoring and evaluation of new TL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cus on technical, business, leg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ly on contractually available da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ose schedule for execution of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sent to Board by Montevide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SK FORCE MEMB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ap Akkerhuis (ccTL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bastien Bachollet (B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ilyn Cade (B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vid Conrad (RSS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chael Heltzer (I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off Houston (PS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berto Laorden (PS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art Lynn (Chai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ny Martinez (NC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 J Park (NC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rian Pinder (G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93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all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for 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estions for each are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trics for each ques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E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chnic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NS stability and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erational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demarks, cybersquatting, dispute resol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greements and effectiveness of agre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Selection, negotiation, communications, monito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ect on ICANN deci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new T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ape character of new T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answer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asured with available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sonably objective qualitative pro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in useful timefra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rt-up, steady-st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parate tr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onsored vs unsponsor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tricted vs unrestric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tober 10: Post draft questions for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d of October: Post draft report for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cept metric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vember Meeting: Submit adjusted draft repo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im recommend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-January: Post draft metrics for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-February: Post “final” report for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ch Meeting: Submit final repo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06:48:08Z</dcterms:created>
  <dc:creator>M. Stuart Lynn</dc:creator>
  <dc:description/>
  <dc:language>en-US</dc:language>
  <cp:lastModifiedBy>Louis Touton</cp:lastModifiedBy>
  <dcterms:modified xsi:type="dcterms:W3CDTF">2003-03-29T19:57:53Z</dcterms:modified>
  <cp:revision>25</cp:revision>
  <dc:subject/>
  <dc:title>Presentation to the GAC </dc:title>
</cp:coreProperties>
</file>