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F39-7792-4F36-A716-787721CB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096-B6D9-4711-A792-079A3210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846-A366-4393-B8EB-D719FB6F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84C-F61B-4BCC-BF16-9F99C540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682-E816-4592-9B29-44CCE2FE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DCB-64D0-45E5-A723-5030CDB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617-0630-4197-AB98-548B177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9D2-29E9-481A-8577-D63E6C13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EBA-7B9F-4087-AC3E-F00C7DF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809-DEFE-4A9C-B8B2-AD686F0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9E9-3AD1-4195-8D27-724E599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BE3-E1CF-46D9-8633-D205DAD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ANN, Rio de Janier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A4E-7BCC-445B-94BB-9BADE400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NN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o do Janeiro, March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9204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85920" y="958680"/>
            <a:ext cx="2946600" cy="70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3320" y="304920"/>
            <a:ext cx="17715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67480" y="838080"/>
            <a:ext cx="14860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nual ASO General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ual, global public discussion of addressing issues within I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, 24 Apri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operational updat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 ch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s and achievements since last ASO 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board election proces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RIR policy process and statu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tistics present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NN - The state of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o-policy@aso.icann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o.ac@mcfaddencentral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Council does not represent the RIRs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representatives elected within each RIR Re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 nominee does not need to be an RIR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nterested parties may participate in the election of the AC representatives, not limited to RI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 AC will be changing with the new ICAN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3800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N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ashi Arano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Kenny S. Hu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ung-Min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4640" y="1599840"/>
            <a:ext cx="3429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E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s-Petter H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bine Ja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fried Woebe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67652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D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McFadden (Ch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m Hubb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9625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t for 2002 was supported by 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t for 2003 is supported by AP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lected for 2003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 Hubbard replaces Barbara Roseman, now with I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316548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NIC RIR status officially recognized at Shanghai ICANN Meeting, October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NIC has been a full participant in the Address Council with Observer status since the formation of the ASO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NIC region will elect 3 representatives to the AC, and they will have full voting privileges effective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has begun to hold 2003 ASO AC General Assembly together with April 2003 LACNI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new members of the A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and Seated November of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mundo Beca (Ch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tmut Glaser (Braz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an Dunayevich (Argent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total voting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o observe progress in the establishment of AFRINIC new R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NIC representatives have actively participated in all current ASO activities and in the ICANN refor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standard BoD selection process (to be published by Jan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a standard process for nominating representative to Nom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ongoing to review RFC 2050 and its current relation to active poli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Mailing list for discu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2050-wg@arin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a new strategy to promote international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and information gathering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 is circulating a “Roadmap Document” to the AC fo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d a workshop in Amsterdam in Jan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is working with the RIRs on ICANN reform process discu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 ready to facilitate/work with the RIRs and ERC in negotiation for a new MoU in the reform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1:54:19Z</dcterms:created>
  <dc:creator>Barbara Roseman</dc:creator>
  <dc:description/>
  <dc:language>en-US</dc:language>
  <cp:lastModifiedBy>Louis Touton</cp:lastModifiedBy>
  <dcterms:modified xsi:type="dcterms:W3CDTF">2003-04-03T03:24:20Z</dcterms:modified>
  <cp:revision>43</cp:revision>
  <dc:subject/>
  <dc:title>ASO Address Council</dc:title>
</cp:coreProperties>
</file>