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4AFB-953D-4CAC-9FB4-C7B9D7A5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475-7E9B-4E55-96CA-94158609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C79D-93FA-43EF-825B-6D03AB56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F3A-EA1F-4AC5-A1A3-CD481B44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E86-EDFA-4DAF-A6DB-660571EC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102-25BB-467F-A270-04233494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5A4-02C9-43A3-A730-CFD1F60A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E5B-44FC-4F05-9BEC-2B4162FD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D22-93E5-41C5-AFD4-F4EADA5D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843-37D9-415B-B8EB-751C781E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C09-5DF5-4072-B048-003A39B2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260D-5082-4A7F-A2F2-D0AADADC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ANN, Rio de Janiero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416B-15AA-49C7-941E-BE3985819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NN ASO Address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AN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o do Janeiro, March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92040"/>
            <a:ext cx="1600200" cy="1519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85920" y="958680"/>
            <a:ext cx="2946600" cy="702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413320" y="304920"/>
            <a:ext cx="1771560" cy="169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467480" y="838080"/>
            <a:ext cx="148608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O Address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nual ASO General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nual, global public discussion of addressing issues within IC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rsday, 24 April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tiago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da 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 operational updat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 cha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s and achievements since last ASO G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view of board election process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view of RIR policy process and statu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I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statistics presenta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I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ANN - The state of r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o-policy@aso.icann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o.ac@mcfaddencentral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O Address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Council does not represent the RIRs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representatives elected within each RIR Re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 nominee does not need to be an RIR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interested parties may participate in the election of the AC representatives, not limited to RIR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le of the AC will be changing with the new ICAN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ASO Address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638000"/>
            <a:ext cx="3733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NIC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ashi Arano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Kenny S. Hu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ung-Min L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14640" y="1599840"/>
            <a:ext cx="3429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PE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s-Petter Ho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bine Ja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fried Woeber 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1676520"/>
            <a:ext cx="3352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N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ic Dec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 McFadden (Cha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m Hubb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9625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iat for 2002 was supported by AR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iat for 2003 is supported by AP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Elected for 2003-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m Hubbard replaces Barbara Roseman, now with IC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2240" y="3165480"/>
            <a:ext cx="778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O Address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NIC RIR status officially recognized at Shanghai ICANN Meeting, October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NIC has been a full participant in the Address Council with Observer status since the formation of the ASO 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NIC region will elect 3 representatives to the AC, and they will have full voting privileges effective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ing has begun to hold 2003 ASO AC General Assembly together with April 2003 LACNIC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w ASO Address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new members of the AC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and Seated November of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mundo Beca (Ch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tmut Glaser (Braz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ian Dunayevich (Argenti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 total voting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O Address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d to observe progress in the establishment of AFRINIC new RI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NIC representatives have actively participated in all current ASO activities and in the ICANN reform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O Address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ing standard BoD selection process (to be published by Jan 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ing a standard process for nominating representative to Nom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 ongoing to review RFC 2050 and its current relation to active poli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Mailing list for discu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c2050-wg@arin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O Address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on a new strategy to promote international 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 vo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ops and information gathering s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 is circulating a “Roadmap Document” to the AC for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d a workshop in Amsterdam in Janu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O Address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is working with the RIRs on ICANN reform process discu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 ready to facilitate/work with the RIRs and ERC in negotiation for a new MoU in the reform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1:54:19Z</dcterms:created>
  <dc:creator>Barbara Roseman</dc:creator>
  <dc:description/>
  <dc:language>en-US</dc:language>
  <cp:lastModifiedBy>Louis Touton</cp:lastModifiedBy>
  <dcterms:modified xsi:type="dcterms:W3CDTF">2003-04-03T03:24:20Z</dcterms:modified>
  <cp:revision>43</cp:revision>
  <dc:subject/>
  <dc:title>ASO Address Council</dc:title>
</cp:coreProperties>
</file>