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8CF-3206-46C1-9522-2199266B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D00-4766-4E67-877A-3E6CA9DB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732-9DE2-4693-8A34-1753A848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36B-68DD-4B8F-BE49-DE233C65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555-D77B-4BB0-9EF6-E4B6B4AD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A0D-49FC-46FD-BFFA-DCA7363F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C31-1D0B-4A8C-A18C-BF527A39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D25-4236-4D12-B0E9-15750DF3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F1C-FF2C-4F64-8B7D-8A7FB65E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FC3-E6B2-4825-810A-E1D859A3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78C-4824-47B5-B705-C079798B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506-C1D0-46D4-985A-7926FB8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68F8-BF65-4400-A130-9B968DB5CB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98880" y="6175440"/>
            <a:ext cx="13525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International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Telecommunicatio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Un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102440" y="6019920"/>
          <a:ext cx="6066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02440" y="6019920"/>
                    <a:ext cx="606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tu.int/ITU-T/inr/enum/index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tu.int/ITU-T/inr/enum/trials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tu.int/ITU-T/inr/enum/" TargetMode="External"/><Relationship Id="rId2" Type="http://schemas.openxmlformats.org/officeDocument/2006/relationships/hyperlink" Target="http://www.itu.int/ITU-T/worksem/enum/" TargetMode="External"/><Relationship Id="rId3" Type="http://schemas.openxmlformats.org/officeDocument/2006/relationships/hyperlink" Target="http://www.itu.int/newsroom/press_releases/2002/NP05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TU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pective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on EN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47840" y="4495680"/>
            <a:ext cx="4648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Sh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robert.shaw@itu.i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U Internet Strategy and Policy Advis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352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AN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io de Janei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razi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rch 25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les and Responsi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st ENUM service and administrative decisions are national issues under purview of ITU Member States, since most E.164 resources are utilized nation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sure that Member State ha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ll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zed inclusion of geographic country code in the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 integrated numbering plan, ea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U Member Sta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thin plan may administer their portion of E.164 resources mapped into D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they see 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U Responsi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ine and implement administrative procedures that coordinate delegations of E.164 numbering resources into the agreed DNS name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ined in 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ft Recommendation E.A-ENUM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 preparation by ITU-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Grou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im procedures agreed by SG2 at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itu.int/ITU-T/inr/enum/index.htm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Consideration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ltation process with interested comm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deployment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authenticate the identity of the subscriber for ENUM servi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are ENUM Registrars, what are they responsible f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validate ENUM data for potential users (Add - Modify – Delete) NAPTR list of services and preferen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data provisioned in the country code name serv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etition policy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info on actual consultations, see: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itu.int/ITU-T/inr/enum/trials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U Past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with IETF and RIPE NCC on roles and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 and circulation of tutorial paper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U-T SG 2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sues that need to be addressed by national and international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U-T SG 2 Meetings in 2001 and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im administration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rang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U Future Activiti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perate with IAB/IETF on final choice of TLD, registry, operations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rther discu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draft Recommenda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A-EN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next SG meeting in Ma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itu.int/ITU-T/inr/enum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itu.int/ITU-T/worksem/enum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itu.int/newsroom/press_releases/2002/NP05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ecommunic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8360" y="4648320"/>
            <a:ext cx="47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Helping the world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is the ITU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ternational organiza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governments and private sector coordinate global telecom networks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in 1865, it is the oldest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cialized agency of the U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 Memb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t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or Member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75 Sector Associ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site: http://www.itu.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sues of Converg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of addressing ‘calls’ that pass from one network service to anoth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widely possible to originate calls from IP address-based networks to other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uncommon to terminate calls from other networks to IP address-based net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ccess a subscriber on an IP address-based network, some sort of global addressing scheme across PSTN and IP address-based network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UM may b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is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iscussion of ENUM 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por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ping of telephone numbers onto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allow conventional telephones to call IP terminals (e.g. PC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telephone numbers used in this way be subject to government oversight and regul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should exercise control over telephone numbers used in this 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E.164 infrastructure and policy issues, not ENU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.1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U-T Recommendation E.16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“The international public telecommunication numbering pl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d to treaty obligations (specific roles and obligations defined for ITU Member States and ITU-T TSB Directo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ines number structure and functionality for four principal categories of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xamples of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.164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phic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U Member States, including integrated numbering plan involving more than one (e.g. +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International Freephone Numbers (+8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Personal Telecommunicatio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+878 + 2 digit I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al Mobile Systems (+881 + 1 digit 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code for Networks (+ 882 + 2 digit 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of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omplex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telecommunication numbering, regulatory tradition with government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the Internet, management of naming and address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tradition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self-regula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increasing government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ional number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regulator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uthori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d in coordinating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U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rs &amp; service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their portion of E.164 resources in respective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me National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grity of national numbering pl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etition between service provid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lecommunications network 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umber port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rier sele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mergency services calls (including LB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v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 over personal records &amp; sl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gal inter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11:19:22Z</dcterms:created>
  <dc:creator>Robert Shaw</dc:creator>
  <dc:description/>
  <dc:language>en-US</dc:language>
  <cp:lastModifiedBy>Louis Touton</cp:lastModifiedBy>
  <cp:lastPrinted>2001-11-25T13:41:09Z</cp:lastPrinted>
  <dcterms:modified xsi:type="dcterms:W3CDTF">2003-03-24T22:58:12Z</dcterms:modified>
  <cp:revision>57</cp:revision>
  <dc:subject/>
  <dc:title>ITU Perspective on ENUM</dc:title>
</cp:coreProperties>
</file>