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EA87F-A733-4602-92EE-72E40CAA1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F3533-6FDC-465F-A339-56FFAE77E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D2534-8CBA-4DF9-90C4-C3D4128FE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904FC-A40C-4DB2-A7AB-F3C0DDEE5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558C6-0683-4B14-AC04-72ADB5E03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F1FF0-CD9C-4C2E-A43D-696E5CA80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553E1-E900-4D38-A7F9-F7A321BD6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97F56-ECC4-4EAF-A9D1-CD2C95BDC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26C1C-7F70-4ACB-9606-CA29F9B21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ED6AA-463B-4DF4-8A94-A29550E47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B13D7-5BA1-44CC-8589-7EB6BE8C1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4B199-EF73-436E-B9F7-9EFAF614C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51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C67A4-8CE4-4E2D-AA74-073498E3785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598880" y="6175440"/>
            <a:ext cx="135252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Univers"/>
              </a:rPr>
              <a:t>International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Univers"/>
              </a:rPr>
              <a:t>Telecommunication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Univers"/>
              </a:rPr>
              <a:t>Un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" name=""/>
          <p:cNvGraphicFramePr/>
          <p:nvPr/>
        </p:nvGraphicFramePr>
        <p:xfrm>
          <a:off x="7102440" y="6019920"/>
          <a:ext cx="606600" cy="685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102440" y="6019920"/>
                    <a:ext cx="60660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itu.int/ITU-T/inr/enum/index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itu.int/ITU-T/inr/enum/trials.html" TargetMode="External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itu.int/ITU-T/inr/enum/" TargetMode="External"/><Relationship Id="rId2" Type="http://schemas.openxmlformats.org/officeDocument/2006/relationships/hyperlink" Target="http://www.itu.int/ITU-T/worksem/enum/" TargetMode="External"/><Relationship Id="rId3" Type="http://schemas.openxmlformats.org/officeDocument/2006/relationships/hyperlink" Target="http://www.itu.int/newsroom/press_releases/2002/NP05.html" TargetMode="External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51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685800" y="838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ITU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erspective</a:t>
            </a: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 on ENU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47840" y="4495680"/>
            <a:ext cx="464832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obert Sha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&lt;robert.shaw@itu.int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TU Internet Strategy and Policy Adviso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371600" y="3352680"/>
            <a:ext cx="64008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ICANN</a:t>
            </a:r>
            <a:br>
              <a:rPr sz="2000"/>
            </a:b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Rio de Janeir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,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Brazil</a:t>
            </a:r>
            <a:br>
              <a:rPr sz="2000"/>
            </a:b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March 25, 20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51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oles and Responsibiliti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st ENUM service and administrative decisions are national issues under purview of ITU Member States, since most E.164 resources are utilized national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TU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sure that Member State has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pecifically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uthorized inclusion of geographic country code in the D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 integrated numbering plan, each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TU Member Stat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within plan may administer their portion of E.164 resources mapped into DN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s they see fi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51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TU Responsibiliti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fine and implement administrative procedures that coordinate delegations of E.164 numbering resources into the agreed DNS name ser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efined in 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ft Recommendation E.A-ENUM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under preparation by ITU-T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udy Group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erim procedures agreed by SG2 at: 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www.itu.int/ITU-T/inr/enum/index.html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51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ational Consideration Issu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ultation process with interested communit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ational deployment Issu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w do you authenticate the identity of the subscriber for ENUM service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o are ENUM Registrars, what are they responsible for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w do you validate ENUM data for potential users (Add - Modify – Delete) NAPTR list of services and preference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w is data provisioned in the country code name server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mpetition policy issu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r info on actual consultations, see: </a:t>
            </a:r>
            <a:br>
              <a:rPr sz="2400"/>
            </a:br>
            <a:r>
              <a:rPr b="0" lang="en-US" sz="24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www.itu.int/ITU-T/inr/enum/trials.htm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51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TU Past Activiti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ussion with IETF and RIPE NCC on roles and responsibil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paration and circulation of tutorial papers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, worksho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U-T SG 2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pplement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on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ssues that need to be addressed by national and international author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U-T SG 2 Meetings in 2001 and 200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erim administration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rrange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51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TU Future Activities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Worksho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operate with IAB/IETF on final choice of TLD, registry, operations require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Further discus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new draft Recommendation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.A-ENUM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(next SG meeting in May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003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more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fo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www.itu.int/ITU-T/inr/enum/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www.itu.int/ITU-T/worksem/enum/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www.itu.int/newsroom/press_releases/2002/NP05.htm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51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ternational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elecommunication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Un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178360" y="4648320"/>
            <a:ext cx="478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400" spc="-1" strike="noStrike">
                <a:solidFill>
                  <a:srgbClr val="ffffff"/>
                </a:solidFill>
                <a:latin typeface="Arial"/>
              </a:rPr>
              <a:t>Helping the world communic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Thank yo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51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What is the ITU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nternational organization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re governments and private sector coordinate global telecom networks and servi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nded in 1865, it is the oldest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cialized agency of the UN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89 Member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States,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50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tor Members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, 75 Sector Associa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bsite: http://www.itu.i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51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ssues of Convergenc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s of addressing ‘calls’ that pass from one network service to another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w widely possible to originate calls from IP address-based networks to other net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ut uncommon to terminate calls from other networks to IP address-based network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access a subscriber on an IP address-based network, some sort of global addressing scheme across PSTN and IP address-based networks nee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UM may be solu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51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y is </a:t>
            </a: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discussion of ENUM i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portan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pping of telephone numbers onto 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uld allow conventional telephones to call IP terminals (e.g. PCs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ould telephone numbers used in this way be subject to government oversight and regulatio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o should exercise control over telephone numbers used in this way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51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avea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lex top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cused on E.164 infrastructure and policy issues, not ENUM servi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ork in progr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51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E.164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TU-T Recommendation E.164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“The international public telecommunication numbering plan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ied to treaty obligations (specific roles and obligations defined for ITU Member States and ITU-T TSB Director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fines number structure and functionality for four principal categories of numb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191120" y="299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51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Examples of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.164 </a:t>
            </a: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Resourc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ographic are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TU Member States, including integrated numbering plan involving more than one (e.g. +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lobal Servi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niversal International Freephone Numbers (+800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niversal Personal Telecommunications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(+878 + 2 digit IC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t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lobal Mobile Systems (+881 + 1 digit IC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hared code for Networks (+ 882 + 2 digit IC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roups of Countr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T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51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ome Complexiti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n telecommunication numbering, regulatory tradition with government involv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n the Internet, management of naming and addressing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s tradition of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“self-regulation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ut increasing government inter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tional numberin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regulatory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authorities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volved in coordinating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NUM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rvers &amp; services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for their portion of E.164 resources in respective count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51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Some National Issu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ntegrity of national numbering plan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ompetition between service provider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elecommunications network securit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Number portabilit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arrier select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mergency services calls (including LB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rivac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ontrol over personal records &amp; slamm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Legal intercep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5T11:19:22Z</dcterms:created>
  <dc:creator>Robert Shaw</dc:creator>
  <dc:description/>
  <dc:language>en-US</dc:language>
  <cp:lastModifiedBy>Louis Touton</cp:lastModifiedBy>
  <cp:lastPrinted>2001-11-25T13:41:09Z</cp:lastPrinted>
  <dcterms:modified xsi:type="dcterms:W3CDTF">2003-03-24T22:58:12Z</dcterms:modified>
  <cp:revision>57</cp:revision>
  <dc:subject/>
  <dc:title>ITU Perspective on ENUM</dc:title>
</cp:coreProperties>
</file>