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6420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1440" y="-1800"/>
            <a:ext cx="2877840" cy="495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762000" y="-1800"/>
            <a:ext cx="2878200" cy="495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852120" y="748800"/>
            <a:ext cx="493380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7200" cy="445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1440" y="9408960"/>
            <a:ext cx="2877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76200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4708-4443-498C-9903-1455D796FCF8}" type="slidenum"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3762360" y="0"/>
            <a:ext cx="2878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-1440" y="9408960"/>
            <a:ext cx="2876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-1440" y="0"/>
            <a:ext cx="2876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853920" y="750960"/>
            <a:ext cx="4932360" cy="36986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883800" y="4702320"/>
            <a:ext cx="48690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852480" y="74916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7200" cy="445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Internet Corporation for assigned names and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852480" y="74916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7200" cy="445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Naming Authority Pointer, Uniform Resource Identifier, RR Resource Rec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852480" y="74916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7200" cy="445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NRLLDB National Repository Line Level 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852480" y="74916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7200" cy="445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NRLLDB National Repository Line Level 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852480" y="74916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7200" cy="445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NRLLDB National Repository Line Level 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852480" y="74916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7200" cy="445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ITAC-T International Advisory Committee Telecommunications to the State Depar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852480" y="74916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7200" cy="445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TRC – TIPHON Resolution Cap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3762360" y="0"/>
            <a:ext cx="2878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-1440" y="9408960"/>
            <a:ext cx="2876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-1440" y="0"/>
            <a:ext cx="2876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853920" y="750960"/>
            <a:ext cx="4932360" cy="369864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883800" y="4702320"/>
            <a:ext cx="48690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852480" y="74916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7200" cy="445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ITAC-T International Advisory Committee Telecommunications to the State Depar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852480" y="74916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7200" cy="445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ITAC-T International Advisory Committee Telecommunications to the State Depar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852480" y="74916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7200" cy="445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ITAC-T International Advisory Committee Telecommunications to the State Depar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852480" y="74916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7200" cy="445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ITAC-T International Advisory Committee Telecommunications to the State Depar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852480" y="74916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7200" cy="445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Internet Corporation for assigned names and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852480" y="74916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7200" cy="445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Internet Corporation for assigned names and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696C-DF46-49F8-BE17-3E21CF845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288720"/>
            <a:ext cx="55627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7998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AF45-B764-4CE0-A22F-93BD68D2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28800" y="288720"/>
            <a:ext cx="55627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A9AB-AE21-4C57-8D09-96CA98AFC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28800" y="288720"/>
            <a:ext cx="55627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E545-F7D1-4E2B-BCDB-A4AD5EB22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800" y="288720"/>
            <a:ext cx="55627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2C0C-952F-4677-B917-27641511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800" y="288720"/>
            <a:ext cx="55627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3922-2FDF-4E81-9151-9E4C13AB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288720"/>
            <a:ext cx="55627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AF7C-715C-4044-AD1B-0B782CD7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800" y="288720"/>
            <a:ext cx="55627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A4A1-006F-40DB-963E-31FBC6FC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828800" y="304560"/>
            <a:ext cx="5562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3BFC-EB01-472D-B590-2E29D1C9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28800" y="288720"/>
            <a:ext cx="55627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9CB7-52C6-4E12-82E1-A6E8D9DD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28800" y="288720"/>
            <a:ext cx="55627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4158-392D-4748-9A12-8261703B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28800" y="288720"/>
            <a:ext cx="55627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F272-99D7-4BE4-A20B-946C1DBE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5562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000320" y="6426000"/>
            <a:ext cx="11430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33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3300"/>
                </a:solidFill>
                <a:latin typeface="Arial"/>
              </a:rPr>
              <a:t>March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3640" y="6414840"/>
            <a:ext cx="19810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Richard Stast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19640" y="6414840"/>
            <a:ext cx="7099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33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3300"/>
                </a:solidFill>
                <a:latin typeface="Arial"/>
              </a:rPr>
              <a:t>Folie </a:t>
            </a:r>
            <a:fld id="{BF5317B5-2E30-4F98-95CE-3130E4D5B61E}" type="slidenum">
              <a:rPr b="0" lang="de-DE" sz="1000" spc="-1" strike="noStrike">
                <a:solidFill>
                  <a:srgbClr val="ff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143000"/>
            <a:ext cx="845820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81640"/>
            <a:ext cx="837252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124760" y="6308640"/>
            <a:ext cx="1628640" cy="43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wmf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ietf.org/html.charters/enum-charter.html" TargetMode="External"/><Relationship Id="rId2" Type="http://schemas.openxmlformats.org/officeDocument/2006/relationships/hyperlink" Target="http://www.itu.int/osg/spu/enum/index.html" TargetMode="External"/><Relationship Id="rId3" Type="http://schemas.openxmlformats.org/officeDocument/2006/relationships/hyperlink" Target="http://www.portal.etsi.org/" TargetMode="External"/><Relationship Id="rId4" Type="http://schemas.openxmlformats.org/officeDocument/2006/relationships/hyperlink" Target="http://www.ripe.net/enum" TargetMode="External"/><Relationship Id="rId5" Type="http://schemas.openxmlformats.org/officeDocument/2006/relationships/hyperlink" Target="http://www.enumf.org/" TargetMode="External"/><Relationship Id="rId6" Type="http://schemas.openxmlformats.org/officeDocument/2006/relationships/hyperlink" Target="http://www.enum.nic.at/" TargetMode="External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92080" y="2374920"/>
            <a:ext cx="766152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0000ff"/>
                </a:solidFill>
                <a:latin typeface="Times New Roman"/>
              </a:rPr>
              <a:t>ENUM</a:t>
            </a:r>
            <a:br>
              <a:rPr sz="4400"/>
            </a:br>
            <a:r>
              <a:rPr b="1" lang="de-DE" sz="4000" spc="-1" strike="noStrike">
                <a:solidFill>
                  <a:srgbClr val="ff3300"/>
                </a:solidFill>
                <a:latin typeface="Times New Roman"/>
              </a:rPr>
              <a:t>Austrian and VISIONng Trial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95280" y="2492280"/>
            <a:ext cx="6400800" cy="378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3300"/>
                </a:solidFill>
                <a:latin typeface="Tahoma"/>
              </a:rPr>
              <a:t>ENUM Informational Upd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Tahoma"/>
              </a:rPr>
              <a:t>ICANN, Rio de Janiero</a:t>
            </a:r>
            <a:br>
              <a:rPr sz="3200"/>
            </a:br>
            <a:r>
              <a:rPr b="1" lang="de-DE" sz="2400" spc="-1" strike="noStrike">
                <a:solidFill>
                  <a:srgbClr val="ff3300"/>
                </a:solidFill>
                <a:latin typeface="Tahoma"/>
              </a:rPr>
              <a:t>25. March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cc"/>
                </a:solidFill>
                <a:latin typeface="Tahoma"/>
              </a:rPr>
              <a:t>Richard STASTN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ÖFEG, Postbox 147, 1103-Wi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Tel: +43 664 420 4100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Fax: +43 1 79780 13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E-Mail: richard.stastny@oefeg.at</a:t>
            </a:r>
            <a:br>
              <a:rPr sz="1800"/>
            </a:br>
            <a:r>
              <a:rPr b="0" lang="de-DE" sz="1800" spc="-1" strike="noStrike">
                <a:solidFill>
                  <a:srgbClr val="ff3300"/>
                </a:solidFill>
                <a:latin typeface="Tahoma"/>
              </a:rPr>
              <a:t>richard@stastny.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892080" y="6281640"/>
            <a:ext cx="786132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124760" y="6308640"/>
            <a:ext cx="1628640" cy="43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15CB-BE91-4BAB-833B-0946D3C3998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262080"/>
            <a:ext cx="845820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0000ff"/>
                </a:solidFill>
                <a:latin typeface="Times New Roman"/>
              </a:rPr>
              <a:t>Tasks of the Trial Partners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07880"/>
            <a:ext cx="822960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Inner circle (must sign MoU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RTR responsible for policy framework (MoU hol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Tier 1 Registry (nic.a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Registrar + Tier 2 Nameserver provider = ENUM 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e.g. Telekom Austr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Must sign MoU to get registrar (admin-c) and </a:t>
            </a:r>
            <a:br>
              <a:rPr sz="2000"/>
            </a:b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nameserver handle (tech-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Outer circ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Client SW Suppliers - Infonova, AOSA (Siemens, Alcatel), Kapsch, Telcord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Provisioning SW Suppliers –  Infono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Application Provider - Telekom Austria (VoIP), any ot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Consulting, standards - OeF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FF9F-5205-4C8D-9376-8501D6C77E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09800" y="262080"/>
            <a:ext cx="712440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0000ff"/>
                </a:solidFill>
                <a:latin typeface="Times New Roman"/>
              </a:rPr>
              <a:t>How ENUM works technically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9360" y="1307880"/>
            <a:ext cx="886464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ake a full E.164 number and create a DNS entry in 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sing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ighly defined and structured domai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550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earch for resources on the internet associated with e.g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+43 1 79780 becomes a DNS look up t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0.8.7.9.7.1.3.4.e164.arp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550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ookup finally retrieves pointers (NAPTRS) with URIs to IP-based applications, e.g.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Monaco"/>
              </a:rPr>
              <a:t>IN NAPTR 10 10 "U" “E2U+voice:h323“ "!^.*$!h323:richard23@telekom.at!" 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Monaco"/>
              </a:rPr>
              <a:t>IN NAPTR 10 10 "U" “E2U+sms:tel“ "!^.*$!tel:+43 664 420 4100!“ 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Monaco"/>
              </a:rPr>
              <a:t>IN NAPTR 10 10 "U" "E2U+email:mailto“ "!^.*$!mailto:richard@stastny.com!" 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550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ient chooses the further a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550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NAPTR RR are defined in RFC 3403, the URIs in RFC 239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"/>
          <p:cNvSpPr/>
          <p:nvPr/>
        </p:nvSpPr>
        <p:spPr>
          <a:xfrm>
            <a:off x="3589200" y="2654280"/>
            <a:ext cx="508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ff3300"/>
                </a:solidFill>
                <a:latin typeface="Times New Roman"/>
              </a:rPr>
              <a:t>Naming Authority Pointer Resource Rec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00D0-D585-425F-81DA-2E05DE7554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79280" y="785880"/>
            <a:ext cx="878544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3809880" cy="53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ff"/>
                </a:solidFill>
                <a:latin typeface="Tahoma"/>
              </a:rPr>
              <a:t>ENUM Trial: Application Aspects</a:t>
            </a:r>
            <a:endParaRPr b="1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56000" y="4076640"/>
            <a:ext cx="914400" cy="1143000"/>
          </a:xfrm>
          <a:prstGeom prst="can">
            <a:avLst>
              <a:gd name="adj" fmla="val 2166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UM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ER 2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56000" y="2565360"/>
            <a:ext cx="914400" cy="1143000"/>
          </a:xfrm>
          <a:prstGeom prst="can">
            <a:avLst>
              <a:gd name="adj" fmla="val 2166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UM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ER 1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56000" y="981000"/>
            <a:ext cx="914400" cy="1143000"/>
          </a:xfrm>
          <a:prstGeom prst="can">
            <a:avLst>
              <a:gd name="adj" fmla="val 2166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UM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ER 0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124000" y="2060640"/>
            <a:ext cx="1904040" cy="1942920"/>
            <a:chOff x="2124000" y="2060640"/>
            <a:chExt cx="1904040" cy="1942920"/>
          </a:xfrm>
        </p:grpSpPr>
        <p:grpSp>
          <p:nvGrpSpPr>
            <p:cNvPr id="83" name=""/>
            <p:cNvGrpSpPr/>
            <p:nvPr/>
          </p:nvGrpSpPr>
          <p:grpSpPr>
            <a:xfrm>
              <a:off x="2124000" y="2060640"/>
              <a:ext cx="1904040" cy="1942920"/>
              <a:chOff x="2124000" y="2060640"/>
              <a:chExt cx="1904040" cy="1942920"/>
            </a:xfrm>
          </p:grpSpPr>
          <p:grpSp>
            <p:nvGrpSpPr>
              <p:cNvPr id="84" name=""/>
              <p:cNvGrpSpPr/>
              <p:nvPr/>
            </p:nvGrpSpPr>
            <p:grpSpPr>
              <a:xfrm>
                <a:off x="2181600" y="2142360"/>
                <a:ext cx="1846440" cy="1861200"/>
                <a:chOff x="2181600" y="2142360"/>
                <a:chExt cx="1846440" cy="186120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2465640" y="2142360"/>
                  <a:ext cx="1073880" cy="125604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2954160" y="2501280"/>
                  <a:ext cx="1073880" cy="125604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2604960" y="2747520"/>
                  <a:ext cx="1073520" cy="125604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181600" y="2600280"/>
                  <a:ext cx="1073880" cy="125604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2409480" y="2388240"/>
                  <a:ext cx="1341360" cy="143424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2124000" y="2060640"/>
                <a:ext cx="1847160" cy="1861200"/>
                <a:chOff x="2124000" y="2060640"/>
                <a:chExt cx="1847160" cy="186120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2408400" y="2060640"/>
                  <a:ext cx="1074240" cy="1256040"/>
                </a:xfrm>
                <a:prstGeom prst="ellipse">
                  <a:avLst/>
                </a:prstGeom>
                <a:solidFill>
                  <a:srgbClr val="c0dff8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2896920" y="2419560"/>
                  <a:ext cx="1074240" cy="1256040"/>
                </a:xfrm>
                <a:prstGeom prst="ellipse">
                  <a:avLst/>
                </a:prstGeom>
                <a:solidFill>
                  <a:srgbClr val="c0dff8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2547720" y="2665800"/>
                  <a:ext cx="1073880" cy="1256040"/>
                </a:xfrm>
                <a:prstGeom prst="ellipse">
                  <a:avLst/>
                </a:prstGeom>
                <a:solidFill>
                  <a:srgbClr val="c0dff8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124000" y="2518560"/>
                  <a:ext cx="1074240" cy="1256040"/>
                </a:xfrm>
                <a:prstGeom prst="ellipse">
                  <a:avLst/>
                </a:prstGeom>
                <a:solidFill>
                  <a:srgbClr val="c0dff8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2351880" y="2306520"/>
                  <a:ext cx="1341720" cy="1434240"/>
                </a:xfrm>
                <a:prstGeom prst="ellipse">
                  <a:avLst/>
                </a:prstGeom>
                <a:solidFill>
                  <a:srgbClr val="c0df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6" name=""/>
            <p:cNvSpPr/>
            <p:nvPr/>
          </p:nvSpPr>
          <p:spPr>
            <a:xfrm>
              <a:off x="2478240" y="2590920"/>
              <a:ext cx="894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 flipH="1" flipV="1">
            <a:off x="1834920" y="1844280"/>
            <a:ext cx="649080" cy="64764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1080" y="3789360"/>
            <a:ext cx="922320" cy="86364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24360" y="3141720"/>
            <a:ext cx="419040" cy="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564000" y="1628280"/>
            <a:ext cx="792000" cy="79236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332000" y="551664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flipH="1" flipV="1">
            <a:off x="3203640" y="4005360"/>
            <a:ext cx="1441440" cy="201600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835280" y="3860280"/>
            <a:ext cx="1009440" cy="201636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69080" y="2565360"/>
            <a:ext cx="914400" cy="1143000"/>
          </a:xfrm>
          <a:prstGeom prst="can">
            <a:avLst>
              <a:gd name="adj" fmla="val 2166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UM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ER 1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69080" y="4076640"/>
            <a:ext cx="914400" cy="1143000"/>
          </a:xfrm>
          <a:prstGeom prst="can">
            <a:avLst>
              <a:gd name="adj" fmla="val 2166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UM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ER 2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rcRect l="6860" t="0" r="9426" b="9419"/>
          <a:stretch/>
        </p:blipFill>
        <p:spPr>
          <a:xfrm>
            <a:off x="1187280" y="2492280"/>
            <a:ext cx="578160" cy="1003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rcRect l="6860" t="0" r="9426" b="9419"/>
          <a:stretch/>
        </p:blipFill>
        <p:spPr>
          <a:xfrm>
            <a:off x="4572000" y="5516640"/>
            <a:ext cx="577800" cy="10033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380360" y="4076640"/>
            <a:ext cx="914400" cy="1143000"/>
          </a:xfrm>
          <a:prstGeom prst="can">
            <a:avLst>
              <a:gd name="adj" fmla="val 21666"/>
            </a:avLst>
          </a:prstGeom>
          <a:solidFill>
            <a:srgbClr val="00ff0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UM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24000" y="6165720"/>
            <a:ext cx="251928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76720" y="6165720"/>
            <a:ext cx="176364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292720" y="4437000"/>
            <a:ext cx="57456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6803640" y="4437000"/>
            <a:ext cx="57636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6803640" y="3141360"/>
            <a:ext cx="863640" cy="934920"/>
          </a:xfrm>
          <a:prstGeom prst="line">
            <a:avLst/>
          </a:prstGeom>
          <a:ln w="38160">
            <a:solidFill>
              <a:srgbClr val="00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716280"/>
            <a:ext cx="144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292720" y="3141720"/>
            <a:ext cx="57456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79640" y="6021360"/>
            <a:ext cx="2663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076720" y="5229360"/>
            <a:ext cx="1224000" cy="720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292720" y="4869000"/>
            <a:ext cx="57456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88000" y="2133720"/>
            <a:ext cx="144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19280" y="1916280"/>
            <a:ext cx="782640" cy="1296720"/>
          </a:xfrm>
          <a:custGeom>
            <a:avLst/>
            <a:gdLst/>
            <a:ahLst/>
            <a:rect l="l" t="t" r="r" b="b"/>
            <a:pathLst>
              <a:path w="493" h="817">
                <a:moveTo>
                  <a:pt x="0" y="817"/>
                </a:moveTo>
                <a:cubicBezTo>
                  <a:pt x="82" y="774"/>
                  <a:pt x="491" y="697"/>
                  <a:pt x="492" y="561"/>
                </a:cubicBezTo>
                <a:cubicBezTo>
                  <a:pt x="493" y="425"/>
                  <a:pt x="109" y="117"/>
                  <a:pt x="8" y="0"/>
                </a:cubicBezTo>
              </a:path>
            </a:pathLst>
          </a:custGeom>
          <a:noFill/>
          <a:ln w="22320">
            <a:solidFill>
              <a:srgbClr val="ff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63640" y="1916280"/>
            <a:ext cx="2592360" cy="266508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92360" y="3068640"/>
            <a:ext cx="431640" cy="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19280" y="3284640"/>
            <a:ext cx="1074600" cy="2665440"/>
          </a:xfrm>
          <a:custGeom>
            <a:avLst/>
            <a:gdLst/>
            <a:ahLst/>
            <a:rect l="l" t="t" r="r" b="b"/>
            <a:pathLst>
              <a:path w="586" h="1679">
                <a:moveTo>
                  <a:pt x="0" y="1679"/>
                </a:moveTo>
                <a:cubicBezTo>
                  <a:pt x="97" y="1457"/>
                  <a:pt x="584" y="627"/>
                  <a:pt x="585" y="347"/>
                </a:cubicBezTo>
                <a:cubicBezTo>
                  <a:pt x="586" y="67"/>
                  <a:pt x="129" y="72"/>
                  <a:pt x="9" y="0"/>
                </a:cubicBezTo>
              </a:path>
            </a:pathLst>
          </a:custGeom>
          <a:noFill/>
          <a:ln w="22320">
            <a:solidFill>
              <a:srgbClr val="ff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1280" y="5589720"/>
            <a:ext cx="1116000" cy="431640"/>
          </a:xfrm>
          <a:prstGeom prst="wedgeRectCallout">
            <a:avLst>
              <a:gd name="adj1" fmla="val 64652"/>
              <a:gd name="adj2" fmla="val -88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ahoma"/>
              </a:rPr>
              <a:t>ENUM SUBSCRI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907920"/>
            <a:ext cx="865080" cy="505080"/>
          </a:xfrm>
          <a:prstGeom prst="wedgeRectCallout">
            <a:avLst>
              <a:gd name="adj1" fmla="val 63944"/>
              <a:gd name="adj2" fmla="val 10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ahoma"/>
              </a:rPr>
              <a:t>ENUM 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56000" y="907920"/>
            <a:ext cx="865080" cy="648000"/>
          </a:xfrm>
          <a:prstGeom prst="wedgeRectCallout">
            <a:avLst>
              <a:gd name="adj1" fmla="val -38074"/>
              <a:gd name="adj2" fmla="val 24142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ahoma"/>
              </a:rPr>
              <a:t>ENUM DNS QU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2492280"/>
            <a:ext cx="936720" cy="1143000"/>
          </a:xfrm>
          <a:prstGeom prst="wedgeRectCallout">
            <a:avLst>
              <a:gd name="adj1" fmla="val 60171"/>
              <a:gd name="adj2" fmla="val -1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ahoma"/>
              </a:rPr>
              <a:t>ENUM Application email </a:t>
            </a:r>
            <a:br>
              <a:rPr sz="1200"/>
            </a:br>
            <a:r>
              <a:rPr b="0" lang="de-AT" sz="1200" spc="-1" strike="noStrike">
                <a:solidFill>
                  <a:srgbClr val="000000"/>
                </a:solidFill>
                <a:latin typeface="Tahoma"/>
              </a:rPr>
              <a:t>VoIP</a:t>
            </a:r>
            <a:br>
              <a:rPr sz="1200"/>
            </a:br>
            <a:r>
              <a:rPr b="0" lang="de-AT" sz="12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4149720"/>
            <a:ext cx="1368360" cy="360360"/>
          </a:xfrm>
          <a:prstGeom prst="wedgeRectCallout">
            <a:avLst>
              <a:gd name="adj1" fmla="val 62180"/>
              <a:gd name="adj2" fmla="val 20506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98680" y="6280200"/>
            <a:ext cx="1295280" cy="325440"/>
          </a:xfrm>
          <a:prstGeom prst="wedgeRectCallout">
            <a:avLst>
              <a:gd name="adj1" fmla="val 90685"/>
              <a:gd name="adj2" fmla="val -78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ahoma"/>
              </a:rPr>
              <a:t>REG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11280" y="5013360"/>
            <a:ext cx="1368720" cy="647640"/>
          </a:xfrm>
          <a:prstGeom prst="wedgeRectCallout">
            <a:avLst>
              <a:gd name="adj1" fmla="val 69259"/>
              <a:gd name="adj2" fmla="val 99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ahoma"/>
              </a:rPr>
              <a:t>ENUM </a:t>
            </a:r>
            <a:br>
              <a:rPr sz="1200"/>
            </a:br>
            <a:r>
              <a:rPr b="0" lang="de-AT" sz="1200" spc="-1" strike="noStrike">
                <a:solidFill>
                  <a:srgbClr val="000000"/>
                </a:solidFill>
                <a:latin typeface="Tahoma"/>
              </a:rPr>
              <a:t>NAPTR MOD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64000" y="1268280"/>
            <a:ext cx="107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ahoma"/>
              </a:rPr>
              <a:t>ITU TSB RIPE N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35640" y="2205000"/>
            <a:ext cx="1673280" cy="287280"/>
          </a:xfrm>
          <a:prstGeom prst="wedgeRectCallout">
            <a:avLst>
              <a:gd name="adj1" fmla="val -88425"/>
              <a:gd name="adj2" fmla="val -124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ahoma"/>
              </a:rPr>
              <a:t>3.4.e164.ar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19640" y="3716280"/>
            <a:ext cx="1944720" cy="289080"/>
          </a:xfrm>
          <a:prstGeom prst="wedgeRectCallout">
            <a:avLst>
              <a:gd name="adj1" fmla="val -70652"/>
              <a:gd name="adj2" fmla="val -38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ahoma"/>
              </a:rPr>
              <a:t>x.x.x.x.3.4.e164.ar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69360" y="6216480"/>
            <a:ext cx="1060200" cy="459000"/>
          </a:xfrm>
          <a:prstGeom prst="wedgeRectCallout">
            <a:avLst>
              <a:gd name="adj1" fmla="val -77097"/>
              <a:gd name="adj2" fmla="val -399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ahoma"/>
              </a:rPr>
              <a:t>Web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45080" y="228600"/>
            <a:ext cx="42447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ff"/>
                </a:solidFill>
                <a:latin typeface="Tahoma"/>
              </a:rPr>
              <a:t>ENUM Trial: Administrative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1720" y="251316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ahoma"/>
              </a:rPr>
              <a:t>NIC.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731000" y="3429000"/>
            <a:ext cx="107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ahoma"/>
              </a:rPr>
              <a:t>ENUM SP TELEKOM AUST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5"/>
          <a:srcRect l="6860" t="0" r="9426" b="9419"/>
          <a:stretch/>
        </p:blipFill>
        <p:spPr>
          <a:xfrm>
            <a:off x="6783480" y="5519880"/>
            <a:ext cx="577800" cy="1003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 flipV="1">
            <a:off x="7297560" y="5229360"/>
            <a:ext cx="622440" cy="923760"/>
          </a:xfrm>
          <a:prstGeom prst="line">
            <a:avLst/>
          </a:prstGeom>
          <a:ln w="38160">
            <a:solidFill>
              <a:srgbClr val="00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48160" y="6307200"/>
            <a:ext cx="1060560" cy="293760"/>
          </a:xfrm>
          <a:prstGeom prst="wedgeRectCallout">
            <a:avLst>
              <a:gd name="adj1" fmla="val -78291"/>
              <a:gd name="adj2" fmla="val -516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ahoma"/>
              </a:rPr>
              <a:t>Web por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83480" y="2786040"/>
            <a:ext cx="1295280" cy="477720"/>
          </a:xfrm>
          <a:prstGeom prst="wedgeRectCallout">
            <a:avLst>
              <a:gd name="adj1" fmla="val -71078"/>
              <a:gd name="adj2" fmla="val 1649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ahoma"/>
              </a:rPr>
              <a:t>E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ahoma"/>
              </a:rPr>
              <a:t>DELE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5640" y="98100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RTR policy</a:t>
            </a:r>
            <a:br>
              <a:rPr sz="2000"/>
            </a:b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920000" y="5543640"/>
            <a:ext cx="1189080" cy="333360"/>
          </a:xfrm>
          <a:prstGeom prst="wedgeRectCallout">
            <a:avLst>
              <a:gd name="adj1" fmla="val -33847"/>
              <a:gd name="adj2" fmla="val -1523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ahoma"/>
              </a:rPr>
              <a:t>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840360" y="2518920"/>
            <a:ext cx="843120" cy="622440"/>
          </a:xfrm>
          <a:prstGeom prst="line">
            <a:avLst/>
          </a:prstGeom>
          <a:ln w="38160">
            <a:solidFill>
              <a:srgbClr val="00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67640" y="1827360"/>
            <a:ext cx="914400" cy="753840"/>
          </a:xfrm>
          <a:prstGeom prst="can">
            <a:avLst>
              <a:gd name="adj" fmla="val 2166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WHO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3EA0-A3EF-401E-A4C6-F34AC0066C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70080" y="262080"/>
            <a:ext cx="660384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Validation within the trial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560" y="1125360"/>
            <a:ext cx="8458200" cy="507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Basic requirements for commercial deploymen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UM subscriber shall be the assignee of an E.164 number valid for the ENUM trial and the number shall be in operation with a TSP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It has to be verified that the ENUM subscriber is the named ent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Registration shall cease if first item is no longer vali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Interim solution for trial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Only known subscrib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later identification via billing address possi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Currently only geographic and mobile numb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Number shall be listed in phone directory, data need to be the sa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Validation done by Registr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Personal Numbers for ENUM use under discus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De-validation with periodic check (will be automat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Evaluation of improved validation methods during trial (ongo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Open issue: corporate ENUM subscri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7472-00E8-4FB3-AE85-CBD45FBD31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70080" y="262080"/>
            <a:ext cx="660384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0000ff"/>
                </a:solidFill>
                <a:latin typeface="Times New Roman"/>
              </a:rPr>
              <a:t>WHOIS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560" y="1290600"/>
            <a:ext cx="8458200" cy="507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ENUM is D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Processes have to be similar to normal domain name administ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For operation of DNS the storage of e.g.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Domain Name Hol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Administrative Conta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Technical Conta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in a database is necessary (WHOIS-D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Currently there is still a discussion, which data are stored in the WHOIS-DB and which data are publicly avail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Regarding the Austrian ENUM Trial it has been decided</a:t>
            </a:r>
            <a:r>
              <a:rPr b="0" lang="de-AT" sz="2000" spc="-1" strike="noStrike">
                <a:solidFill>
                  <a:srgbClr val="ff0000"/>
                </a:solidFill>
                <a:latin typeface="Tahoma"/>
              </a:rPr>
              <a:t> temporarily</a:t>
            </a: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 that all data are stored and are public avail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Domain Name Holder: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ENUM Subscrib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admin-c: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Registrar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tech-c: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Nameserver Provi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0185-D519-4AC2-A7F1-F6E15E89CC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70080" y="262080"/>
            <a:ext cx="660384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0000ff"/>
                </a:solidFill>
                <a:latin typeface="Times New Roman"/>
              </a:rPr>
              <a:t>ENUM Trial for UPT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560" y="1125000"/>
            <a:ext cx="8458200" cy="52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Telekom Austria is Member of the VISIONng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mission of VISIONng is to provide a framework for </a:t>
            </a: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ployment of worldwide inter-domain and multi-vendor IP Telephony services based primarily on ETSI TIPHON specification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ITU-T has assigned part of the country code for UPT to VISIONng for deployment of a Universal Personal Telecommunication Servic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3200" spc="-1" strike="noStrike">
                <a:solidFill>
                  <a:srgbClr val="00cc00"/>
                </a:solidFill>
                <a:latin typeface="Tahoma"/>
              </a:rPr>
              <a:t>+878 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In May 2002 VISIONng as Assignee of the numbering range +87810 requested an ENUM Delegation from RIPE NCC and got approval from ITU-TS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Telekom Austria is therefore implementing in parallel to the Austrian ENUM Trial with +43 also an VISIONng ENUM Trial with +87810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In October 2002 it was decided by VISIONng, to use +87810 also for ENUM-only purpo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This decision caused the joining of Free World Dialup (FWD) to VISIONng in January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D9AD-35B9-414A-8877-7CC5E1B2AA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416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0000ff"/>
                </a:solidFill>
                <a:latin typeface="Times New Roman"/>
              </a:rPr>
              <a:t>Austrian ENUM and UPT ENUM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880" y="981000"/>
            <a:ext cx="8385120" cy="5307840"/>
            <a:chOff x="2880" y="981000"/>
            <a:chExt cx="8385120" cy="5307840"/>
          </a:xfrm>
        </p:grpSpPr>
        <p:sp>
          <p:nvSpPr>
            <p:cNvPr id="155" name=""/>
            <p:cNvSpPr/>
            <p:nvPr/>
          </p:nvSpPr>
          <p:spPr>
            <a:xfrm>
              <a:off x="406800" y="2687760"/>
              <a:ext cx="3339000" cy="1280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47920" y="981000"/>
              <a:ext cx="2280240" cy="1280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71600" y="2687760"/>
              <a:ext cx="3827880" cy="1280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619240" y="981000"/>
              <a:ext cx="2280240" cy="1280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10640" y="1224360"/>
              <a:ext cx="977040" cy="914400"/>
            </a:xfrm>
            <a:prstGeom prst="can">
              <a:avLst>
                <a:gd name="adj" fmla="val 21666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UM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IER 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88040" y="1345320"/>
              <a:ext cx="1153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ahoma"/>
                </a:rPr>
                <a:t>ITU TSB RIPE N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1240" y="2870640"/>
              <a:ext cx="977040" cy="914400"/>
            </a:xfrm>
            <a:prstGeom prst="can">
              <a:avLst>
                <a:gd name="adj" fmla="val 21666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UM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IER 1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72720" y="2870640"/>
              <a:ext cx="977040" cy="914400"/>
            </a:xfrm>
            <a:prstGeom prst="can">
              <a:avLst>
                <a:gd name="adj" fmla="val 2166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UM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IER 1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50120" y="2993040"/>
              <a:ext cx="8143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ahoma"/>
                </a:rPr>
                <a:t>R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ahoma"/>
                </a:rPr>
                <a:t>NIC.a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16040" y="2870640"/>
              <a:ext cx="977040" cy="914400"/>
            </a:xfrm>
            <a:prstGeom prst="can">
              <a:avLst>
                <a:gd name="adj" fmla="val 21666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UM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IER 1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37520" y="2870640"/>
              <a:ext cx="977040" cy="914400"/>
            </a:xfrm>
            <a:prstGeom prst="can">
              <a:avLst>
                <a:gd name="adj" fmla="val 2166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UM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IER 1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14920" y="2993040"/>
              <a:ext cx="13028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ahoma"/>
                </a:rPr>
                <a:t>VISION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ahoma"/>
                </a:rPr>
                <a:t>BearingPoint/INFONOV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759000" y="1345320"/>
              <a:ext cx="10720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ahoma"/>
                </a:rPr>
                <a:t>VISION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ahoma"/>
                </a:rPr>
                <a:t>TR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81960" y="1224360"/>
              <a:ext cx="977040" cy="914400"/>
            </a:xfrm>
            <a:prstGeom prst="can">
              <a:avLst>
                <a:gd name="adj" fmla="val 2166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9" name=""/>
            <p:cNvCxnSpPr>
              <a:stCxn id="159" idx="3"/>
              <a:endCxn id="161" idx="1"/>
            </p:cNvCxnSpPr>
            <p:nvPr/>
          </p:nvCxnSpPr>
          <p:spPr>
            <a:xfrm flipH="1">
              <a:off x="1139040" y="2139120"/>
              <a:ext cx="1860120" cy="732240"/>
            </a:xfrm>
            <a:prstGeom prst="straightConnector1">
              <a:avLst/>
            </a:prstGeom>
            <a:ln w="1908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59" idx="3"/>
              <a:endCxn id="164" idx="1"/>
            </p:cNvCxnSpPr>
            <p:nvPr/>
          </p:nvCxnSpPr>
          <p:spPr>
            <a:xfrm>
              <a:off x="2999160" y="2139120"/>
              <a:ext cx="1805760" cy="732240"/>
            </a:xfrm>
            <a:prstGeom prst="straightConnector1">
              <a:avLst/>
            </a:prstGeom>
            <a:ln w="19080">
              <a:solidFill>
                <a:srgbClr val="99ccff"/>
              </a:solidFill>
              <a:miter/>
              <a:tailEnd len="med" type="triangle" w="med"/>
            </a:ln>
          </p:spPr>
        </p:cxnSp>
        <p:sp>
          <p:nvSpPr>
            <p:cNvPr id="171" name=""/>
            <p:cNvSpPr/>
            <p:nvPr/>
          </p:nvSpPr>
          <p:spPr>
            <a:xfrm>
              <a:off x="2117160" y="4395240"/>
              <a:ext cx="5863320" cy="1280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61240" y="4578120"/>
              <a:ext cx="977040" cy="914400"/>
            </a:xfrm>
            <a:prstGeom prst="can">
              <a:avLst>
                <a:gd name="adj" fmla="val 21666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UM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IER 2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583080" y="4578120"/>
              <a:ext cx="977040" cy="914400"/>
            </a:xfrm>
            <a:prstGeom prst="can">
              <a:avLst>
                <a:gd name="adj" fmla="val 2166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UM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IER 2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86280" y="5126760"/>
              <a:ext cx="1139760" cy="365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Web Port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5" name=""/>
            <p:cNvCxnSpPr>
              <a:stCxn id="164" idx="3"/>
              <a:endCxn id="172" idx="1"/>
            </p:cNvCxnSpPr>
            <p:nvPr/>
          </p:nvCxnSpPr>
          <p:spPr>
            <a:xfrm flipH="1">
              <a:off x="2849400" y="3785400"/>
              <a:ext cx="1955160" cy="793440"/>
            </a:xfrm>
            <a:prstGeom prst="straightConnector1">
              <a:avLst/>
            </a:prstGeom>
            <a:ln w="1908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176" name=""/>
            <p:cNvCxnSpPr>
              <a:stCxn id="161" idx="3"/>
              <a:endCxn id="172" idx="1"/>
            </p:cNvCxnSpPr>
            <p:nvPr/>
          </p:nvCxnSpPr>
          <p:spPr>
            <a:xfrm>
              <a:off x="1139760" y="3785400"/>
              <a:ext cx="1710720" cy="793440"/>
            </a:xfrm>
            <a:prstGeom prst="straightConnector1">
              <a:avLst/>
            </a:prstGeom>
            <a:ln w="19080">
              <a:solidFill>
                <a:srgbClr val="99ccff"/>
              </a:solidFill>
              <a:miter/>
              <a:tailEnd len="med" type="triangle" w="med"/>
            </a:ln>
          </p:spPr>
        </p:cxnSp>
        <p:sp>
          <p:nvSpPr>
            <p:cNvPr id="177" name=""/>
            <p:cNvSpPr/>
            <p:nvPr/>
          </p:nvSpPr>
          <p:spPr>
            <a:xfrm>
              <a:off x="2880" y="5981760"/>
              <a:ext cx="148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ENUM End Us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8" name=""/>
            <p:cNvCxnSpPr>
              <a:stCxn id="162" idx="2"/>
              <a:endCxn id="161" idx="4"/>
            </p:cNvCxnSpPr>
            <p:nvPr/>
          </p:nvCxnSpPr>
          <p:spPr>
            <a:xfrm flipH="1">
              <a:off x="1628280" y="3327840"/>
              <a:ext cx="24480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9" name=""/>
            <p:cNvCxnSpPr>
              <a:stCxn id="173" idx="2"/>
              <a:endCxn id="172" idx="4"/>
            </p:cNvCxnSpPr>
            <p:nvPr/>
          </p:nvCxnSpPr>
          <p:spPr>
            <a:xfrm flipH="1">
              <a:off x="3338280" y="5035320"/>
              <a:ext cx="24480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0" name=""/>
            <p:cNvCxnSpPr>
              <a:stCxn id="165" idx="2"/>
              <a:endCxn id="164" idx="4"/>
            </p:cNvCxnSpPr>
            <p:nvPr/>
          </p:nvCxnSpPr>
          <p:spPr>
            <a:xfrm flipH="1">
              <a:off x="5292720" y="3327840"/>
              <a:ext cx="24480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1" name=""/>
            <p:cNvCxnSpPr>
              <a:stCxn id="174" idx="0"/>
              <a:endCxn id="182" idx="2"/>
            </p:cNvCxnSpPr>
            <p:nvPr/>
          </p:nvCxnSpPr>
          <p:spPr>
            <a:xfrm flipV="1">
              <a:off x="5456160" y="4943520"/>
              <a:ext cx="1080" cy="1836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3" name=""/>
            <p:cNvCxnSpPr>
              <a:stCxn id="182" idx="1"/>
              <a:endCxn id="173" idx="4"/>
            </p:cNvCxnSpPr>
            <p:nvPr/>
          </p:nvCxnSpPr>
          <p:spPr>
            <a:xfrm flipH="1">
              <a:off x="4559400" y="4761000"/>
              <a:ext cx="326520" cy="27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4" name=""/>
            <p:cNvCxnSpPr>
              <a:stCxn id="182" idx="0"/>
              <a:endCxn id="162" idx="3"/>
            </p:cNvCxnSpPr>
            <p:nvPr/>
          </p:nvCxnSpPr>
          <p:spPr>
            <a:xfrm flipH="1" flipV="1">
              <a:off x="2360520" y="3785040"/>
              <a:ext cx="3095640" cy="793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5" name=""/>
            <p:cNvCxnSpPr>
              <a:stCxn id="182" idx="0"/>
              <a:endCxn id="165" idx="3"/>
            </p:cNvCxnSpPr>
            <p:nvPr/>
          </p:nvCxnSpPr>
          <p:spPr>
            <a:xfrm flipV="1">
              <a:off x="5456520" y="3785040"/>
              <a:ext cx="570240" cy="793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86" name=""/>
            <p:cNvGrpSpPr/>
            <p:nvPr/>
          </p:nvGrpSpPr>
          <p:grpSpPr>
            <a:xfrm>
              <a:off x="5985720" y="4578120"/>
              <a:ext cx="976680" cy="487440"/>
              <a:chOff x="5985720" y="4578120"/>
              <a:chExt cx="976680" cy="487440"/>
            </a:xfrm>
          </p:grpSpPr>
          <p:sp>
            <p:nvSpPr>
              <p:cNvPr id="187" name=""/>
              <p:cNvSpPr/>
              <p:nvPr/>
            </p:nvSpPr>
            <p:spPr>
              <a:xfrm>
                <a:off x="6067080" y="4578120"/>
                <a:ext cx="895320" cy="487440"/>
              </a:xfrm>
              <a:prstGeom prst="flowChartConnector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Times New Roman"/>
                  </a:rPr>
                  <a:t>valid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Times New Roman"/>
                  </a:rPr>
                  <a:t>+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985720" y="4760640"/>
                <a:ext cx="111600" cy="121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 flipV="1">
                <a:off x="6042960" y="4821480"/>
                <a:ext cx="37080" cy="63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4886280" y="4578120"/>
              <a:ext cx="1139760" cy="365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Registr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919920" y="4396320"/>
              <a:ext cx="900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valid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+878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433560" y="5433120"/>
              <a:ext cx="187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ahoma"/>
                </a:rPr>
                <a:t>Telekom Austr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26040" y="2139120"/>
              <a:ext cx="2361960" cy="2438640"/>
            </a:xfrm>
            <a:custGeom>
              <a:avLst/>
              <a:gdLst/>
              <a:ahLst/>
              <a:rect l="l" t="t" r="r" b="b"/>
              <a:pathLst>
                <a:path w="1392" h="1920">
                  <a:moveTo>
                    <a:pt x="0" y="1920"/>
                  </a:moveTo>
                  <a:cubicBezTo>
                    <a:pt x="412" y="1864"/>
                    <a:pt x="824" y="1808"/>
                    <a:pt x="1056" y="1632"/>
                  </a:cubicBezTo>
                  <a:cubicBezTo>
                    <a:pt x="1288" y="1456"/>
                    <a:pt x="1392" y="1096"/>
                    <a:pt x="1392" y="864"/>
                  </a:cubicBezTo>
                  <a:cubicBezTo>
                    <a:pt x="1392" y="632"/>
                    <a:pt x="1256" y="384"/>
                    <a:pt x="1056" y="240"/>
                  </a:cubicBezTo>
                  <a:cubicBezTo>
                    <a:pt x="856" y="96"/>
                    <a:pt x="524" y="48"/>
                    <a:pt x="19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3" name="" descr=""/>
            <p:cNvPicPr/>
            <p:nvPr/>
          </p:nvPicPr>
          <p:blipFill>
            <a:blip r:embed="rId1"/>
            <a:stretch/>
          </p:blipFill>
          <p:spPr>
            <a:xfrm>
              <a:off x="244080" y="5370840"/>
              <a:ext cx="977040" cy="73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977040" y="5492520"/>
              <a:ext cx="4479120" cy="355680"/>
            </a:xfrm>
            <a:custGeom>
              <a:avLst/>
              <a:gdLst/>
              <a:ahLst/>
              <a:rect l="l" t="t" r="r" b="b"/>
              <a:pathLst>
                <a:path w="3168" h="280">
                  <a:moveTo>
                    <a:pt x="0" y="240"/>
                  </a:moveTo>
                  <a:cubicBezTo>
                    <a:pt x="1032" y="260"/>
                    <a:pt x="2064" y="280"/>
                    <a:pt x="2592" y="240"/>
                  </a:cubicBezTo>
                  <a:cubicBezTo>
                    <a:pt x="3120" y="200"/>
                    <a:pt x="3144" y="100"/>
                    <a:pt x="3168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1240" y="2322000"/>
              <a:ext cx="138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66ccff"/>
                  </a:solidFill>
                  <a:latin typeface="Tahoma"/>
                </a:rPr>
                <a:t>3.4.e164.arp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27160" y="2322000"/>
              <a:ext cx="195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66ccff"/>
                  </a:solidFill>
                  <a:latin typeface="Tahoma"/>
                </a:rPr>
                <a:t>0.1.8.7.8.e164.arp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7008-45D0-41B3-AADB-ED443C01BA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416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0000ff"/>
                </a:solidFill>
                <a:latin typeface="Times New Roman"/>
              </a:rPr>
              <a:t>ENUM Trials - Rollout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29840" y="1268280"/>
            <a:ext cx="8713800" cy="47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2002-03 Start of planning activit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2001-06 ENUM Tier 1 Registry (NIC.AT and Infonova) in oper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Start of develo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2002-09 ENUM Tier 2 Nameserver (Telekom Austria) in oper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First clients available (ENUM queries on public Interne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2002-10 Web-Portal for registration and modification in oper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SIP and H.323 VoIP applications availa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de-AT" sz="1800" spc="-1" strike="noStrike">
                <a:solidFill>
                  <a:srgbClr val="00cc00"/>
                </a:solidFill>
                <a:latin typeface="Tahoma"/>
              </a:rPr>
              <a:t>First Live Demo in Atlanta, GA (VISIONng/VON/TIPHO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Set-up of Call Center and Registrar (Telekom Austri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2002-11 ENUM Tier 1 Registry processes fully automated (Nic.a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Test of provisioning processes with selected subscrib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2002-12 Ready to invite real ENUM subscribers and us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de-AT" sz="1800" spc="-1" strike="noStrike">
                <a:solidFill>
                  <a:srgbClr val="00cc00"/>
                </a:solidFill>
                <a:latin typeface="Tahoma"/>
              </a:rPr>
              <a:t>Live demo of all functions at the ITU-T SG-2 meeting in Gene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2003-01 ETSI TS 102 172 final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Free World Dialup (pulver.com) is joining VISIONng as Registr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2003-02 </a:t>
            </a:r>
            <a:r>
              <a:rPr b="0" lang="de-AT" sz="1800" spc="-1" strike="noStrike">
                <a:solidFill>
                  <a:srgbClr val="ff0000"/>
                </a:solidFill>
                <a:latin typeface="Tahoma"/>
              </a:rPr>
              <a:t>Conversion to ETSI TS 102 172 complia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2003-03 </a:t>
            </a:r>
            <a:r>
              <a:rPr b="0" lang="de-AT" sz="1800" spc="-1" strike="noStrike">
                <a:solidFill>
                  <a:srgbClr val="00cc00"/>
                </a:solidFill>
                <a:latin typeface="Tahoma"/>
              </a:rPr>
              <a:t>Demos in Australia (ACA), IETF, ICANN and Spring VON 200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B2DD-BDF5-4AC1-8FC6-B8575B9EB1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36680" y="304560"/>
            <a:ext cx="82137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0000ff"/>
                </a:solidFill>
                <a:latin typeface="Times New Roman"/>
              </a:rPr>
              <a:t>ENUM with national numbers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01880" y="3925800"/>
            <a:ext cx="51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cc00"/>
                </a:solidFill>
                <a:latin typeface="Times New Roman"/>
              </a:rPr>
              <a:t>National ENUM is a second line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004760" y="2039760"/>
            <a:ext cx="2105280" cy="1082880"/>
            <a:chOff x="1004760" y="2039760"/>
            <a:chExt cx="2105280" cy="1082880"/>
          </a:xfrm>
        </p:grpSpPr>
        <p:sp>
          <p:nvSpPr>
            <p:cNvPr id="202" name=""/>
            <p:cNvSpPr/>
            <p:nvPr/>
          </p:nvSpPr>
          <p:spPr>
            <a:xfrm>
              <a:off x="2370240" y="2039760"/>
              <a:ext cx="739800" cy="601920"/>
            </a:xfrm>
            <a:prstGeom prst="can">
              <a:avLst>
                <a:gd name="adj" fmla="val 2166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NU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004760" y="2641680"/>
              <a:ext cx="1522440" cy="48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781200" y="4840200"/>
            <a:ext cx="7869240" cy="623880"/>
            <a:chOff x="781200" y="4840200"/>
            <a:chExt cx="7869240" cy="623880"/>
          </a:xfrm>
        </p:grpSpPr>
        <p:graphicFrame>
          <p:nvGraphicFramePr>
            <p:cNvPr id="205" name=""/>
            <p:cNvGraphicFramePr/>
            <p:nvPr/>
          </p:nvGraphicFramePr>
          <p:xfrm>
            <a:off x="781200" y="4848480"/>
            <a:ext cx="571680" cy="536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81200" y="4848480"/>
                      <a:ext cx="571680" cy="53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7" name=""/>
            <p:cNvSpPr/>
            <p:nvPr/>
          </p:nvSpPr>
          <p:spPr>
            <a:xfrm>
              <a:off x="1873440" y="4840200"/>
              <a:ext cx="1650960" cy="61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8" name=""/>
            <p:cNvGraphicFramePr/>
            <p:nvPr/>
          </p:nvGraphicFramePr>
          <p:xfrm>
            <a:off x="8079120" y="4876920"/>
            <a:ext cx="571320" cy="536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079120" y="4876920"/>
                      <a:ext cx="571320" cy="53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0" name=""/>
            <p:cNvSpPr/>
            <p:nvPr/>
          </p:nvSpPr>
          <p:spPr>
            <a:xfrm>
              <a:off x="3702240" y="4840200"/>
              <a:ext cx="1778040" cy="61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658120" y="4848480"/>
              <a:ext cx="1778040" cy="615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178360" y="4961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TD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21280" y="4961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TD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75720" y="4961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TD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149480" y="5168880"/>
              <a:ext cx="72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436160" y="5168880"/>
              <a:ext cx="81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524400" y="5168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480280" y="5168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6670800" y="4383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43179733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592200" y="2722680"/>
            <a:ext cx="7958160" cy="798120"/>
            <a:chOff x="592200" y="2722680"/>
            <a:chExt cx="7958160" cy="798120"/>
          </a:xfrm>
        </p:grpSpPr>
        <p:pic>
          <p:nvPicPr>
            <p:cNvPr id="221" name="" descr=""/>
            <p:cNvPicPr/>
            <p:nvPr/>
          </p:nvPicPr>
          <p:blipFill>
            <a:blip r:embed="rId5"/>
            <a:stretch/>
          </p:blipFill>
          <p:spPr>
            <a:xfrm>
              <a:off x="592200" y="279864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6"/>
            <a:stretch/>
          </p:blipFill>
          <p:spPr>
            <a:xfrm>
              <a:off x="7934400" y="279864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3" name=""/>
            <p:cNvGrpSpPr/>
            <p:nvPr/>
          </p:nvGrpSpPr>
          <p:grpSpPr>
            <a:xfrm>
              <a:off x="2033640" y="2722680"/>
              <a:ext cx="4800600" cy="798120"/>
              <a:chOff x="2033640" y="2722680"/>
              <a:chExt cx="4800600" cy="798120"/>
            </a:xfrm>
          </p:grpSpPr>
          <p:sp>
            <p:nvSpPr>
              <p:cNvPr id="224" name=""/>
              <p:cNvSpPr/>
              <p:nvPr/>
            </p:nvSpPr>
            <p:spPr>
              <a:xfrm>
                <a:off x="2033640" y="2722680"/>
                <a:ext cx="4800600" cy="798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557520" y="2887200"/>
                <a:ext cx="1778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Times New Roman"/>
                  </a:rPr>
                  <a:t>Intern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1004760" y="3122640"/>
              <a:ext cx="136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407280" y="3122640"/>
              <a:ext cx="170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5859360" y="2970360"/>
              <a:ext cx="736560" cy="308520"/>
              <a:chOff x="5859360" y="2970360"/>
              <a:chExt cx="736560" cy="308520"/>
            </a:xfrm>
          </p:grpSpPr>
          <p:sp>
            <p:nvSpPr>
              <p:cNvPr id="229" name=""/>
              <p:cNvSpPr/>
              <p:nvPr/>
            </p:nvSpPr>
            <p:spPr>
              <a:xfrm>
                <a:off x="5859360" y="2971800"/>
                <a:ext cx="736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400" spc="-1" strike="noStrike">
                    <a:solidFill>
                      <a:srgbClr val="000000"/>
                    </a:solidFill>
                    <a:latin typeface="Times New Roman"/>
                  </a:rPr>
                  <a:t>G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051240" y="2970360"/>
                <a:ext cx="355680" cy="269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2178000" y="2968560"/>
              <a:ext cx="736560" cy="308520"/>
              <a:chOff x="2178000" y="2968560"/>
              <a:chExt cx="736560" cy="308520"/>
            </a:xfrm>
          </p:grpSpPr>
          <p:sp>
            <p:nvSpPr>
              <p:cNvPr id="232" name=""/>
              <p:cNvSpPr/>
              <p:nvPr/>
            </p:nvSpPr>
            <p:spPr>
              <a:xfrm>
                <a:off x="2178000" y="2970000"/>
                <a:ext cx="736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400" spc="-1" strike="noStrike">
                    <a:solidFill>
                      <a:srgbClr val="000000"/>
                    </a:solidFill>
                    <a:latin typeface="Times New Roman"/>
                  </a:rPr>
                  <a:t>G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369880" y="2968560"/>
                <a:ext cx="355680" cy="269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4" name=""/>
          <p:cNvSpPr/>
          <p:nvPr/>
        </p:nvSpPr>
        <p:spPr>
          <a:xfrm>
            <a:off x="6595920" y="2355840"/>
            <a:ext cx="195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rich@prov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25560" y="2641680"/>
            <a:ext cx="1198800" cy="787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725560" y="3386160"/>
            <a:ext cx="1764000" cy="1454040"/>
            <a:chOff x="2725560" y="3386160"/>
            <a:chExt cx="1764000" cy="1454040"/>
          </a:xfrm>
        </p:grpSpPr>
        <p:sp>
          <p:nvSpPr>
            <p:cNvPr id="237" name=""/>
            <p:cNvSpPr/>
            <p:nvPr/>
          </p:nvSpPr>
          <p:spPr>
            <a:xfrm flipV="1">
              <a:off x="2725560" y="3691080"/>
              <a:ext cx="1395720" cy="114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3753000" y="3386160"/>
              <a:ext cx="736560" cy="307080"/>
              <a:chOff x="3753000" y="3386160"/>
              <a:chExt cx="736560" cy="307080"/>
            </a:xfrm>
          </p:grpSpPr>
          <p:sp>
            <p:nvSpPr>
              <p:cNvPr id="239" name=""/>
              <p:cNvSpPr/>
              <p:nvPr/>
            </p:nvSpPr>
            <p:spPr>
              <a:xfrm>
                <a:off x="3943440" y="3414600"/>
                <a:ext cx="355680" cy="270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753000" y="3386160"/>
                <a:ext cx="736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400" spc="-1" strike="noStrike">
                    <a:solidFill>
                      <a:srgbClr val="000000"/>
                    </a:solidFill>
                    <a:latin typeface="Times New Roman"/>
                  </a:rPr>
                  <a:t>G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"/>
          <p:cNvSpPr/>
          <p:nvPr/>
        </p:nvSpPr>
        <p:spPr>
          <a:xfrm>
            <a:off x="1208160" y="3276720"/>
            <a:ext cx="6726240" cy="0"/>
          </a:xfrm>
          <a:prstGeom prst="line">
            <a:avLst/>
          </a:prstGeom>
          <a:ln w="12600">
            <a:solidFill>
              <a:srgbClr val="ff33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352520" y="5105520"/>
            <a:ext cx="6726240" cy="0"/>
          </a:xfrm>
          <a:prstGeom prst="line">
            <a:avLst/>
          </a:prstGeom>
          <a:ln w="12600">
            <a:solidFill>
              <a:srgbClr val="ff33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1149120" y="2967840"/>
            <a:ext cx="6785640" cy="1872360"/>
          </a:xfrm>
          <a:prstGeom prst="curvedConnector5">
            <a:avLst>
              <a:gd name="adj1" fmla="val 44943"/>
              <a:gd name="adj2" fmla="val 50000"/>
              <a:gd name="adj3" fmla="val 44943"/>
            </a:avLst>
          </a:prstGeom>
          <a:ln w="12600">
            <a:solidFill>
              <a:srgbClr val="ff6600"/>
            </a:solidFill>
            <a:prstDash val="dash"/>
            <a:miter/>
            <a:tailEnd len="lg" type="triangle" w="lg"/>
          </a:ln>
        </p:spPr>
      </p:cxnSp>
      <p:grpSp>
        <p:nvGrpSpPr>
          <p:cNvPr id="244" name=""/>
          <p:cNvGrpSpPr/>
          <p:nvPr/>
        </p:nvGrpSpPr>
        <p:grpSpPr>
          <a:xfrm>
            <a:off x="1096920" y="1582560"/>
            <a:ext cx="3803760" cy="459720"/>
            <a:chOff x="1096920" y="1582560"/>
            <a:chExt cx="3803760" cy="459720"/>
          </a:xfrm>
        </p:grpSpPr>
        <p:sp>
          <p:nvSpPr>
            <p:cNvPr id="245" name=""/>
            <p:cNvSpPr/>
            <p:nvPr/>
          </p:nvSpPr>
          <p:spPr>
            <a:xfrm>
              <a:off x="1096920" y="158256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431797332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46240" y="1644480"/>
              <a:ext cx="195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rich@prov.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610000" y="1852560"/>
              <a:ext cx="336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592200" y="4154400"/>
            <a:ext cx="29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10xx"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43179733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524400" y="2305080"/>
            <a:ext cx="198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* GK or SIP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5B4C-0306-4EFD-8904-E69014296DD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10760" y="304560"/>
            <a:ext cx="8239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0000ff"/>
                </a:solidFill>
                <a:latin typeface="Times New Roman"/>
              </a:rPr>
              <a:t>Universal Personal Numbers (UPT)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52" idx="1"/>
          </p:cNvCxnSpPr>
          <p:nvPr/>
        </p:nvCxnSpPr>
        <p:spPr>
          <a:xfrm flipV="1" rot="10800000">
            <a:off x="7981200" y="4163760"/>
            <a:ext cx="53280" cy="1419840"/>
          </a:xfrm>
          <a:prstGeom prst="curvedConnector5">
            <a:avLst>
              <a:gd name="adj1" fmla="val 2863265"/>
              <a:gd name="adj2" fmla="val 49987"/>
              <a:gd name="adj3" fmla="val 2863265"/>
            </a:avLst>
          </a:prstGeom>
          <a:ln w="12600">
            <a:solidFill>
              <a:srgbClr val="ff0000"/>
            </a:solidFill>
            <a:prstDash val="dash"/>
            <a:miter/>
            <a:tailEnd len="lg" type="triangle" w="lg"/>
          </a:ln>
        </p:spPr>
      </p:cxnSp>
      <p:sp>
        <p:nvSpPr>
          <p:cNvPr id="253" name=""/>
          <p:cNvSpPr/>
          <p:nvPr/>
        </p:nvSpPr>
        <p:spPr>
          <a:xfrm>
            <a:off x="6940440" y="3505320"/>
            <a:ext cx="20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8781087810878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5873760" y="4475160"/>
            <a:ext cx="2679840" cy="1495440"/>
            <a:chOff x="5873760" y="4475160"/>
            <a:chExt cx="2679840" cy="1495440"/>
          </a:xfrm>
        </p:grpSpPr>
        <p:graphicFrame>
          <p:nvGraphicFramePr>
            <p:cNvPr id="255" name=""/>
            <p:cNvGraphicFramePr/>
            <p:nvPr/>
          </p:nvGraphicFramePr>
          <p:xfrm>
            <a:off x="7981920" y="5315040"/>
            <a:ext cx="571680" cy="536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981920" y="5315040"/>
                      <a:ext cx="571680" cy="53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57" name=""/>
            <p:cNvGrpSpPr/>
            <p:nvPr/>
          </p:nvGrpSpPr>
          <p:grpSpPr>
            <a:xfrm>
              <a:off x="5900760" y="5354640"/>
              <a:ext cx="1650960" cy="615960"/>
              <a:chOff x="5900760" y="5354640"/>
              <a:chExt cx="1650960" cy="615960"/>
            </a:xfrm>
          </p:grpSpPr>
          <p:sp>
            <p:nvSpPr>
              <p:cNvPr id="258" name=""/>
              <p:cNvSpPr/>
              <p:nvPr/>
            </p:nvSpPr>
            <p:spPr>
              <a:xfrm>
                <a:off x="6239160" y="5434200"/>
                <a:ext cx="99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Times New Roman"/>
                  </a:rPr>
                  <a:t>TD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900760" y="5354640"/>
                <a:ext cx="1650960" cy="615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7551720" y="562284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56440" y="4745160"/>
              <a:ext cx="439560" cy="56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5873760" y="4475160"/>
              <a:ext cx="736560" cy="308520"/>
              <a:chOff x="5873760" y="4475160"/>
              <a:chExt cx="736560" cy="308520"/>
            </a:xfrm>
          </p:grpSpPr>
          <p:sp>
            <p:nvSpPr>
              <p:cNvPr id="263" name=""/>
              <p:cNvSpPr/>
              <p:nvPr/>
            </p:nvSpPr>
            <p:spPr>
              <a:xfrm>
                <a:off x="5873760" y="4476600"/>
                <a:ext cx="736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400" spc="-1" strike="noStrike">
                    <a:solidFill>
                      <a:srgbClr val="000000"/>
                    </a:solidFill>
                    <a:latin typeface="Times New Roman"/>
                  </a:rPr>
                  <a:t>G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065640" y="4475160"/>
                <a:ext cx="355680" cy="269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5" name=""/>
          <p:cNvGrpSpPr/>
          <p:nvPr/>
        </p:nvGrpSpPr>
        <p:grpSpPr>
          <a:xfrm>
            <a:off x="2967120" y="2979720"/>
            <a:ext cx="739800" cy="875880"/>
            <a:chOff x="2967120" y="2979720"/>
            <a:chExt cx="739800" cy="875880"/>
          </a:xfrm>
        </p:grpSpPr>
        <p:sp>
          <p:nvSpPr>
            <p:cNvPr id="266" name=""/>
            <p:cNvSpPr/>
            <p:nvPr/>
          </p:nvSpPr>
          <p:spPr>
            <a:xfrm>
              <a:off x="2967120" y="2979720"/>
              <a:ext cx="739800" cy="601560"/>
            </a:xfrm>
            <a:prstGeom prst="can">
              <a:avLst>
                <a:gd name="adj" fmla="val 2166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ENUM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032280" y="3585960"/>
              <a:ext cx="320400" cy="26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92280" y="3516480"/>
            <a:ext cx="7958160" cy="955080"/>
            <a:chOff x="692280" y="3516480"/>
            <a:chExt cx="7958160" cy="955080"/>
          </a:xfrm>
        </p:grpSpPr>
        <p:grpSp>
          <p:nvGrpSpPr>
            <p:cNvPr id="269" name=""/>
            <p:cNvGrpSpPr/>
            <p:nvPr/>
          </p:nvGrpSpPr>
          <p:grpSpPr>
            <a:xfrm>
              <a:off x="692280" y="3733920"/>
              <a:ext cx="7958160" cy="737640"/>
              <a:chOff x="692280" y="3733920"/>
              <a:chExt cx="7958160" cy="737640"/>
            </a:xfrm>
          </p:grpSpPr>
          <p:grpSp>
            <p:nvGrpSpPr>
              <p:cNvPr id="270" name=""/>
              <p:cNvGrpSpPr/>
              <p:nvPr/>
            </p:nvGrpSpPr>
            <p:grpSpPr>
              <a:xfrm>
                <a:off x="692280" y="3733920"/>
                <a:ext cx="7958160" cy="737640"/>
                <a:chOff x="692280" y="3733920"/>
                <a:chExt cx="7958160" cy="737640"/>
              </a:xfrm>
            </p:grpSpPr>
            <p:pic>
              <p:nvPicPr>
                <p:cNvPr id="27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034480" y="3855960"/>
                  <a:ext cx="615960" cy="6156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72" name=""/>
                <p:cNvGrpSpPr/>
                <p:nvPr/>
              </p:nvGrpSpPr>
              <p:grpSpPr>
                <a:xfrm>
                  <a:off x="5370480" y="3855960"/>
                  <a:ext cx="1650960" cy="615600"/>
                  <a:chOff x="5370480" y="3855960"/>
                  <a:chExt cx="1650960" cy="615600"/>
                </a:xfrm>
              </p:grpSpPr>
              <p:sp>
                <p:nvSpPr>
                  <p:cNvPr id="273" name=""/>
                  <p:cNvSpPr/>
                  <p:nvPr/>
                </p:nvSpPr>
                <p:spPr>
                  <a:xfrm>
                    <a:off x="5708880" y="3935160"/>
                    <a:ext cx="9903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AT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ISIONng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5370480" y="3855960"/>
                    <a:ext cx="1650960" cy="6156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5" name=""/>
                <p:cNvGrpSpPr/>
                <p:nvPr/>
              </p:nvGrpSpPr>
              <p:grpSpPr>
                <a:xfrm>
                  <a:off x="1973160" y="3855960"/>
                  <a:ext cx="1650960" cy="615600"/>
                  <a:chOff x="1973160" y="3855960"/>
                  <a:chExt cx="1650960" cy="61560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>
                    <a:off x="2311560" y="3935160"/>
                    <a:ext cx="9903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AT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ISIONng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1973160" y="3855960"/>
                    <a:ext cx="1650960" cy="6156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27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92280" y="3733920"/>
                  <a:ext cx="615960" cy="615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9" name=""/>
                <p:cNvSpPr/>
                <p:nvPr/>
              </p:nvSpPr>
              <p:spPr>
                <a:xfrm>
                  <a:off x="1263600" y="4157280"/>
                  <a:ext cx="70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0" name=""/>
              <p:cNvSpPr/>
              <p:nvPr/>
            </p:nvSpPr>
            <p:spPr>
              <a:xfrm>
                <a:off x="3657600" y="4170240"/>
                <a:ext cx="171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021440" y="4176360"/>
                <a:ext cx="1189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3773520" y="3516480"/>
              <a:ext cx="16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VISIONng Backb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673200" y="4473720"/>
            <a:ext cx="5252760" cy="1496880"/>
            <a:chOff x="673200" y="4473720"/>
            <a:chExt cx="5252760" cy="1496880"/>
          </a:xfrm>
        </p:grpSpPr>
        <p:grpSp>
          <p:nvGrpSpPr>
            <p:cNvPr id="284" name=""/>
            <p:cNvGrpSpPr/>
            <p:nvPr/>
          </p:nvGrpSpPr>
          <p:grpSpPr>
            <a:xfrm>
              <a:off x="673200" y="4473720"/>
              <a:ext cx="2519280" cy="1496880"/>
              <a:chOff x="673200" y="4473720"/>
              <a:chExt cx="2519280" cy="1496880"/>
            </a:xfrm>
          </p:grpSpPr>
          <p:graphicFrame>
            <p:nvGraphicFramePr>
              <p:cNvPr id="285" name=""/>
              <p:cNvGraphicFramePr/>
              <p:nvPr/>
            </p:nvGraphicFramePr>
            <p:xfrm>
              <a:off x="673200" y="5354640"/>
              <a:ext cx="571320" cy="5364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86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73200" y="5354640"/>
                        <a:ext cx="571320" cy="536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287" name=""/>
              <p:cNvGrpSpPr/>
              <p:nvPr/>
            </p:nvGrpSpPr>
            <p:grpSpPr>
              <a:xfrm>
                <a:off x="1541520" y="5354640"/>
                <a:ext cx="1650960" cy="615960"/>
                <a:chOff x="1541520" y="5354640"/>
                <a:chExt cx="1650960" cy="61596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1879920" y="5434200"/>
                  <a:ext cx="99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Times New Roman"/>
                    </a:rPr>
                    <a:t>TD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541520" y="5354640"/>
                  <a:ext cx="1650960" cy="6159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2455920" y="4473720"/>
                <a:ext cx="736560" cy="308520"/>
                <a:chOff x="2455920" y="4473720"/>
                <a:chExt cx="736560" cy="30852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2455920" y="4475160"/>
                  <a:ext cx="736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400" spc="-1" strike="noStrike">
                      <a:solidFill>
                        <a:srgbClr val="000000"/>
                      </a:solidFill>
                      <a:latin typeface="Times New Roman"/>
                    </a:rPr>
                    <a:t>GW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647800" y="4473720"/>
                  <a:ext cx="355680" cy="269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1104840" y="5622840"/>
                <a:ext cx="43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2311560" y="4743360"/>
                <a:ext cx="514080" cy="61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3218040" y="5630760"/>
              <a:ext cx="27079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1244520" y="3983040"/>
            <a:ext cx="673740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7" name=""/>
          <p:cNvCxnSpPr/>
          <p:nvPr/>
        </p:nvCxnSpPr>
        <p:spPr>
          <a:xfrm flipV="1">
            <a:off x="1308240" y="4157280"/>
            <a:ext cx="6674400" cy="1157760"/>
          </a:xfrm>
          <a:prstGeom prst="curvedConnector5">
            <a:avLst>
              <a:gd name="adj1" fmla="val 29440"/>
              <a:gd name="adj2" fmla="val 49984"/>
              <a:gd name="adj3" fmla="val 29440"/>
            </a:avLst>
          </a:prstGeom>
          <a:ln w="12600">
            <a:solidFill>
              <a:srgbClr val="ff0000"/>
            </a:solidFill>
            <a:prstDash val="dash"/>
            <a:miter/>
            <a:tailEnd len="lg" type="triangle" w="lg"/>
          </a:ln>
        </p:spPr>
      </p:cxnSp>
      <p:sp>
        <p:nvSpPr>
          <p:cNvPr id="298" name=""/>
          <p:cNvSpPr/>
          <p:nvPr/>
        </p:nvSpPr>
        <p:spPr>
          <a:xfrm>
            <a:off x="3965400" y="2971800"/>
            <a:ext cx="32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TIPHON Resolution Cap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9560" y="478152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87810x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8CCC-00AA-47A4-8EFB-88D5D77CF9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0000ff"/>
                </a:solidFill>
                <a:latin typeface="Times New Roman"/>
              </a:rPr>
              <a:t>Content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3360" y="1260000"/>
            <a:ext cx="8294760" cy="49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ENUM Status IETF, ETSI and European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ENUM Background in Aust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The Austrian ENUM Trial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Scope of the ENUM Tri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Tasks of the ENUM trial partn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ENUM Application and Administrative Asp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ENUM Trials Workplan, Validation, WHO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ENUM Trial for U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ENUM Trials Roll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ENUM Scenar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Demonstration of the Tri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356D-1670-4346-B16D-EA181A2C8B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10760" y="304560"/>
            <a:ext cx="8239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0000ff"/>
                </a:solidFill>
                <a:latin typeface="Times New Roman"/>
              </a:rPr>
              <a:t>Personal Numbers ENUM only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104840" y="1773360"/>
            <a:ext cx="1735200" cy="1024920"/>
            <a:chOff x="1104840" y="1773360"/>
            <a:chExt cx="1735200" cy="1024920"/>
          </a:xfrm>
        </p:grpSpPr>
        <p:sp>
          <p:nvSpPr>
            <p:cNvPr id="302" name=""/>
            <p:cNvSpPr/>
            <p:nvPr/>
          </p:nvSpPr>
          <p:spPr>
            <a:xfrm>
              <a:off x="2100240" y="1773360"/>
              <a:ext cx="739800" cy="601560"/>
            </a:xfrm>
            <a:prstGeom prst="can">
              <a:avLst>
                <a:gd name="adj" fmla="val 2166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NU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1104840" y="2374560"/>
              <a:ext cx="1173240" cy="42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692280" y="2008080"/>
            <a:ext cx="7958160" cy="1188720"/>
            <a:chOff x="692280" y="2008080"/>
            <a:chExt cx="7958160" cy="1188720"/>
          </a:xfrm>
        </p:grpSpPr>
        <p:grpSp>
          <p:nvGrpSpPr>
            <p:cNvPr id="305" name=""/>
            <p:cNvGrpSpPr/>
            <p:nvPr/>
          </p:nvGrpSpPr>
          <p:grpSpPr>
            <a:xfrm>
              <a:off x="692280" y="2398680"/>
              <a:ext cx="7958160" cy="798120"/>
              <a:chOff x="692280" y="2398680"/>
              <a:chExt cx="7958160" cy="798120"/>
            </a:xfrm>
          </p:grpSpPr>
          <p:pic>
            <p:nvPicPr>
              <p:cNvPr id="30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92280" y="2474640"/>
                <a:ext cx="615960" cy="61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034480" y="2474640"/>
                <a:ext cx="615960" cy="615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8" name=""/>
              <p:cNvGrpSpPr/>
              <p:nvPr/>
            </p:nvGrpSpPr>
            <p:grpSpPr>
              <a:xfrm>
                <a:off x="2133720" y="2398680"/>
                <a:ext cx="4800600" cy="798120"/>
                <a:chOff x="2133720" y="2398680"/>
                <a:chExt cx="4800600" cy="79812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2133720" y="2398680"/>
                  <a:ext cx="4800600" cy="7981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3657600" y="2563200"/>
                  <a:ext cx="1778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Times New Roman"/>
                    </a:rPr>
                    <a:t>Interne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1" name=""/>
              <p:cNvSpPr/>
              <p:nvPr/>
            </p:nvSpPr>
            <p:spPr>
              <a:xfrm>
                <a:off x="1104840" y="2798640"/>
                <a:ext cx="1365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507360" y="2798640"/>
                <a:ext cx="170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3" name=""/>
              <p:cNvGrpSpPr/>
              <p:nvPr/>
            </p:nvGrpSpPr>
            <p:grpSpPr>
              <a:xfrm>
                <a:off x="5959440" y="2646360"/>
                <a:ext cx="736560" cy="308520"/>
                <a:chOff x="5959440" y="2646360"/>
                <a:chExt cx="736560" cy="308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5959440" y="2647800"/>
                  <a:ext cx="736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400" spc="-1" strike="noStrike">
                      <a:solidFill>
                        <a:srgbClr val="000000"/>
                      </a:solidFill>
                      <a:latin typeface="Times New Roman"/>
                    </a:rPr>
                    <a:t>G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151320" y="2646360"/>
                  <a:ext cx="355680" cy="269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2278080" y="2644560"/>
                <a:ext cx="736560" cy="308520"/>
                <a:chOff x="2278080" y="2644560"/>
                <a:chExt cx="736560" cy="308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2278080" y="2646000"/>
                  <a:ext cx="736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400" spc="-1" strike="noStrike">
                      <a:solidFill>
                        <a:srgbClr val="000000"/>
                      </a:solidFill>
                      <a:latin typeface="Times New Roman"/>
                    </a:rPr>
                    <a:t>G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2469960" y="2644560"/>
                  <a:ext cx="355680" cy="269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9" name=""/>
            <p:cNvSpPr/>
            <p:nvPr/>
          </p:nvSpPr>
          <p:spPr>
            <a:xfrm>
              <a:off x="3624120" y="2008080"/>
              <a:ext cx="198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* GK or SIP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6256440" y="2008080"/>
            <a:ext cx="26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16241@fwd.pulve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372960" y="1316160"/>
            <a:ext cx="5221440" cy="459720"/>
            <a:chOff x="372960" y="1316160"/>
            <a:chExt cx="5221440" cy="459720"/>
          </a:xfrm>
        </p:grpSpPr>
        <p:sp>
          <p:nvSpPr>
            <p:cNvPr id="322" name=""/>
            <p:cNvSpPr/>
            <p:nvPr/>
          </p:nvSpPr>
          <p:spPr>
            <a:xfrm>
              <a:off x="372960" y="1316160"/>
              <a:ext cx="20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87810123456789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513160" y="1589040"/>
              <a:ext cx="336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967120" y="1376280"/>
              <a:ext cx="262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16241@fwd.pulver.c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1203480" y="2563920"/>
            <a:ext cx="673704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D1DA-D157-404D-83F4-FFD9FC2DB16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72960" y="304560"/>
            <a:ext cx="84535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0000ff"/>
                </a:solidFill>
                <a:latin typeface="Times New Roman"/>
              </a:rPr>
              <a:t>ENUM with Personal Numbers (UPT)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708360" y="4781520"/>
            <a:ext cx="51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cc00"/>
                </a:solidFill>
                <a:latin typeface="Times New Roman"/>
              </a:rPr>
              <a:t>UPT ENUM is a primary line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73200" y="2979720"/>
            <a:ext cx="8350200" cy="2990880"/>
            <a:chOff x="673200" y="2979720"/>
            <a:chExt cx="8350200" cy="2990880"/>
          </a:xfrm>
        </p:grpSpPr>
        <p:sp>
          <p:nvSpPr>
            <p:cNvPr id="329" name=""/>
            <p:cNvSpPr/>
            <p:nvPr/>
          </p:nvSpPr>
          <p:spPr>
            <a:xfrm>
              <a:off x="6940440" y="3505320"/>
              <a:ext cx="20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8781087810878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5873760" y="4475160"/>
              <a:ext cx="2679840" cy="1495440"/>
              <a:chOff x="5873760" y="4475160"/>
              <a:chExt cx="2679840" cy="1495440"/>
            </a:xfrm>
          </p:grpSpPr>
          <p:graphicFrame>
            <p:nvGraphicFramePr>
              <p:cNvPr id="331" name=""/>
              <p:cNvGraphicFramePr/>
              <p:nvPr/>
            </p:nvGraphicFramePr>
            <p:xfrm>
              <a:off x="7981920" y="5315040"/>
              <a:ext cx="571680" cy="536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3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981920" y="5315040"/>
                        <a:ext cx="571680" cy="536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333" name=""/>
              <p:cNvGrpSpPr/>
              <p:nvPr/>
            </p:nvGrpSpPr>
            <p:grpSpPr>
              <a:xfrm>
                <a:off x="5900760" y="5354640"/>
                <a:ext cx="1650960" cy="615960"/>
                <a:chOff x="5900760" y="5354640"/>
                <a:chExt cx="1650960" cy="61596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6239160" y="5434200"/>
                  <a:ext cx="99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Times New Roman"/>
                    </a:rPr>
                    <a:t>TD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5900760" y="5354640"/>
                  <a:ext cx="1650960" cy="6159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6" name=""/>
              <p:cNvSpPr/>
              <p:nvPr/>
            </p:nvSpPr>
            <p:spPr>
              <a:xfrm>
                <a:off x="7551720" y="5622840"/>
                <a:ext cx="482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256440" y="4745160"/>
                <a:ext cx="439560" cy="56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8" name=""/>
              <p:cNvGrpSpPr/>
              <p:nvPr/>
            </p:nvGrpSpPr>
            <p:grpSpPr>
              <a:xfrm>
                <a:off x="5873760" y="4475160"/>
                <a:ext cx="736560" cy="308520"/>
                <a:chOff x="5873760" y="4475160"/>
                <a:chExt cx="736560" cy="30852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5873760" y="4476600"/>
                  <a:ext cx="736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400" spc="-1" strike="noStrike">
                      <a:solidFill>
                        <a:srgbClr val="000000"/>
                      </a:solidFill>
                      <a:latin typeface="Times New Roman"/>
                    </a:rPr>
                    <a:t>GW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065640" y="4475160"/>
                  <a:ext cx="355680" cy="269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1" name=""/>
            <p:cNvGrpSpPr/>
            <p:nvPr/>
          </p:nvGrpSpPr>
          <p:grpSpPr>
            <a:xfrm>
              <a:off x="2967120" y="2979720"/>
              <a:ext cx="739800" cy="875880"/>
              <a:chOff x="2967120" y="2979720"/>
              <a:chExt cx="739800" cy="875880"/>
            </a:xfrm>
          </p:grpSpPr>
          <p:sp>
            <p:nvSpPr>
              <p:cNvPr id="342" name=""/>
              <p:cNvSpPr/>
              <p:nvPr/>
            </p:nvSpPr>
            <p:spPr>
              <a:xfrm>
                <a:off x="2967120" y="2979720"/>
                <a:ext cx="739800" cy="601560"/>
              </a:xfrm>
              <a:prstGeom prst="can">
                <a:avLst>
                  <a:gd name="adj" fmla="val 21666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400" spc="-1" strike="noStrike">
                    <a:solidFill>
                      <a:srgbClr val="000000"/>
                    </a:solidFill>
                    <a:latin typeface="Arial"/>
                  </a:rPr>
                  <a:t>"ENUM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>
                <a:off x="3032280" y="3585960"/>
                <a:ext cx="320400" cy="269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692280" y="3516480"/>
              <a:ext cx="7958160" cy="955080"/>
              <a:chOff x="692280" y="3516480"/>
              <a:chExt cx="7958160" cy="955080"/>
            </a:xfrm>
          </p:grpSpPr>
          <p:grpSp>
            <p:nvGrpSpPr>
              <p:cNvPr id="345" name=""/>
              <p:cNvGrpSpPr/>
              <p:nvPr/>
            </p:nvGrpSpPr>
            <p:grpSpPr>
              <a:xfrm>
                <a:off x="692280" y="3733920"/>
                <a:ext cx="7958160" cy="737640"/>
                <a:chOff x="692280" y="3733920"/>
                <a:chExt cx="7958160" cy="737640"/>
              </a:xfrm>
            </p:grpSpPr>
            <p:grpSp>
              <p:nvGrpSpPr>
                <p:cNvPr id="346" name=""/>
                <p:cNvGrpSpPr/>
                <p:nvPr/>
              </p:nvGrpSpPr>
              <p:grpSpPr>
                <a:xfrm>
                  <a:off x="692280" y="3733920"/>
                  <a:ext cx="7958160" cy="737640"/>
                  <a:chOff x="692280" y="3733920"/>
                  <a:chExt cx="7958160" cy="737640"/>
                </a:xfrm>
              </p:grpSpPr>
              <p:pic>
                <p:nvPicPr>
                  <p:cNvPr id="3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34480" y="3855960"/>
                    <a:ext cx="615960" cy="61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348" name=""/>
                  <p:cNvGrpSpPr/>
                  <p:nvPr/>
                </p:nvGrpSpPr>
                <p:grpSpPr>
                  <a:xfrm>
                    <a:off x="5370480" y="3855960"/>
                    <a:ext cx="1650960" cy="615600"/>
                    <a:chOff x="5370480" y="3855960"/>
                    <a:chExt cx="1650960" cy="615600"/>
                  </a:xfrm>
                </p:grpSpPr>
                <p:sp>
                  <p:nvSpPr>
                    <p:cNvPr id="349" name=""/>
                    <p:cNvSpPr/>
                    <p:nvPr/>
                  </p:nvSpPr>
                  <p:spPr>
                    <a:xfrm>
                      <a:off x="5708880" y="3935160"/>
                      <a:ext cx="99036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SION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>
                      <a:off x="5370480" y="3855960"/>
                      <a:ext cx="1650960" cy="6156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1" name=""/>
                  <p:cNvGrpSpPr/>
                  <p:nvPr/>
                </p:nvGrpSpPr>
                <p:grpSpPr>
                  <a:xfrm>
                    <a:off x="1973160" y="3855960"/>
                    <a:ext cx="1650960" cy="615600"/>
                    <a:chOff x="1973160" y="3855960"/>
                    <a:chExt cx="1650960" cy="615600"/>
                  </a:xfrm>
                </p:grpSpPr>
                <p:sp>
                  <p:nvSpPr>
                    <p:cNvPr id="352" name=""/>
                    <p:cNvSpPr/>
                    <p:nvPr/>
                  </p:nvSpPr>
                  <p:spPr>
                    <a:xfrm>
                      <a:off x="2311560" y="3935160"/>
                      <a:ext cx="99036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SION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>
                      <a:off x="1973160" y="3855960"/>
                      <a:ext cx="1650960" cy="6156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pic>
                <p:nvPicPr>
                  <p:cNvPr id="3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2280" y="3733920"/>
                    <a:ext cx="615960" cy="61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55" name=""/>
                  <p:cNvSpPr/>
                  <p:nvPr/>
                </p:nvSpPr>
                <p:spPr>
                  <a:xfrm>
                    <a:off x="1263600" y="4157280"/>
                    <a:ext cx="709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6" name=""/>
                <p:cNvSpPr/>
                <p:nvPr/>
              </p:nvSpPr>
              <p:spPr>
                <a:xfrm>
                  <a:off x="3657600" y="4170240"/>
                  <a:ext cx="1712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7021440" y="4176360"/>
                  <a:ext cx="1189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8" name=""/>
              <p:cNvSpPr/>
              <p:nvPr/>
            </p:nvSpPr>
            <p:spPr>
              <a:xfrm>
                <a:off x="3773520" y="3516480"/>
                <a:ext cx="1662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Times New Roman"/>
                  </a:rPr>
                  <a:t>VISIONng Backbo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673200" y="4473720"/>
              <a:ext cx="5252760" cy="1496880"/>
              <a:chOff x="673200" y="4473720"/>
              <a:chExt cx="5252760" cy="1496880"/>
            </a:xfrm>
          </p:grpSpPr>
          <p:grpSp>
            <p:nvGrpSpPr>
              <p:cNvPr id="360" name=""/>
              <p:cNvGrpSpPr/>
              <p:nvPr/>
            </p:nvGrpSpPr>
            <p:grpSpPr>
              <a:xfrm>
                <a:off x="673200" y="4473720"/>
                <a:ext cx="2519280" cy="1496880"/>
                <a:chOff x="673200" y="4473720"/>
                <a:chExt cx="2519280" cy="1496880"/>
              </a:xfrm>
            </p:grpSpPr>
            <p:graphicFrame>
              <p:nvGraphicFramePr>
                <p:cNvPr id="361" name=""/>
                <p:cNvGraphicFramePr/>
                <p:nvPr/>
              </p:nvGraphicFramePr>
              <p:xfrm>
                <a:off x="673200" y="5354640"/>
                <a:ext cx="571320" cy="53640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362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673200" y="5354640"/>
                          <a:ext cx="571320" cy="536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pSp>
              <p:nvGrpSpPr>
                <p:cNvPr id="363" name=""/>
                <p:cNvGrpSpPr/>
                <p:nvPr/>
              </p:nvGrpSpPr>
              <p:grpSpPr>
                <a:xfrm>
                  <a:off x="1541520" y="5354640"/>
                  <a:ext cx="1650960" cy="615960"/>
                  <a:chOff x="1541520" y="5354640"/>
                  <a:chExt cx="1650960" cy="61596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>
                    <a:off x="1879920" y="5434200"/>
                    <a:ext cx="990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AT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DM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1541520" y="5354640"/>
                    <a:ext cx="1650960" cy="6159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6" name=""/>
                <p:cNvGrpSpPr/>
                <p:nvPr/>
              </p:nvGrpSpPr>
              <p:grpSpPr>
                <a:xfrm>
                  <a:off x="2455920" y="4473720"/>
                  <a:ext cx="736560" cy="308520"/>
                  <a:chOff x="2455920" y="4473720"/>
                  <a:chExt cx="736560" cy="308520"/>
                </a:xfrm>
              </p:grpSpPr>
              <p:sp>
                <p:nvSpPr>
                  <p:cNvPr id="367" name=""/>
                  <p:cNvSpPr/>
                  <p:nvPr/>
                </p:nvSpPr>
                <p:spPr>
                  <a:xfrm>
                    <a:off x="2455920" y="4475160"/>
                    <a:ext cx="736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AT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GW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2647800" y="4473720"/>
                    <a:ext cx="355680" cy="269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9" name=""/>
                <p:cNvSpPr/>
                <p:nvPr/>
              </p:nvSpPr>
              <p:spPr>
                <a:xfrm>
                  <a:off x="1104840" y="5622840"/>
                  <a:ext cx="436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H="1">
                  <a:off x="2311560" y="4743360"/>
                  <a:ext cx="514080" cy="61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1" name=""/>
              <p:cNvSpPr/>
              <p:nvPr/>
            </p:nvSpPr>
            <p:spPr>
              <a:xfrm>
                <a:off x="3218040" y="5630760"/>
                <a:ext cx="2707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2" name=""/>
          <p:cNvGrpSpPr/>
          <p:nvPr/>
        </p:nvGrpSpPr>
        <p:grpSpPr>
          <a:xfrm>
            <a:off x="5708520" y="3579840"/>
            <a:ext cx="736560" cy="308520"/>
            <a:chOff x="5708520" y="3579840"/>
            <a:chExt cx="736560" cy="308520"/>
          </a:xfrm>
        </p:grpSpPr>
        <p:sp>
          <p:nvSpPr>
            <p:cNvPr id="373" name=""/>
            <p:cNvSpPr/>
            <p:nvPr/>
          </p:nvSpPr>
          <p:spPr>
            <a:xfrm>
              <a:off x="5708520" y="3581280"/>
              <a:ext cx="736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G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900760" y="3579840"/>
              <a:ext cx="355680" cy="2700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5435640" y="3197160"/>
            <a:ext cx="630360" cy="382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59440" y="3274920"/>
            <a:ext cx="262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3300"/>
                </a:solidFill>
                <a:latin typeface="Times New Roman"/>
              </a:rPr>
              <a:t>878108781087810@prov.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692280" y="1773360"/>
            <a:ext cx="8172360" cy="1423440"/>
            <a:chOff x="692280" y="1773360"/>
            <a:chExt cx="8172360" cy="1423440"/>
          </a:xfrm>
        </p:grpSpPr>
        <p:grpSp>
          <p:nvGrpSpPr>
            <p:cNvPr id="378" name=""/>
            <p:cNvGrpSpPr/>
            <p:nvPr/>
          </p:nvGrpSpPr>
          <p:grpSpPr>
            <a:xfrm>
              <a:off x="1104840" y="1773360"/>
              <a:ext cx="1735200" cy="1024920"/>
              <a:chOff x="1104840" y="1773360"/>
              <a:chExt cx="1735200" cy="1024920"/>
            </a:xfrm>
          </p:grpSpPr>
          <p:sp>
            <p:nvSpPr>
              <p:cNvPr id="379" name=""/>
              <p:cNvSpPr/>
              <p:nvPr/>
            </p:nvSpPr>
            <p:spPr>
              <a:xfrm>
                <a:off x="2100240" y="1773360"/>
                <a:ext cx="739800" cy="601560"/>
              </a:xfrm>
              <a:prstGeom prst="can">
                <a:avLst>
                  <a:gd name="adj" fmla="val 21666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400" spc="-1" strike="noStrike">
                    <a:solidFill>
                      <a:srgbClr val="000000"/>
                    </a:solidFill>
                    <a:latin typeface="Arial"/>
                  </a:rPr>
                  <a:t>ENU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V="1">
                <a:off x="1104840" y="2374560"/>
                <a:ext cx="1173240" cy="42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692280" y="2008080"/>
              <a:ext cx="7958160" cy="1188720"/>
              <a:chOff x="692280" y="2008080"/>
              <a:chExt cx="7958160" cy="118872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692280" y="2398680"/>
                <a:ext cx="7958160" cy="798120"/>
                <a:chOff x="692280" y="2398680"/>
                <a:chExt cx="7958160" cy="798120"/>
              </a:xfrm>
            </p:grpSpPr>
            <p:pic>
              <p:nvPicPr>
                <p:cNvPr id="383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92280" y="2474640"/>
                  <a:ext cx="615960" cy="615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4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034480" y="2474640"/>
                  <a:ext cx="615960" cy="6159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85" name=""/>
                <p:cNvGrpSpPr/>
                <p:nvPr/>
              </p:nvGrpSpPr>
              <p:grpSpPr>
                <a:xfrm>
                  <a:off x="2133720" y="2398680"/>
                  <a:ext cx="4800600" cy="798120"/>
                  <a:chOff x="2133720" y="2398680"/>
                  <a:chExt cx="4800600" cy="79812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>
                    <a:off x="2133720" y="2398680"/>
                    <a:ext cx="4800600" cy="7981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3657600" y="2563200"/>
                    <a:ext cx="17780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AT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nternet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8" name=""/>
                <p:cNvSpPr/>
                <p:nvPr/>
              </p:nvSpPr>
              <p:spPr>
                <a:xfrm>
                  <a:off x="1104840" y="2798640"/>
                  <a:ext cx="1365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507360" y="2798640"/>
                  <a:ext cx="1703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0" name=""/>
                <p:cNvGrpSpPr/>
                <p:nvPr/>
              </p:nvGrpSpPr>
              <p:grpSpPr>
                <a:xfrm>
                  <a:off x="5959440" y="2646360"/>
                  <a:ext cx="736560" cy="308520"/>
                  <a:chOff x="5959440" y="2646360"/>
                  <a:chExt cx="736560" cy="308520"/>
                </a:xfrm>
              </p:grpSpPr>
              <p:sp>
                <p:nvSpPr>
                  <p:cNvPr id="391" name=""/>
                  <p:cNvSpPr/>
                  <p:nvPr/>
                </p:nvSpPr>
                <p:spPr>
                  <a:xfrm>
                    <a:off x="5959440" y="2647800"/>
                    <a:ext cx="736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AT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GK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6151320" y="2646360"/>
                    <a:ext cx="355680" cy="269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2278080" y="2644560"/>
                  <a:ext cx="736560" cy="308520"/>
                  <a:chOff x="2278080" y="2644560"/>
                  <a:chExt cx="736560" cy="308520"/>
                </a:xfrm>
              </p:grpSpPr>
              <p:sp>
                <p:nvSpPr>
                  <p:cNvPr id="394" name=""/>
                  <p:cNvSpPr/>
                  <p:nvPr/>
                </p:nvSpPr>
                <p:spPr>
                  <a:xfrm>
                    <a:off x="2278080" y="2646000"/>
                    <a:ext cx="736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AT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GK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2469960" y="2644560"/>
                    <a:ext cx="355680" cy="2696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96" name=""/>
              <p:cNvSpPr/>
              <p:nvPr/>
            </p:nvSpPr>
            <p:spPr>
              <a:xfrm>
                <a:off x="3624120" y="2008080"/>
                <a:ext cx="198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600" spc="-1" strike="noStrike">
                    <a:solidFill>
                      <a:srgbClr val="000000"/>
                    </a:solidFill>
                    <a:latin typeface="Times New Roman"/>
                  </a:rPr>
                  <a:t>* GK or SIP Serv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" name=""/>
            <p:cNvSpPr/>
            <p:nvPr/>
          </p:nvSpPr>
          <p:spPr>
            <a:xfrm>
              <a:off x="6256440" y="2008080"/>
              <a:ext cx="260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16241@fwd.pulver.c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372960" y="1316160"/>
            <a:ext cx="5221440" cy="459720"/>
            <a:chOff x="372960" y="1316160"/>
            <a:chExt cx="5221440" cy="459720"/>
          </a:xfrm>
        </p:grpSpPr>
        <p:sp>
          <p:nvSpPr>
            <p:cNvPr id="399" name=""/>
            <p:cNvSpPr/>
            <p:nvPr/>
          </p:nvSpPr>
          <p:spPr>
            <a:xfrm>
              <a:off x="372960" y="1316160"/>
              <a:ext cx="20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8781087810878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13160" y="1589040"/>
              <a:ext cx="336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967120" y="1376280"/>
              <a:ext cx="262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878108781087810@prov.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02" name=""/>
          <p:cNvCxnSpPr>
            <a:stCxn id="383" idx="0"/>
          </p:cNvCxnSpPr>
          <p:nvPr/>
        </p:nvCxnSpPr>
        <p:spPr>
          <a:xfrm flipH="1" rot="16200000">
            <a:off x="3655080" y="-180360"/>
            <a:ext cx="1488240" cy="6798600"/>
          </a:xfrm>
          <a:prstGeom prst="curvedConnector5">
            <a:avLst>
              <a:gd name="adj1" fmla="val 2443"/>
              <a:gd name="adj2" fmla="val 31921"/>
              <a:gd name="adj3" fmla="val 2443"/>
            </a:avLst>
          </a:prstGeom>
          <a:ln w="12600">
            <a:solidFill>
              <a:srgbClr val="ff0000"/>
            </a:solidFill>
            <a:prstDash val="dash"/>
            <a:miter/>
            <a:tailEnd len="sm" type="triangle" w="sm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4E7C-E609-4A55-B05F-B399EFB51FA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10760" y="304560"/>
            <a:ext cx="8239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0000ff"/>
                </a:solidFill>
                <a:latin typeface="Times New Roman"/>
              </a:rPr>
              <a:t>ENUM only numbers from PSTN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 flipV="1">
            <a:off x="2680920" y="2374920"/>
            <a:ext cx="671400" cy="60480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673200" y="1773360"/>
            <a:ext cx="7977240" cy="4197240"/>
            <a:chOff x="673200" y="1773360"/>
            <a:chExt cx="7977240" cy="4197240"/>
          </a:xfrm>
        </p:grpSpPr>
        <p:grpSp>
          <p:nvGrpSpPr>
            <p:cNvPr id="406" name=""/>
            <p:cNvGrpSpPr/>
            <p:nvPr/>
          </p:nvGrpSpPr>
          <p:grpSpPr>
            <a:xfrm>
              <a:off x="673200" y="1773360"/>
              <a:ext cx="7977240" cy="4197240"/>
              <a:chOff x="673200" y="1773360"/>
              <a:chExt cx="7977240" cy="4197240"/>
            </a:xfrm>
          </p:grpSpPr>
          <p:grpSp>
            <p:nvGrpSpPr>
              <p:cNvPr id="407" name=""/>
              <p:cNvGrpSpPr/>
              <p:nvPr/>
            </p:nvGrpSpPr>
            <p:grpSpPr>
              <a:xfrm>
                <a:off x="5708520" y="3579840"/>
                <a:ext cx="736560" cy="308520"/>
                <a:chOff x="5708520" y="3579840"/>
                <a:chExt cx="736560" cy="30852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5708520" y="3581280"/>
                  <a:ext cx="736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400" spc="-1" strike="noStrike">
                      <a:solidFill>
                        <a:srgbClr val="000000"/>
                      </a:solidFill>
                      <a:latin typeface="Times New Roman"/>
                    </a:rPr>
                    <a:t>G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900400" y="3579840"/>
                  <a:ext cx="355680" cy="269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673200" y="1773360"/>
                <a:ext cx="7977240" cy="4197240"/>
                <a:chOff x="673200" y="1773360"/>
                <a:chExt cx="7977240" cy="4197240"/>
              </a:xfrm>
            </p:grpSpPr>
            <p:grpSp>
              <p:nvGrpSpPr>
                <p:cNvPr id="411" name=""/>
                <p:cNvGrpSpPr/>
                <p:nvPr/>
              </p:nvGrpSpPr>
              <p:grpSpPr>
                <a:xfrm>
                  <a:off x="1104840" y="1773360"/>
                  <a:ext cx="1735200" cy="1024920"/>
                  <a:chOff x="1104840" y="1773360"/>
                  <a:chExt cx="1735200" cy="102492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>
                    <a:off x="2100240" y="1773360"/>
                    <a:ext cx="739800" cy="601560"/>
                  </a:xfrm>
                  <a:prstGeom prst="can">
                    <a:avLst>
                      <a:gd name="adj" fmla="val 21666"/>
                    </a:avLst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AT" sz="1400" spc="-1" strike="noStrike">
                        <a:solidFill>
                          <a:srgbClr val="000000"/>
                        </a:solidFill>
                        <a:latin typeface="Arial"/>
                      </a:rPr>
                      <a:t>ENUM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V="1">
                    <a:off x="1104840" y="2374560"/>
                    <a:ext cx="1173240" cy="423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4" name=""/>
                <p:cNvGrpSpPr/>
                <p:nvPr/>
              </p:nvGrpSpPr>
              <p:grpSpPr>
                <a:xfrm>
                  <a:off x="673200" y="2008080"/>
                  <a:ext cx="7977240" cy="3962520"/>
                  <a:chOff x="673200" y="2008080"/>
                  <a:chExt cx="7977240" cy="3962520"/>
                </a:xfrm>
              </p:grpSpPr>
              <p:grpSp>
                <p:nvGrpSpPr>
                  <p:cNvPr id="415" name=""/>
                  <p:cNvGrpSpPr/>
                  <p:nvPr/>
                </p:nvGrpSpPr>
                <p:grpSpPr>
                  <a:xfrm>
                    <a:off x="5873760" y="4475160"/>
                    <a:ext cx="2679840" cy="1495440"/>
                    <a:chOff x="5873760" y="4475160"/>
                    <a:chExt cx="2679840" cy="1495440"/>
                  </a:xfrm>
                </p:grpSpPr>
                <p:graphicFrame>
                  <p:nvGraphicFramePr>
                    <p:cNvPr id="416" name=""/>
                    <p:cNvGraphicFramePr/>
                    <p:nvPr/>
                  </p:nvGraphicFramePr>
                  <p:xfrm>
                    <a:off x="7981920" y="5315040"/>
                    <a:ext cx="571680" cy="536400"/>
                  </p:xfrm>
                  <a:graphic>
                    <a:graphicData uri="http://schemas.openxmlformats.org/presentationml/2006/ole">
                      <p:oleObj r:id="rId1" spid="">
                        <p:embed/>
                        <p:pic>
                          <p:nvPicPr>
                            <p:cNvPr id="417" name="" descr=""/>
                            <p:cNvPicPr/>
                            <p:nvPr/>
                          </p:nvPicPr>
                          <p:blipFill>
                            <a:blip r:embed="rId2"/>
                            <a:stretch/>
                          </p:blipFill>
                          <p:spPr>
                            <a:xfrm>
                              <a:off x="7981920" y="5315040"/>
                              <a:ext cx="571680" cy="53640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</p:oleObj>
                    </a:graphicData>
                  </a:graphic>
                </p:graphicFrame>
                <p:grpSp>
                  <p:nvGrpSpPr>
                    <p:cNvPr id="418" name=""/>
                    <p:cNvGrpSpPr/>
                    <p:nvPr/>
                  </p:nvGrpSpPr>
                  <p:grpSpPr>
                    <a:xfrm>
                      <a:off x="5900760" y="5354640"/>
                      <a:ext cx="1650960" cy="615960"/>
                      <a:chOff x="5900760" y="5354640"/>
                      <a:chExt cx="1650960" cy="615960"/>
                    </a:xfrm>
                  </p:grpSpPr>
                  <p:sp>
                    <p:nvSpPr>
                      <p:cNvPr id="419" name=""/>
                      <p:cNvSpPr/>
                      <p:nvPr/>
                    </p:nvSpPr>
                    <p:spPr>
                      <a:xfrm>
                        <a:off x="6239160" y="5434200"/>
                        <a:ext cx="99036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de-AT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TDM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0" name=""/>
                      <p:cNvSpPr/>
                      <p:nvPr/>
                    </p:nvSpPr>
                    <p:spPr>
                      <a:xfrm>
                        <a:off x="5900760" y="5354640"/>
                        <a:ext cx="1650960" cy="61596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7551720" y="5622840"/>
                      <a:ext cx="4827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2" name=""/>
                    <p:cNvSpPr/>
                    <p:nvPr/>
                  </p:nvSpPr>
                  <p:spPr>
                    <a:xfrm>
                      <a:off x="6256440" y="4745160"/>
                      <a:ext cx="439560" cy="5698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23" name=""/>
                    <p:cNvGrpSpPr/>
                    <p:nvPr/>
                  </p:nvGrpSpPr>
                  <p:grpSpPr>
                    <a:xfrm>
                      <a:off x="5873760" y="4475160"/>
                      <a:ext cx="736560" cy="308520"/>
                      <a:chOff x="5873760" y="4475160"/>
                      <a:chExt cx="736560" cy="308520"/>
                    </a:xfrm>
                  </p:grpSpPr>
                  <p:sp>
                    <p:nvSpPr>
                      <p:cNvPr id="424" name=""/>
                      <p:cNvSpPr/>
                      <p:nvPr/>
                    </p:nvSpPr>
                    <p:spPr>
                      <a:xfrm>
                        <a:off x="5873760" y="4476600"/>
                        <a:ext cx="736560" cy="307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spcBef>
                            <a:spcPts val="876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de-AT" sz="1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GW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5" name=""/>
                      <p:cNvSpPr/>
                      <p:nvPr/>
                    </p:nvSpPr>
                    <p:spPr>
                      <a:xfrm>
                        <a:off x="6065640" y="4475160"/>
                        <a:ext cx="355680" cy="269640"/>
                      </a:xfrm>
                      <a:prstGeom prst="rect">
                        <a:avLst/>
                      </a:pr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692280" y="2008080"/>
                    <a:ext cx="7958160" cy="1188720"/>
                    <a:chOff x="692280" y="2008080"/>
                    <a:chExt cx="7958160" cy="1188720"/>
                  </a:xfrm>
                </p:grpSpPr>
                <p:grpSp>
                  <p:nvGrpSpPr>
                    <p:cNvPr id="427" name=""/>
                    <p:cNvGrpSpPr/>
                    <p:nvPr/>
                  </p:nvGrpSpPr>
                  <p:grpSpPr>
                    <a:xfrm>
                      <a:off x="692280" y="2398680"/>
                      <a:ext cx="7958160" cy="798120"/>
                      <a:chOff x="692280" y="2398680"/>
                      <a:chExt cx="7958160" cy="798120"/>
                    </a:xfrm>
                  </p:grpSpPr>
                  <p:pic>
                    <p:nvPicPr>
                      <p:cNvPr id="428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692280" y="2474640"/>
                        <a:ext cx="615960" cy="615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42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8034480" y="2474640"/>
                        <a:ext cx="615960" cy="615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grpSp>
                    <p:nvGrpSpPr>
                      <p:cNvPr id="430" name=""/>
                      <p:cNvGrpSpPr/>
                      <p:nvPr/>
                    </p:nvGrpSpPr>
                    <p:grpSpPr>
                      <a:xfrm>
                        <a:off x="2133720" y="2398680"/>
                        <a:ext cx="4800600" cy="798120"/>
                        <a:chOff x="2133720" y="2398680"/>
                        <a:chExt cx="4800600" cy="798120"/>
                      </a:xfrm>
                    </p:grpSpPr>
                    <p:sp>
                      <p:nvSpPr>
                        <p:cNvPr id="431" name=""/>
                        <p:cNvSpPr/>
                        <p:nvPr/>
                      </p:nvSpPr>
                      <p:spPr>
                        <a:xfrm>
                          <a:off x="2133720" y="2398680"/>
                          <a:ext cx="4800600" cy="79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2" name=""/>
                        <p:cNvSpPr/>
                        <p:nvPr/>
                      </p:nvSpPr>
                      <p:spPr>
                        <a:xfrm>
                          <a:off x="3657600" y="2563200"/>
                          <a:ext cx="177804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de-AT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Internet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33" name=""/>
                      <p:cNvSpPr/>
                      <p:nvPr/>
                    </p:nvSpPr>
                    <p:spPr>
                      <a:xfrm>
                        <a:off x="1104840" y="2798640"/>
                        <a:ext cx="13654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4" name=""/>
                      <p:cNvSpPr/>
                      <p:nvPr/>
                    </p:nvSpPr>
                    <p:spPr>
                      <a:xfrm>
                        <a:off x="6507360" y="2798640"/>
                        <a:ext cx="170316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35" name=""/>
                      <p:cNvGrpSpPr/>
                      <p:nvPr/>
                    </p:nvGrpSpPr>
                    <p:grpSpPr>
                      <a:xfrm>
                        <a:off x="5959440" y="2646360"/>
                        <a:ext cx="736560" cy="308520"/>
                        <a:chOff x="5959440" y="2646360"/>
                        <a:chExt cx="736560" cy="308520"/>
                      </a:xfrm>
                    </p:grpSpPr>
                    <p:sp>
                      <p:nvSpPr>
                        <p:cNvPr id="436" name=""/>
                        <p:cNvSpPr/>
                        <p:nvPr/>
                      </p:nvSpPr>
                      <p:spPr>
                        <a:xfrm>
                          <a:off x="5959440" y="2647800"/>
                          <a:ext cx="736560" cy="3070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spcBef>
                              <a:spcPts val="876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de-AT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GK</a:t>
                          </a:r>
                          <a:endParaRPr b="0" lang="en-US" sz="1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7" name=""/>
                        <p:cNvSpPr/>
                        <p:nvPr/>
                      </p:nvSpPr>
                      <p:spPr>
                        <a:xfrm>
                          <a:off x="6151320" y="2646360"/>
                          <a:ext cx="355680" cy="269640"/>
                        </a:xfrm>
                        <a:prstGeom prst="rect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38" name=""/>
                      <p:cNvGrpSpPr/>
                      <p:nvPr/>
                    </p:nvGrpSpPr>
                    <p:grpSpPr>
                      <a:xfrm>
                        <a:off x="2278080" y="2644560"/>
                        <a:ext cx="736560" cy="308520"/>
                        <a:chOff x="2278080" y="2644560"/>
                        <a:chExt cx="736560" cy="308520"/>
                      </a:xfrm>
                    </p:grpSpPr>
                    <p:sp>
                      <p:nvSpPr>
                        <p:cNvPr id="439" name=""/>
                        <p:cNvSpPr/>
                        <p:nvPr/>
                      </p:nvSpPr>
                      <p:spPr>
                        <a:xfrm>
                          <a:off x="2278080" y="2646000"/>
                          <a:ext cx="736560" cy="3070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spcBef>
                              <a:spcPts val="876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de-AT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GK</a:t>
                          </a:r>
                          <a:endParaRPr b="0" lang="en-US" sz="1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0" name=""/>
                        <p:cNvSpPr/>
                        <p:nvPr/>
                      </p:nvSpPr>
                      <p:spPr>
                        <a:xfrm>
                          <a:off x="2469960" y="2644560"/>
                          <a:ext cx="355680" cy="269640"/>
                        </a:xfrm>
                        <a:prstGeom prst="rect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441" name=""/>
                    <p:cNvSpPr/>
                    <p:nvPr/>
                  </p:nvSpPr>
                  <p:spPr>
                    <a:xfrm>
                      <a:off x="3624120" y="2008080"/>
                      <a:ext cx="198936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 GK or SIP Ser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2" name=""/>
                  <p:cNvGrpSpPr/>
                  <p:nvPr/>
                </p:nvGrpSpPr>
                <p:grpSpPr>
                  <a:xfrm>
                    <a:off x="2967120" y="2979720"/>
                    <a:ext cx="739800" cy="875880"/>
                    <a:chOff x="2967120" y="2979720"/>
                    <a:chExt cx="739800" cy="875880"/>
                  </a:xfrm>
                </p:grpSpPr>
                <p:sp>
                  <p:nvSpPr>
                    <p:cNvPr id="443" name=""/>
                    <p:cNvSpPr/>
                    <p:nvPr/>
                  </p:nvSpPr>
                  <p:spPr>
                    <a:xfrm>
                      <a:off x="2967120" y="2979720"/>
                      <a:ext cx="739800" cy="601560"/>
                    </a:xfrm>
                    <a:prstGeom prst="can">
                      <a:avLst>
                        <a:gd name="adj" fmla="val 21666"/>
                      </a:avLst>
                    </a:prstGeom>
                    <a:solidFill>
                      <a:srgbClr val="ffff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ENUM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 flipV="1">
                      <a:off x="3032280" y="3585960"/>
                      <a:ext cx="320400" cy="269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5" name=""/>
                  <p:cNvGrpSpPr/>
                  <p:nvPr/>
                </p:nvGrpSpPr>
                <p:grpSpPr>
                  <a:xfrm>
                    <a:off x="692280" y="3516480"/>
                    <a:ext cx="7958160" cy="955080"/>
                    <a:chOff x="692280" y="3516480"/>
                    <a:chExt cx="7958160" cy="955080"/>
                  </a:xfrm>
                </p:grpSpPr>
                <p:grpSp>
                  <p:nvGrpSpPr>
                    <p:cNvPr id="446" name=""/>
                    <p:cNvGrpSpPr/>
                    <p:nvPr/>
                  </p:nvGrpSpPr>
                  <p:grpSpPr>
                    <a:xfrm>
                      <a:off x="692280" y="3733920"/>
                      <a:ext cx="7958160" cy="737640"/>
                      <a:chOff x="692280" y="3733920"/>
                      <a:chExt cx="7958160" cy="737640"/>
                    </a:xfrm>
                  </p:grpSpPr>
                  <p:grpSp>
                    <p:nvGrpSpPr>
                      <p:cNvPr id="447" name=""/>
                      <p:cNvGrpSpPr/>
                      <p:nvPr/>
                    </p:nvGrpSpPr>
                    <p:grpSpPr>
                      <a:xfrm>
                        <a:off x="692280" y="3733920"/>
                        <a:ext cx="7958160" cy="737640"/>
                        <a:chOff x="692280" y="3733920"/>
                        <a:chExt cx="7958160" cy="737640"/>
                      </a:xfrm>
                    </p:grpSpPr>
                    <p:pic>
                      <p:nvPicPr>
                        <p:cNvPr id="448" name="" descr=""/>
                        <p:cNvPicPr/>
                        <p:nvPr/>
                      </p:nvPicPr>
                      <p:blipFill>
                        <a:blip r:embed="rId5"/>
                        <a:stretch/>
                      </p:blipFill>
                      <p:spPr>
                        <a:xfrm>
                          <a:off x="8034480" y="3855960"/>
                          <a:ext cx="615960" cy="615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grpSp>
                      <p:nvGrpSpPr>
                        <p:cNvPr id="449" name=""/>
                        <p:cNvGrpSpPr/>
                        <p:nvPr/>
                      </p:nvGrpSpPr>
                      <p:grpSpPr>
                        <a:xfrm>
                          <a:off x="5370480" y="3855960"/>
                          <a:ext cx="1650960" cy="615600"/>
                          <a:chOff x="5370480" y="3855960"/>
                          <a:chExt cx="1650960" cy="615600"/>
                        </a:xfrm>
                      </p:grpSpPr>
                      <p:sp>
                        <p:nvSpPr>
                          <p:cNvPr id="450" name=""/>
                          <p:cNvSpPr/>
                          <p:nvPr/>
                        </p:nvSpPr>
                        <p:spPr>
                          <a:xfrm>
                            <a:off x="5708880" y="3935160"/>
                            <a:ext cx="990360" cy="3070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 algn="ctr">
                              <a:spcBef>
                                <a:spcPts val="876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de-AT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VISIONng</a:t>
                            </a:r>
                            <a:endParaRPr b="0" lang="en-US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51" name=""/>
                          <p:cNvSpPr/>
                          <p:nvPr/>
                        </p:nvSpPr>
                        <p:spPr>
                          <a:xfrm>
                            <a:off x="5370480" y="3855960"/>
                            <a:ext cx="1650960" cy="61560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52" name=""/>
                        <p:cNvGrpSpPr/>
                        <p:nvPr/>
                      </p:nvGrpSpPr>
                      <p:grpSpPr>
                        <a:xfrm>
                          <a:off x="1973160" y="3855960"/>
                          <a:ext cx="1650960" cy="615600"/>
                          <a:chOff x="1973160" y="3855960"/>
                          <a:chExt cx="1650960" cy="615600"/>
                        </a:xfrm>
                      </p:grpSpPr>
                      <p:sp>
                        <p:nvSpPr>
                          <p:cNvPr id="453" name=""/>
                          <p:cNvSpPr/>
                          <p:nvPr/>
                        </p:nvSpPr>
                        <p:spPr>
                          <a:xfrm>
                            <a:off x="2311560" y="3935160"/>
                            <a:ext cx="990360" cy="3070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 algn="ctr">
                              <a:spcBef>
                                <a:spcPts val="876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de-AT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VISIONng</a:t>
                            </a:r>
                            <a:endParaRPr b="0" lang="en-US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54" name=""/>
                          <p:cNvSpPr/>
                          <p:nvPr/>
                        </p:nvSpPr>
                        <p:spPr>
                          <a:xfrm>
                            <a:off x="1973160" y="3855960"/>
                            <a:ext cx="1650960" cy="61560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pic>
                      <p:nvPicPr>
                        <p:cNvPr id="455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692280" y="3733920"/>
                          <a:ext cx="615960" cy="615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sp>
                      <p:nvSpPr>
                        <p:cNvPr id="456" name=""/>
                        <p:cNvSpPr/>
                        <p:nvPr/>
                      </p:nvSpPr>
                      <p:spPr>
                        <a:xfrm>
                          <a:off x="1263600" y="4157280"/>
                          <a:ext cx="70956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57" name=""/>
                      <p:cNvSpPr/>
                      <p:nvPr/>
                    </p:nvSpPr>
                    <p:spPr>
                      <a:xfrm>
                        <a:off x="3657600" y="4170240"/>
                        <a:ext cx="17128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8" name=""/>
                      <p:cNvSpPr/>
                      <p:nvPr/>
                    </p:nvSpPr>
                    <p:spPr>
                      <a:xfrm>
                        <a:off x="7021440" y="4176360"/>
                        <a:ext cx="11890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3773520" y="3516480"/>
                      <a:ext cx="1662120" cy="642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SIONng Backb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0" name=""/>
                  <p:cNvGrpSpPr/>
                  <p:nvPr/>
                </p:nvGrpSpPr>
                <p:grpSpPr>
                  <a:xfrm>
                    <a:off x="673200" y="4473720"/>
                    <a:ext cx="5252760" cy="1496880"/>
                    <a:chOff x="673200" y="4473720"/>
                    <a:chExt cx="5252760" cy="1496880"/>
                  </a:xfrm>
                </p:grpSpPr>
                <p:grpSp>
                  <p:nvGrpSpPr>
                    <p:cNvPr id="461" name=""/>
                    <p:cNvGrpSpPr/>
                    <p:nvPr/>
                  </p:nvGrpSpPr>
                  <p:grpSpPr>
                    <a:xfrm>
                      <a:off x="673200" y="4473720"/>
                      <a:ext cx="2519280" cy="1496880"/>
                      <a:chOff x="673200" y="4473720"/>
                      <a:chExt cx="2519280" cy="1496880"/>
                    </a:xfrm>
                  </p:grpSpPr>
                  <p:graphicFrame>
                    <p:nvGraphicFramePr>
                      <p:cNvPr id="462" name=""/>
                      <p:cNvGraphicFramePr/>
                      <p:nvPr/>
                    </p:nvGraphicFramePr>
                    <p:xfrm>
                      <a:off x="673200" y="5354640"/>
                      <a:ext cx="571320" cy="536400"/>
                    </p:xfrm>
                    <a:graphic>
                      <a:graphicData uri="http://schemas.openxmlformats.org/presentationml/2006/ole">
                        <p:oleObj r:id="rId7" spid="">
                          <p:embed/>
                          <p:pic>
                            <p:nvPicPr>
                              <p:cNvPr id="463" name="" descr=""/>
                              <p:cNvPicPr/>
                              <p:nvPr/>
                            </p:nvPicPr>
                            <p:blipFill>
                              <a:blip r:embed="rId8"/>
                              <a:stretch/>
                            </p:blipFill>
                            <p:spPr>
                              <a:xfrm>
                                <a:off x="673200" y="5354640"/>
                                <a:ext cx="571320" cy="536400"/>
                              </a:xfrm>
                              <a:prstGeom prst="rect">
                                <a:avLst/>
                              </a:prstGeom>
                              <a:ln w="0">
                                <a:noFill/>
                              </a:ln>
                            </p:spPr>
                          </p:pic>
                        </p:oleObj>
                      </a:graphicData>
                    </a:graphic>
                  </p:graphicFrame>
                  <p:grpSp>
                    <p:nvGrpSpPr>
                      <p:cNvPr id="464" name=""/>
                      <p:cNvGrpSpPr/>
                      <p:nvPr/>
                    </p:nvGrpSpPr>
                    <p:grpSpPr>
                      <a:xfrm>
                        <a:off x="1541520" y="5354640"/>
                        <a:ext cx="1650960" cy="615960"/>
                        <a:chOff x="1541520" y="5354640"/>
                        <a:chExt cx="1650960" cy="615960"/>
                      </a:xfrm>
                    </p:grpSpPr>
                    <p:sp>
                      <p:nvSpPr>
                        <p:cNvPr id="465" name=""/>
                        <p:cNvSpPr/>
                        <p:nvPr/>
                      </p:nvSpPr>
                      <p:spPr>
                        <a:xfrm>
                          <a:off x="1879920" y="5434200"/>
                          <a:ext cx="99036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de-AT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TDM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6" name=""/>
                        <p:cNvSpPr/>
                        <p:nvPr/>
                      </p:nvSpPr>
                      <p:spPr>
                        <a:xfrm>
                          <a:off x="1541520" y="5354640"/>
                          <a:ext cx="1650960" cy="61596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67" name=""/>
                      <p:cNvGrpSpPr/>
                      <p:nvPr/>
                    </p:nvGrpSpPr>
                    <p:grpSpPr>
                      <a:xfrm>
                        <a:off x="2455920" y="4473720"/>
                        <a:ext cx="736560" cy="308520"/>
                        <a:chOff x="2455920" y="4473720"/>
                        <a:chExt cx="736560" cy="308520"/>
                      </a:xfrm>
                    </p:grpSpPr>
                    <p:sp>
                      <p:nvSpPr>
                        <p:cNvPr id="468" name=""/>
                        <p:cNvSpPr/>
                        <p:nvPr/>
                      </p:nvSpPr>
                      <p:spPr>
                        <a:xfrm>
                          <a:off x="2455920" y="4475160"/>
                          <a:ext cx="736560" cy="3070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spcBef>
                              <a:spcPts val="876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de-AT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GW</a:t>
                          </a:r>
                          <a:endParaRPr b="0" lang="en-US" sz="1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9" name=""/>
                        <p:cNvSpPr/>
                        <p:nvPr/>
                      </p:nvSpPr>
                      <p:spPr>
                        <a:xfrm>
                          <a:off x="2647800" y="4473720"/>
                          <a:ext cx="355680" cy="269640"/>
                        </a:xfrm>
                        <a:prstGeom prst="rect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70" name=""/>
                      <p:cNvSpPr/>
                      <p:nvPr/>
                    </p:nvSpPr>
                    <p:spPr>
                      <a:xfrm>
                        <a:off x="1104840" y="5622840"/>
                        <a:ext cx="4366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1" name=""/>
                      <p:cNvSpPr/>
                      <p:nvPr/>
                    </p:nvSpPr>
                    <p:spPr>
                      <a:xfrm flipH="1">
                        <a:off x="2311560" y="4743360"/>
                        <a:ext cx="514080" cy="6112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72" name=""/>
                    <p:cNvSpPr/>
                    <p:nvPr/>
                  </p:nvSpPr>
                  <p:spPr>
                    <a:xfrm>
                      <a:off x="3218040" y="5630760"/>
                      <a:ext cx="2707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473" name=""/>
            <p:cNvSpPr/>
            <p:nvPr/>
          </p:nvSpPr>
          <p:spPr>
            <a:xfrm>
              <a:off x="5594400" y="3197160"/>
              <a:ext cx="471600" cy="38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6256440" y="2008080"/>
            <a:ext cx="26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3300"/>
                </a:solidFill>
                <a:latin typeface="Times New Roman"/>
              </a:rPr>
              <a:t>16241@fwd.pulve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372960" y="1316160"/>
            <a:ext cx="5221440" cy="459720"/>
            <a:chOff x="372960" y="1316160"/>
            <a:chExt cx="5221440" cy="459720"/>
          </a:xfrm>
        </p:grpSpPr>
        <p:sp>
          <p:nvSpPr>
            <p:cNvPr id="476" name=""/>
            <p:cNvSpPr/>
            <p:nvPr/>
          </p:nvSpPr>
          <p:spPr>
            <a:xfrm>
              <a:off x="372960" y="1316160"/>
              <a:ext cx="20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4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r>
                <a:rPr b="0" lang="de-AT" sz="1800" spc="-1" strike="noStrike">
                  <a:solidFill>
                    <a:srgbClr val="ff3300"/>
                  </a:solidFill>
                  <a:latin typeface="Times New Roman"/>
                </a:rPr>
                <a:t>87810123456789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513160" y="1589040"/>
              <a:ext cx="336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967120" y="1376280"/>
              <a:ext cx="262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3300"/>
                  </a:solidFill>
                  <a:latin typeface="Times New Roman"/>
                </a:rPr>
                <a:t>16241@fwd.pulver.c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3192480" y="3203640"/>
            <a:ext cx="1063080" cy="837360"/>
            <a:chOff x="3192480" y="3203640"/>
            <a:chExt cx="1063080" cy="837360"/>
          </a:xfrm>
        </p:grpSpPr>
        <p:grpSp>
          <p:nvGrpSpPr>
            <p:cNvPr id="480" name=""/>
            <p:cNvGrpSpPr/>
            <p:nvPr/>
          </p:nvGrpSpPr>
          <p:grpSpPr>
            <a:xfrm>
              <a:off x="3192480" y="3732120"/>
              <a:ext cx="736560" cy="308880"/>
              <a:chOff x="3192480" y="3732120"/>
              <a:chExt cx="736560" cy="308880"/>
            </a:xfrm>
          </p:grpSpPr>
          <p:sp>
            <p:nvSpPr>
              <p:cNvPr id="481" name=""/>
              <p:cNvSpPr/>
              <p:nvPr/>
            </p:nvSpPr>
            <p:spPr>
              <a:xfrm>
                <a:off x="3192480" y="3733920"/>
                <a:ext cx="736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400" spc="-1" strike="noStrike">
                    <a:solidFill>
                      <a:srgbClr val="000000"/>
                    </a:solidFill>
                    <a:latin typeface="Times New Roman"/>
                  </a:rPr>
                  <a:t>G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384720" y="3732120"/>
                <a:ext cx="355320" cy="27000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3" name=""/>
            <p:cNvSpPr/>
            <p:nvPr/>
          </p:nvSpPr>
          <p:spPr>
            <a:xfrm flipH="1">
              <a:off x="3623760" y="3203640"/>
              <a:ext cx="631800" cy="528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84" name=""/>
          <p:cNvCxnSpPr>
            <a:endCxn id="454" idx="4"/>
          </p:cNvCxnSpPr>
          <p:nvPr/>
        </p:nvCxnSpPr>
        <p:spPr>
          <a:xfrm flipV="1">
            <a:off x="1308240" y="4471560"/>
            <a:ext cx="1491120" cy="962640"/>
          </a:xfrm>
          <a:prstGeom prst="curvedConnector2">
            <a:avLst/>
          </a:prstGeom>
          <a:ln w="12600">
            <a:solidFill>
              <a:srgbClr val="ff0000"/>
            </a:solidFill>
            <a:prstDash val="dash"/>
            <a:miter/>
            <a:tailEnd len="lg" type="triangle" w="lg"/>
          </a:ln>
        </p:spPr>
      </p:cxnSp>
      <p:sp>
        <p:nvSpPr>
          <p:cNvPr id="485" name=""/>
          <p:cNvSpPr/>
          <p:nvPr/>
        </p:nvSpPr>
        <p:spPr>
          <a:xfrm>
            <a:off x="709560" y="478152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87810x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54" idx="4"/>
          </p:cNvCxnSpPr>
          <p:nvPr/>
        </p:nvCxnSpPr>
        <p:spPr>
          <a:xfrm flipH="1" flipV="1" rot="5400000">
            <a:off x="4400280" y="1112760"/>
            <a:ext cx="1756440" cy="4961880"/>
          </a:xfrm>
          <a:prstGeom prst="curvedConnector5">
            <a:avLst>
              <a:gd name="adj1" fmla="val 59942"/>
              <a:gd name="adj2" fmla="val 14830"/>
              <a:gd name="adj3" fmla="val 59942"/>
            </a:avLst>
          </a:prstGeom>
          <a:ln w="12600">
            <a:solidFill>
              <a:srgbClr val="ff0000"/>
            </a:solidFill>
            <a:prstDash val="dash"/>
            <a:miter/>
            <a:tailEnd len="lg" type="triangle" w="lg"/>
          </a:ln>
        </p:spPr>
      </p:cxnSp>
      <p:sp>
        <p:nvSpPr>
          <p:cNvPr id="487" name=""/>
          <p:cNvSpPr/>
          <p:nvPr/>
        </p:nvSpPr>
        <p:spPr>
          <a:xfrm>
            <a:off x="3929040" y="4121280"/>
            <a:ext cx="144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851280" y="3586320"/>
            <a:ext cx="14414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"/>
          <p:cNvCxnSpPr>
            <a:stCxn id="454" idx="7"/>
            <a:endCxn id="451" idx="0"/>
          </p:cNvCxnSpPr>
          <p:nvPr/>
        </p:nvCxnSpPr>
        <p:spPr>
          <a:xfrm flipH="1" flipV="1" rot="5400000">
            <a:off x="4743720" y="2494440"/>
            <a:ext cx="91440" cy="2813760"/>
          </a:xfrm>
          <a:prstGeom prst="curvedConnector5">
            <a:avLst>
              <a:gd name="adj1" fmla="val 1108695"/>
              <a:gd name="adj2" fmla="val 49993"/>
              <a:gd name="adj3" fmla="val 1108695"/>
            </a:avLst>
          </a:prstGeom>
          <a:ln w="12600">
            <a:solidFill>
              <a:srgbClr val="ff0000"/>
            </a:solidFill>
            <a:prstDash val="dash"/>
            <a:miter/>
            <a:tailEnd len="lg" type="triangle" w="lg"/>
          </a:ln>
        </p:spPr>
      </p:cxnSp>
      <p:sp>
        <p:nvSpPr>
          <p:cNvPr id="490" name=""/>
          <p:cNvSpPr/>
          <p:nvPr/>
        </p:nvSpPr>
        <p:spPr>
          <a:xfrm>
            <a:off x="5959440" y="3274920"/>
            <a:ext cx="262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3300"/>
                </a:solidFill>
                <a:latin typeface="Times New Roman"/>
              </a:rPr>
              <a:t>878108781087810@prov.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C411-DDA7-4DD4-8425-57D186A2AA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71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4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0000ff"/>
                </a:solidFill>
                <a:latin typeface="Times New Roman"/>
              </a:rPr>
              <a:t>Some Websites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19040" y="1307880"/>
            <a:ext cx="85089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ETF EN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 u="sng">
                <a:solidFill>
                  <a:srgbClr val="0066ff"/>
                </a:solidFill>
                <a:uFillTx/>
                <a:latin typeface="Tahoma"/>
                <a:hlinkClick r:id="rId1"/>
              </a:rPr>
              <a:t>www.ietf.org/html.charters/enum-charter.htm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U-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 u="sng">
                <a:solidFill>
                  <a:srgbClr val="0066ff"/>
                </a:solidFill>
                <a:uFillTx/>
                <a:latin typeface="Tahoma"/>
                <a:hlinkClick r:id="rId2"/>
              </a:rPr>
              <a:t>www.itu.int/osg/spu/enum/index.htm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TSI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 u="sng">
                <a:solidFill>
                  <a:srgbClr val="0066ff"/>
                </a:solidFill>
                <a:uFillTx/>
                <a:latin typeface="Tahoma"/>
                <a:hlinkClick r:id="rId3"/>
              </a:rPr>
              <a:t>portal.etsi.org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RIPE/NCC</a:t>
            </a: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1600" spc="-1" strike="noStrike" u="sng">
                <a:solidFill>
                  <a:srgbClr val="0066ff"/>
                </a:solidFill>
                <a:uFillTx/>
                <a:latin typeface="Tahoma"/>
                <a:hlinkClick r:id="rId4"/>
              </a:rPr>
              <a:t>www.ripe.net/enum</a:t>
            </a:r>
            <a:r>
              <a:rPr b="0" lang="de-A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 ENUM For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 u="sng">
                <a:solidFill>
                  <a:srgbClr val="0066ff"/>
                </a:solidFill>
                <a:uFillTx/>
                <a:latin typeface="Tahoma"/>
                <a:hlinkClick r:id="rId5"/>
              </a:rPr>
              <a:t>www.enumf.org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stri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 u="sng">
                <a:solidFill>
                  <a:srgbClr val="0066ff"/>
                </a:solidFill>
                <a:uFillTx/>
                <a:latin typeface="Tahoma"/>
                <a:hlinkClick r:id="rId6"/>
              </a:rPr>
              <a:t>enum.nic.a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, www.rtr.at/enum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rman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ahoma"/>
              </a:rPr>
              <a:t>www.denic.de/enum/index.html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Switzerland</a:t>
            </a:r>
            <a:br>
              <a:rPr sz="2000"/>
            </a:br>
            <a:r>
              <a:rPr b="0" lang="de-AT" sz="1600" spc="-1" strike="noStrike">
                <a:solidFill>
                  <a:srgbClr val="000000"/>
                </a:solidFill>
                <a:latin typeface="Tahoma"/>
              </a:rPr>
              <a:t>www.bakom.ch/de/telekommunikation/nummerierung/enum/index.html </a:t>
            </a: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UK</a:t>
            </a: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ahoma"/>
              </a:rPr>
              <a:t>www.dti.gov.uk/cii/regulatory/enum/ </a:t>
            </a: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Sweden</a:t>
            </a: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ahoma"/>
              </a:rPr>
              <a:t>www.pts.se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Australia</a:t>
            </a: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ahoma"/>
              </a:rPr>
              <a:t>www.aca.gov.au/committee/nsg2/enum.htm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Portugal</a:t>
            </a: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ahoma"/>
              </a:rPr>
              <a:t>www.anacom.p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France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ahoma"/>
              </a:rPr>
              <a:t>www.art-telecom.f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Pulver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ahoma"/>
              </a:rPr>
              <a:t>www.pulver.com/fwd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D273-0420-47C7-B553-09455E083A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5562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ff"/>
                </a:solidFill>
                <a:latin typeface="Times New Roman"/>
              </a:rPr>
              <a:t>The END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hank you for your at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ff3300"/>
                </a:solidFill>
                <a:latin typeface="Tahoma"/>
              </a:rPr>
              <a:t>Any Question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"/>
          <p:cNvSpPr/>
          <p:nvPr/>
        </p:nvSpPr>
        <p:spPr>
          <a:xfrm>
            <a:off x="6858000" y="6330960"/>
            <a:ext cx="2286000" cy="5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7124760" y="6308640"/>
            <a:ext cx="1628640" cy="43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4532-108F-43F1-A68C-9E5DA9D33BB7}" type="slidenum">
              <a:t>24</a:t>
            </a:fld>
          </a:p>
        </p:txBody>
      </p:sp>
    </p:spTree>
  </p:cSld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2000"/>
                            </p:stCondLst>
                            <p:childTnLst>
                              <p:par>
                                <p:cTn id="79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262080"/>
            <a:ext cx="845820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0000ff"/>
                </a:solidFill>
                <a:latin typeface="Times New Roman"/>
              </a:rPr>
              <a:t>Status ETSI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30824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SI (SPAN11_NA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TSI TS 102 051 “ENUM Administration in Europe”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ETSI TS 102 172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Minimum Requirements for the Interoperability of European ENUM Trial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TB ap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ev. update in 3Q 2003 (IETF changes, trial feedb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ETSI T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ENUM for Network Routing” - Work in Prog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There are some old contibutions and a draf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Work will continue in SPAN11 NAR (April 4-8, 2003 in Vienn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Merger of TIPHON and SPAN in Ju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First joint meeting June 2-6, 2003 in Budap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1157-7EBD-4DB2-8B2B-D5296BB3C5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262080"/>
            <a:ext cx="845820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0000ff"/>
                </a:solidFill>
                <a:latin typeface="Times New Roman"/>
              </a:rPr>
              <a:t>ENUM Status IETF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307880"/>
            <a:ext cx="845820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TF 56 San Francisco March 2003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RFC2916bis-05 (ENUM) nearly finis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Internet Drafts for "enumservices" (ENUM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draft-peterson-enum-sip-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draft-ietf-enum-h323-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draft-brandner-enumservice-msg-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draft-brandner-enumservice-vovi-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draft-brandner-enumservice-webft-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Internet Drafts for "URI Schemes (IPTEL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draft-antti-rfc2806bis-08 (tel UR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draft-yu-tel-url-07 (extensions to te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draft-brandner-enum-uri-01 (enum UR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IETF 57 Vienna July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Additional Internet Drafts on "enumservices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509A-7460-4199-9EB5-BC25834D7A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262080"/>
            <a:ext cx="845820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0000ff"/>
                </a:solidFill>
                <a:latin typeface="Times New Roman"/>
              </a:rPr>
              <a:t>European Activities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307880"/>
            <a:ext cx="807732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ENUM discussed in nearly every European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EC, ETSI, ONP, ETO, ETNO, ECMA,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different views, depending on back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Involvement of RI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National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Procedure normally: consultations, workshops, platforms, tri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tforms and Trials in: AT, UK, SE, DE, FR (closed tri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Consultations and Workshops in: NL, CH, Portugal, Hungary, Poland, Rumania,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Mailing lists on trials: RIPE, Germany, Austr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Non European Activit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Canada, Australia, Korea, China, 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8490-82E4-4EA3-9EC3-51A79B1964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262080"/>
            <a:ext cx="845820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0000ff"/>
                </a:solidFill>
                <a:latin typeface="Times New Roman"/>
              </a:rPr>
              <a:t>ENUM Delegations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307880"/>
            <a:ext cx="807732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Delegations in e164.arpa per 15. February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31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36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Hunga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40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Roman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43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Austr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44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46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Swed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Pol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49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German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55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86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Chin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246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Diego Gar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247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Ascen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290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Saint Helen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971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UA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87810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VISIONng UP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://www.ripe.net/enum/request-archives/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5065-0166-4BB1-AFDF-506156B374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416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0000ff"/>
                </a:solidFill>
                <a:latin typeface="Times New Roman"/>
              </a:rPr>
              <a:t>ENUM Background in Austria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247400"/>
            <a:ext cx="8424720" cy="479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2000-09 Start of activ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2001-08 First consulation by Austrian regulator (RT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2001-09 Telekom Austria internal ENUM Task Fo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2002-02 ENUM Workshop RTR, group of interested partners form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2002-05 Interim procedures from ITU-T SG2 and TSB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Delegation request by RTR to RIPE and ITU-TS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2002-06 Tier 1 Registry in operation by NIC.AT (the Austrian ccTL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Tier 1 Registry in operation by Infonova (VISION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Delegations for 3.4.e164.arpa and 0.1.8.7.8.e164.arp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Start of development and deploy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2002-07 First draft of policy framework for MoU by RT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2002-09 </a:t>
            </a:r>
            <a:r>
              <a:rPr b="0" lang="de-AT" sz="2000" spc="-1" strike="noStrike">
                <a:solidFill>
                  <a:srgbClr val="00cc00"/>
                </a:solidFill>
                <a:latin typeface="Tahoma"/>
              </a:rPr>
              <a:t>Austrian ENUM Trial Platform establis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2002-11 Policy Framework and MoU ready -&gt; trial may start offici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ECAA-C4D3-4942-9A97-0237B3BB4A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262080"/>
            <a:ext cx="845820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ustrian ENUM Trial Platform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55240"/>
            <a:ext cx="8229600" cy="511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Mis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Co-ordination of activities for the Austrian ENUM trial between the trial partn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Task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develop and approve documents beside the regulatory framework compulsory during the tr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enable communication between the trial partn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monitor trial activ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monitor international ENUM standards and trial activ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gather results and experien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serve as a basis for an Austrian ENUM forum required for commercial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RTR, NIC.AT, Telekom Austria, Infonova, AOSA, Kapsch, ÖFEG, Telcord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29F4-36D3-465E-B585-1F878838E3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262080"/>
            <a:ext cx="845820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cope of the ENUM Trials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88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Provide a DNS based infrastructure in ENUM Tier 1 and Tier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Basic administration and validation by ENUM Registrar (ENUM Service Provider) and an ENUM Tier 1 Registry including the necessary provisioning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Web-Portal for registration of ENUM Subscribers and for simple manipulations of the DNS records in ENUM Tier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ENUM Client-SW for ENUM Users to query the ENUM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VoIP Applications for ENUM Subscribers and Users (sip and h32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Evaluation of the services provided and of the user feedb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Monitoring of and interworking with other trial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Evaluation of standards and feedback to the relevant bod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cc00"/>
                </a:solidFill>
                <a:latin typeface="Tahoma"/>
              </a:rPr>
              <a:t>The Austrian and VISIONng Trials are Feasability Stud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cc00"/>
                </a:solidFill>
                <a:latin typeface="Tahoma"/>
              </a:rPr>
              <a:t>Purpose: find out first Products and then Mar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E3DD-B8EB-4744-B32A-9E57D1AD65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Richard Stastny</dc:creator>
  <dc:description>Rio de Janiero
25. March 2003</dc:description>
  <dc:language>en-US</dc:language>
  <cp:lastModifiedBy>Louis Touton</cp:lastModifiedBy>
  <cp:lastPrinted>1999-02-24T12:58:28Z</cp:lastPrinted>
  <dcterms:modified xsi:type="dcterms:W3CDTF">2003-03-31T15:51:22Z</dcterms:modified>
  <cp:revision>395</cp:revision>
  <dc:subject>ICANN - ENUM Informational Update</dc:subject>
  <dc:title>ENUM - Austrian and VISIONng Trial</dc:title>
</cp:coreProperties>
</file>