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E6C-30D6-4EBC-BAA9-8C991223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5B3-F03F-4598-B1F6-86AE78E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AB2-7852-4724-B8EF-43090570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34B-175D-4D3C-83A8-292503E5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063-9C49-49FC-B43D-62937D4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DF9-F119-4A5D-B4DB-CD4E4A6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21A-7545-4F1A-AEB6-08479F4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1AA-26B5-4549-9C64-593BB14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D7B-0590-4EE7-8FE1-F36F5E3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11E-820A-4248-B7BA-4E16164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9B6-FD46-44D5-8276-2B128B7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B06-10AE-44C0-906D-4888F8EF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4BCB-13DC-4148-9789-914F11DA939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Names Supporting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ce Ton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, GNS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ponsible for developing and recommending to the ICANN Board substantive policies relating to generic top-level do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,net,org,biz,info,aero,coop,museum,pro,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IS consensus 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s consensus 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 deletions – final report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of collec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commendations before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after experience gained with implementation of current recommendations and after work on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of data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policy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day period for ICANN Staff Manager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eeded from groups outside of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ctiviti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uture structure of gTLD 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itial committee document – general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resourc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Full-time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dministr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ouncil unanimously thanked the work of Stuart Lynn for his leadership of ICANN and launch of evolution and reform to ensure ICANN’s long term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2:24:30Z</dcterms:created>
  <dc:creator>Bruce Tonkin</dc:creator>
  <dc:description/>
  <dc:language>en-US</dc:language>
  <cp:lastModifiedBy>Unknown User</cp:lastModifiedBy>
  <dcterms:modified xsi:type="dcterms:W3CDTF">2003-04-27T19:01:42Z</dcterms:modified>
  <cp:revision>6</cp:revision>
  <dc:subject/>
  <dc:title>GNSO Council</dc:title>
</cp:coreProperties>
</file>