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EFB-A61A-43CF-AF32-0EB45F1D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8A8-305D-473A-9685-7401D16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FA8-30B9-401D-B980-6C1B0358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3E9-5743-43BB-A061-F09F17F1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602-BB3E-470F-B46C-0E5E075D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F75-D0FC-4FC6-9A2C-82AF9CB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1E8-81CF-448C-B08F-FFF3A9F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528-CCD3-439C-BCC0-604D88D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D66-C092-4E38-A906-33D06EF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4C9-A2EE-4C6A-8F96-780671A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513-C6E8-4C07-BD94-6F7C3DD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178-3504-4D92-92EF-C7FAF49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267B-1B73-4A8B-9B00-23FDE3A732F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Names Supporting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ce Ton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, GNS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ponsible for developing and recommending to the ICANN Board substantive policies relating to generic top-level do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,net,org,biz,info,aero,coop,museum,pro,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IS consensus 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s consensus 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 deletions – final report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of collec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commendations before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after experience gained with implementation of current recommendations and after work on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of data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policy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day period for ICANN Staff Manager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eeded from groups outside of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ctiviti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uture structure of gTLD 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itial committee document – general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resourc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Full-time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dministr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ouncil unanimously thanked the work of Stuart Lynn for his leadership of ICANN and launch of evolution and reform to ensure ICANN’s long term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2:24:30Z</dcterms:created>
  <dc:creator>Bruce Tonkin</dc:creator>
  <dc:description/>
  <dc:language>en-US</dc:language>
  <cp:lastModifiedBy>Unknown User</cp:lastModifiedBy>
  <dcterms:modified xsi:type="dcterms:W3CDTF">2003-04-27T19:01:42Z</dcterms:modified>
  <cp:revision>6</cp:revision>
  <dc:subject/>
  <dc:title>GNSO Council</dc:title>
</cp:coreProperties>
</file>