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977-764C-4F39-812F-7B503793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F5B-B9CA-4E31-943A-93BFCFD8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5F0-10AA-4CA5-95CD-3EA06C9D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15B-7CC2-4DFB-ADE0-105B2B4E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0F1D-9A20-4AC9-AD5A-40117B08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37C-17DF-45C5-993B-E3B7CF6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CA3B-12C0-444D-BB88-569E743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3B6E-3FBE-4AA0-8C6E-C8A3F9E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7840-E24A-4852-B1B6-A8C7A5A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C75-EE0A-410B-B5C3-7CA7D321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83DE-A19D-49BB-AF15-6528442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A8E-8037-4F7C-8DB9-F5DA9A45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1FE-456F-4123-B911-8BB3495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3C40-73D9-4A55-85D9-D614774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F30-AE77-4775-8776-CFAAE93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F76B-D43D-4A7F-8C80-C6798446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DFFA-EA61-4255-BCC3-69DA86F4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867-4E7C-479D-AC97-07DD5C01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13D-158C-43F5-BA4A-647CE048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F2E-FE05-4377-8C7E-6BA5ED73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7B0-7555-4D72-B83B-1B5904F8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466-EE6E-46D1-814C-3C038C68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644-FE97-47C9-A0DA-F5B4CDE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AD8-CEF1-4982-B757-90156C7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385E-CDB2-4689-A4DB-FB48FBE43B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E333-148C-40D0-A2E0-7BCBB23D43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ntr.org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CANN ccTLD Agreement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ENTR GA, Bled, Sloveni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bert Vitzth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cTLD Liai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erbert@icann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ICANN Logo"/>
          <p:cNvPicPr/>
          <p:nvPr/>
        </p:nvPicPr>
        <p:blipFill>
          <a:blip r:embed="rId1"/>
          <a:stretch/>
        </p:blipFill>
        <p:spPr>
          <a:xfrm>
            <a:off x="324000" y="260280"/>
            <a:ext cx="1366560" cy="1055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CENT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260280"/>
            <a:ext cx="2179440" cy="102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ccTLD Agre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 ICANN - US-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ccTLD-Manager need the agreement for their prote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ry manager has to document the legal relationships of a company, ask your auditor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redelegation without an agreement (MoU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ICANN Logo"/>
          <p:cNvPicPr/>
          <p:nvPr/>
        </p:nvPicPr>
        <p:blipFill>
          <a:blip r:embed="rId1"/>
          <a:stretch/>
        </p:blipFill>
        <p:spPr>
          <a:xfrm>
            <a:off x="250920" y="260280"/>
            <a:ext cx="1152360" cy="8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771640" y="1773360"/>
            <a:ext cx="2664000" cy="2663640"/>
          </a:xfrm>
          <a:prstGeom prst="cube">
            <a:avLst>
              <a:gd name="adj" fmla="val 11916"/>
            </a:avLst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CP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2560" y="1846440"/>
            <a:ext cx="1944720" cy="100800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y-to-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x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2560" y="1125360"/>
            <a:ext cx="1944720" cy="1008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AN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s Me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2560" y="404640"/>
            <a:ext cx="1944720" cy="1008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C 1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3429000"/>
            <a:ext cx="2808000" cy="2952720"/>
          </a:xfrm>
          <a:prstGeom prst="cube">
            <a:avLst>
              <a:gd name="adj" fmla="val 11916"/>
            </a:avLst>
          </a:prstGeom>
          <a:solidFill>
            <a:srgbClr val="ffcc66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CP-1 (V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76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obal ccTLD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5086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ture Version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ANN policy develop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ss, ccTLD constitu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DNSO-ccTLD SO) decision through ICANN Board, therefore important to be part of ICAN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1341360"/>
            <a:ext cx="1368360" cy="51847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cTL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stit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4437000"/>
            <a:ext cx="367200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ANN-ccTLD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gacy Sit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437000"/>
            <a:ext cx="352908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 ccT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nsorship Agre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iangular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3500280"/>
            <a:ext cx="6408720" cy="144144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CE-TO-FACE Meetings with more the 3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cTLD Registries an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vernment representatives in Europe and A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2852640"/>
            <a:ext cx="6408720" cy="100800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Meeting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ENT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205000"/>
            <a:ext cx="6408720" cy="93492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1484280"/>
            <a:ext cx="6408720" cy="93492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cTL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titu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1341360"/>
            <a:ext cx="1368360" cy="51847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inciples for Deleg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Administration of ccT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60280"/>
            <a:ext cx="266364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cTL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stitu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ft 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260280"/>
            <a:ext cx="223200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ENT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260280"/>
            <a:ext cx="230364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us Qu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60280"/>
            <a:ext cx="230364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onso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LD 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gacy Sit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1557360"/>
            <a:ext cx="367200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508640"/>
            <a:ext cx="2376720" cy="173016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4076640"/>
            <a:ext cx="3672000" cy="20876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cT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196200">
            <a:off x="4932000" y="3068280"/>
            <a:ext cx="2448000" cy="1295280"/>
          </a:xfrm>
          <a:prstGeom prst="leftRightArrow">
            <a:avLst>
              <a:gd name="adj1" fmla="val 62417"/>
              <a:gd name="adj2" fmla="val 536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869000"/>
            <a:ext cx="2374920" cy="1224000"/>
          </a:xfrm>
          <a:prstGeom prst="rightArrow">
            <a:avLst>
              <a:gd name="adj1" fmla="val 50000"/>
              <a:gd name="adj2" fmla="val 4850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light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3859400">
            <a:off x="3204000" y="3572280"/>
            <a:ext cx="2374920" cy="1223640"/>
          </a:xfrm>
          <a:prstGeom prst="rightArrow">
            <a:avLst>
              <a:gd name="adj1" fmla="val 50000"/>
              <a:gd name="adj2" fmla="val 48522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light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08280"/>
            <a:ext cx="1944720" cy="1800360"/>
          </a:xfrm>
          <a:prstGeom prst="wedgeEllipseCallout">
            <a:avLst>
              <a:gd name="adj1" fmla="val 91143"/>
              <a:gd name="adj2" fmla="val 950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 know you talking with ICANN about an MoU this is fine we have no view y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iangular Sit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557360"/>
            <a:ext cx="367200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508640"/>
            <a:ext cx="2376720" cy="173016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4076640"/>
            <a:ext cx="3672000" cy="20876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cT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3196200">
            <a:off x="4746960" y="3148560"/>
            <a:ext cx="2938320" cy="1295640"/>
          </a:xfrm>
          <a:prstGeom prst="leftRightArrow">
            <a:avLst>
              <a:gd name="adj1" fmla="val 62417"/>
              <a:gd name="adj2" fmla="val 644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cTLD Sponso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gree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3859400">
            <a:off x="3204000" y="3572280"/>
            <a:ext cx="2374920" cy="1223640"/>
          </a:xfrm>
          <a:prstGeom prst="rightArrow">
            <a:avLst>
              <a:gd name="adj1" fmla="val 50000"/>
              <a:gd name="adj2" fmla="val 48522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3573360"/>
            <a:ext cx="2050920" cy="1440000"/>
          </a:xfrm>
          <a:prstGeom prst="wedgeEllipseCallout">
            <a:avLst>
              <a:gd name="adj1" fmla="val 57120"/>
              <a:gd name="adj2" fmla="val 7745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gre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4360" y="5084640"/>
            <a:ext cx="2374920" cy="1081080"/>
          </a:xfrm>
          <a:prstGeom prst="leftRightArrow">
            <a:avLst>
              <a:gd name="adj1" fmla="val 50000"/>
              <a:gd name="adj2" fmla="val 43733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181080" y="2708280"/>
            <a:ext cx="2016360" cy="1368360"/>
          </a:xfrm>
          <a:prstGeom prst="wedgeEllipseCallout">
            <a:avLst>
              <a:gd name="adj1" fmla="val 6694"/>
              <a:gd name="adj2" fmla="val 11577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vers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legation/Redel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or 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4076280"/>
            <a:ext cx="8569080" cy="576360"/>
            <a:chOff x="324000" y="4076280"/>
            <a:chExt cx="8569080" cy="576360"/>
          </a:xfrm>
        </p:grpSpPr>
        <p:sp>
          <p:nvSpPr>
            <p:cNvPr id="201" name=""/>
            <p:cNvSpPr/>
            <p:nvPr/>
          </p:nvSpPr>
          <p:spPr>
            <a:xfrm>
              <a:off x="324000" y="4365720"/>
              <a:ext cx="856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24000" y="407628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893080" y="407628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00000" y="3213000"/>
            <a:ext cx="1650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39" y="40331"/>
                </a:moveTo>
                <a:lnTo>
                  <a:pt x="-997" y="4000"/>
                </a:lnTo>
              </a:path>
              <a:path w="21600" h="21600">
                <a:moveTo>
                  <a:pt x="-997" y="0"/>
                </a:moveTo>
                <a:lnTo>
                  <a:pt x="-997" y="21600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gacy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3141720"/>
            <a:ext cx="1656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73" y="43144"/>
                </a:moveTo>
                <a:lnTo>
                  <a:pt x="22594" y="4000"/>
                </a:lnTo>
              </a:path>
              <a:path w="21600" h="21600">
                <a:moveTo>
                  <a:pt x="22594" y="0"/>
                </a:moveTo>
                <a:lnTo>
                  <a:pt x="22594" y="21600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riangular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5229360"/>
            <a:ext cx="64476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3" y="-38215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5229360"/>
            <a:ext cx="64476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3" y="-38215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5229360"/>
            <a:ext cx="64476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3" y="-38215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6093000"/>
            <a:ext cx="64440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64" y="-74264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6021360"/>
            <a:ext cx="644760" cy="4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64" y="-74264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1413000"/>
            <a:ext cx="309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Which model to choo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It depends on your local situa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You choo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ICANN Logo"/>
          <p:cNvPicPr/>
          <p:nvPr/>
        </p:nvPicPr>
        <p:blipFill>
          <a:blip r:embed="rId1"/>
          <a:stretch/>
        </p:blipFill>
        <p:spPr>
          <a:xfrm>
            <a:off x="324000" y="333360"/>
            <a:ext cx="1295280" cy="99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let us know if you like to star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xt CENTR L&amp;R meeting Andrew McLaughlin invited. October 8th in Salzbur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 our 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sa Swinehart, swinehart@icann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rew McLaughlin, mclaughlin@icann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rbert Vitzthum, herbert@icann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ICANN Logo"/>
          <p:cNvPicPr/>
          <p:nvPr/>
        </p:nvPicPr>
        <p:blipFill>
          <a:blip r:embed="rId1"/>
          <a:stretch/>
        </p:blipFill>
        <p:spPr>
          <a:xfrm>
            <a:off x="324000" y="333360"/>
            <a:ext cx="12952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0:39:06Z</dcterms:created>
  <dc:creator>Hebrert Vitzthum</dc:creator>
  <dc:description/>
  <dc:language>en-US</dc:language>
  <cp:lastModifiedBy>Louis Touton</cp:lastModifiedBy>
  <dcterms:modified xsi:type="dcterms:W3CDTF">2001-09-19T20:23:54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11089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 [ICANN ccTLD Liaison]</vt:lpwstr>
  </property>
  <property fmtid="{D5CDD505-2E9C-101B-9397-08002B2CF9AE}" pid="5" name="_EmailSubject">
    <vt:lpwstr>Presentations for CENTR</vt:lpwstr>
  </property>
</Properties>
</file>