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9C6-1063-48D3-953B-13AB4351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3E9-6256-4AD3-B8A1-AD08116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1BF-DA8A-4953-ABDA-82710E11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1EE-51F9-4742-B3AD-08B50F0A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590-79B7-44F3-A38D-C5B24DD8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6A2A-5980-4369-99AB-484BB66D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3985-FF18-4AEA-BE71-45D82EDD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A8F4-0E2F-4A8C-BDC3-26813A63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9E7A-302F-4E57-8DF1-DAB972D8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98B6-343E-498A-9D88-989BAFE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F136-AAD3-4084-A98A-6AB70C0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B64-7155-48B7-8398-E74AA3E5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89D9-7AFD-4424-BC0C-065D3166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EF3B-F0FA-40C5-963D-A1594EF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3487-1951-4280-B90D-4BC6ED67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3792-8E9E-41E8-A1A1-80586151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3694-E20E-448D-8C90-512FDEAC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FB9-3007-4E4C-999D-7B2B0A88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AC0-3B6C-4143-8284-19E6B7C7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234-BDF6-4485-AB4C-C4196B8B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9B2-E8DC-4011-8D11-607811A4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2B8-5329-4086-9C02-172AE0A9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645-1480-4713-B54D-A1B9DB9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E19-B7E2-451F-81DA-E221287C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1FD7-5238-47D4-B60F-8CAB327FD5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1506-AA52-48A8-AB2C-C19938E8F2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ntr.org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CANN ccTLD Agreements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ENTR GA, Bled, Sloveni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bert Vitzth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cTLD Liai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herbert@icann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ICANN Logo"/>
          <p:cNvPicPr/>
          <p:nvPr/>
        </p:nvPicPr>
        <p:blipFill>
          <a:blip r:embed="rId1"/>
          <a:stretch/>
        </p:blipFill>
        <p:spPr>
          <a:xfrm>
            <a:off x="324000" y="260280"/>
            <a:ext cx="1366560" cy="1055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CENT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260280"/>
            <a:ext cx="2179440" cy="102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ccTLD Agre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U ICANN - US-Gover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ccTLD-Manager need the agreement for their prote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ry manager has to document the legal relationships of a company, ask your auditors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redelegation without an agreement (MoU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ICANN Logo"/>
          <p:cNvPicPr/>
          <p:nvPr/>
        </p:nvPicPr>
        <p:blipFill>
          <a:blip r:embed="rId1"/>
          <a:stretch/>
        </p:blipFill>
        <p:spPr>
          <a:xfrm>
            <a:off x="250920" y="260280"/>
            <a:ext cx="1152360" cy="8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771640" y="1773360"/>
            <a:ext cx="2664000" cy="2663640"/>
          </a:xfrm>
          <a:prstGeom prst="cube">
            <a:avLst>
              <a:gd name="adj" fmla="val 11916"/>
            </a:avLst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CP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2560" y="1846440"/>
            <a:ext cx="1944720" cy="100800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y-to-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x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2560" y="1125360"/>
            <a:ext cx="1944720" cy="1008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AN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s Me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2560" y="404640"/>
            <a:ext cx="1944720" cy="10083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C 15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3429000"/>
            <a:ext cx="2808000" cy="2952720"/>
          </a:xfrm>
          <a:prstGeom prst="cube">
            <a:avLst>
              <a:gd name="adj" fmla="val 11916"/>
            </a:avLst>
          </a:prstGeom>
          <a:solidFill>
            <a:srgbClr val="ffcc66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CP-1 (V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76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obal ccTLD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5086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uture Version th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CANN policy developme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ss, ccTLD constituenc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DNSO-ccTLD SO) decision through ICANN Board, therefore important to be part of ICAN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1341360"/>
            <a:ext cx="1368360" cy="51847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cTL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stit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4437000"/>
            <a:ext cx="3672000" cy="20876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e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CANN-ccTLD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gacy Sit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437000"/>
            <a:ext cx="3529080" cy="20876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el ccT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nsorship Agre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iangular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3500280"/>
            <a:ext cx="6408720" cy="144144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CE-TO-FACE Meetings with more the 3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cTLD Registries an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vernment representatives in Europe and A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6360" y="2852640"/>
            <a:ext cx="6408720" cy="100800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Meeting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ENT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2205000"/>
            <a:ext cx="6408720" cy="93492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eting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1484280"/>
            <a:ext cx="6408720" cy="93492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eting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cTL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titu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24720" y="1341360"/>
            <a:ext cx="1368360" cy="51847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inciples for Deleg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Administration of ccT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60280"/>
            <a:ext cx="2663640" cy="14414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cTL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stitu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aft Agre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260280"/>
            <a:ext cx="2232000" cy="14414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ENT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a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re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260280"/>
            <a:ext cx="2303640" cy="14414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CA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us Qu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re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260280"/>
            <a:ext cx="2303640" cy="14414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CA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onso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LD Agre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gacy Sit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1557360"/>
            <a:ext cx="3672000" cy="20876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508640"/>
            <a:ext cx="2376720" cy="173016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4076640"/>
            <a:ext cx="3672000" cy="20876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cTL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3196200">
            <a:off x="4932000" y="3068280"/>
            <a:ext cx="2448000" cy="1295280"/>
          </a:xfrm>
          <a:prstGeom prst="leftRightArrow">
            <a:avLst>
              <a:gd name="adj1" fmla="val 62417"/>
              <a:gd name="adj2" fmla="val 536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869000"/>
            <a:ext cx="2374920" cy="1224000"/>
          </a:xfrm>
          <a:prstGeom prst="rightArrow">
            <a:avLst>
              <a:gd name="adj1" fmla="val 50000"/>
              <a:gd name="adj2" fmla="val 4850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light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3859400">
            <a:off x="3204000" y="3572280"/>
            <a:ext cx="2374920" cy="1223640"/>
          </a:xfrm>
          <a:prstGeom prst="rightArrow">
            <a:avLst>
              <a:gd name="adj1" fmla="val 50000"/>
              <a:gd name="adj2" fmla="val 48522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light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08280"/>
            <a:ext cx="1944720" cy="1800360"/>
          </a:xfrm>
          <a:prstGeom prst="wedgeEllipseCallout">
            <a:avLst>
              <a:gd name="adj1" fmla="val 91143"/>
              <a:gd name="adj2" fmla="val 9506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 know you talking with ICANN about an MoU this is fine we have no view y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iangular Sit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557360"/>
            <a:ext cx="3672000" cy="20876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4508640"/>
            <a:ext cx="2376720" cy="173016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4076640"/>
            <a:ext cx="3672000" cy="2087640"/>
          </a:xfrm>
          <a:prstGeom prst="cube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cTL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3196200">
            <a:off x="4746960" y="3148560"/>
            <a:ext cx="2938320" cy="1295640"/>
          </a:xfrm>
          <a:prstGeom prst="leftRightArrow">
            <a:avLst>
              <a:gd name="adj1" fmla="val 62417"/>
              <a:gd name="adj2" fmla="val 644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cTLD Sponso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greem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3859400">
            <a:off x="3204000" y="3572280"/>
            <a:ext cx="2374920" cy="1223640"/>
          </a:xfrm>
          <a:prstGeom prst="rightArrow">
            <a:avLst>
              <a:gd name="adj1" fmla="val 50000"/>
              <a:gd name="adj2" fmla="val 48522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3573360"/>
            <a:ext cx="2050920" cy="1440000"/>
          </a:xfrm>
          <a:prstGeom prst="wedgeEllipseCallout">
            <a:avLst>
              <a:gd name="adj1" fmla="val 57120"/>
              <a:gd name="adj2" fmla="val 7745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gre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84360" y="5084640"/>
            <a:ext cx="2374920" cy="1081080"/>
          </a:xfrm>
          <a:prstGeom prst="leftRightArrow">
            <a:avLst>
              <a:gd name="adj1" fmla="val 50000"/>
              <a:gd name="adj2" fmla="val 43733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181080" y="2708280"/>
            <a:ext cx="2016360" cy="1368360"/>
          </a:xfrm>
          <a:prstGeom prst="wedgeEllipseCallout">
            <a:avLst>
              <a:gd name="adj1" fmla="val 6694"/>
              <a:gd name="adj2" fmla="val 11577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versi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legation/Redel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or 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4000" y="4076280"/>
            <a:ext cx="8569080" cy="576360"/>
            <a:chOff x="324000" y="4076280"/>
            <a:chExt cx="8569080" cy="576360"/>
          </a:xfrm>
        </p:grpSpPr>
        <p:sp>
          <p:nvSpPr>
            <p:cNvPr id="201" name=""/>
            <p:cNvSpPr/>
            <p:nvPr/>
          </p:nvSpPr>
          <p:spPr>
            <a:xfrm>
              <a:off x="324000" y="4365720"/>
              <a:ext cx="856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24000" y="4076280"/>
              <a:ext cx="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893080" y="4076280"/>
              <a:ext cx="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00000" y="3213000"/>
            <a:ext cx="16509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39" y="40331"/>
                </a:moveTo>
                <a:lnTo>
                  <a:pt x="-997" y="4000"/>
                </a:lnTo>
              </a:path>
              <a:path w="21600" h="21600">
                <a:moveTo>
                  <a:pt x="-997" y="0"/>
                </a:moveTo>
                <a:lnTo>
                  <a:pt x="-997" y="21600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egacy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3141720"/>
            <a:ext cx="16560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573" y="43144"/>
                </a:moveTo>
                <a:lnTo>
                  <a:pt x="22594" y="4000"/>
                </a:lnTo>
              </a:path>
              <a:path w="21600" h="21600">
                <a:moveTo>
                  <a:pt x="22594" y="0"/>
                </a:moveTo>
                <a:lnTo>
                  <a:pt x="22594" y="21600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riangular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72360" y="5229360"/>
            <a:ext cx="64476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23" y="-38215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5229360"/>
            <a:ext cx="64476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23" y="-38215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5229360"/>
            <a:ext cx="64476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23" y="-38215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X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00360" y="6093000"/>
            <a:ext cx="64440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64" y="-74264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6021360"/>
            <a:ext cx="644760" cy="4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64" y="-74264"/>
                </a:moveTo>
                <a:lnTo>
                  <a:pt x="-2554" y="5201"/>
                </a:lnTo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1413000"/>
            <a:ext cx="309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Which model to choo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It depends on your local situa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You choo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ICANN Logo"/>
          <p:cNvPicPr/>
          <p:nvPr/>
        </p:nvPicPr>
        <p:blipFill>
          <a:blip r:embed="rId1"/>
          <a:stretch/>
        </p:blipFill>
        <p:spPr>
          <a:xfrm>
            <a:off x="324000" y="333360"/>
            <a:ext cx="1295280" cy="99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 n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let us know if you like to star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xt CENTR L&amp;R meeting Andrew McLaughlin invited. October 8th in Salzbur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 our 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sa Swinehart, swinehart@icann.or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rew McLaughlin, mclaughlin@icann.or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rbert Vitzthum, herbert@icann.or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ICANN Logo"/>
          <p:cNvPicPr/>
          <p:nvPr/>
        </p:nvPicPr>
        <p:blipFill>
          <a:blip r:embed="rId1"/>
          <a:stretch/>
        </p:blipFill>
        <p:spPr>
          <a:xfrm>
            <a:off x="324000" y="333360"/>
            <a:ext cx="12952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0:39:06Z</dcterms:created>
  <dc:creator>Hebrert Vitzthum</dc:creator>
  <dc:description/>
  <dc:language>en-US</dc:language>
  <cp:lastModifiedBy>Louis Touton</cp:lastModifiedBy>
  <dcterms:modified xsi:type="dcterms:W3CDTF">2001-09-19T20:23:54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11089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 [ICANN ccTLD Liaison]</vt:lpwstr>
  </property>
  <property fmtid="{D5CDD505-2E9C-101B-9397-08002B2CF9AE}" pid="5" name="_EmailSubject">
    <vt:lpwstr>Presentations for CENTR</vt:lpwstr>
  </property>
</Properties>
</file>